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85B-CC30-43DB-8B90-21EAE02C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C7E-3849-4CE1-B1A9-623A402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BC9-F75D-44B6-889F-500996D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B23-DFD0-4810-9E6B-738996CF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F6F-3046-407E-AA94-FD1D7184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62F7-F0C3-4EB4-8E9A-D91A105C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F5E-50D7-4FE1-8A50-15DD7BD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3EE-A3C3-418C-A601-DA961BE0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F620-D61B-4733-84C3-9439590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40F1-76E0-4BD6-9F73-92BC650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E893-68B4-4A45-90FC-0BD71DC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A85-00BA-4817-B310-DC442E85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088A-DB3C-4CB3-9500-9D799EF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3136-7920-4438-BEC0-602DB92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75AE-8591-4C70-B106-DE78152A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775D-7F59-48B2-A8CB-22415809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020E-EF41-4EB3-A335-553C1FA0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A9A-08B8-4DD0-B69E-8FFF1056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01B-1296-4715-A26A-425A7E1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747-0222-41A8-AFFD-DB6E7B0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5D2-A922-4192-BC10-B20B6A6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D48-500B-49E1-86EE-3E07820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1F0-5320-41C6-95E3-3493068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4BB-3395-49B9-A28A-955514D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488C-5EE7-44B7-94FA-E41729B2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CB9-29D6-47E9-B500-FAC279DA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0:35:52Z</dcterms:created>
  <dc:creator>Administrator</dc:creator>
  <dc:description/>
  <dc:language>en-US</dc:language>
  <cp:lastModifiedBy/>
  <dcterms:modified xsi:type="dcterms:W3CDTF">2015-01-10T12:13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