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2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2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2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276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7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2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6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6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2560" cy="304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981080" y="1371600"/>
            <a:ext cx="716292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 flipH="1">
            <a:off x="8457480" y="6477120"/>
            <a:ext cx="685800" cy="342720"/>
          </a:xfrm>
          <a:custGeom>
            <a:avLst/>
            <a:gdLst/>
            <a:ahLst/>
            <a:rect l="l" t="t" r="r" b="b"/>
            <a:pathLst>
              <a:path w="390" h="216">
                <a:moveTo>
                  <a:pt x="321" y="0"/>
                </a:moveTo>
                <a:lnTo>
                  <a:pt x="390" y="216"/>
                </a:lnTo>
                <a:lnTo>
                  <a:pt x="0" y="216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c6c3a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Clr>
                <a:srgbClr val="9999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685800" indent="-27936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1023840" indent="-22356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Clr>
                <a:srgbClr val="999999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3" marL="1371600" indent="-23328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Clr>
                <a:srgbClr val="999999"/>
              </a:buClr>
              <a:buSzPct val="12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4" marL="1709640" indent="-22356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Clr>
                <a:srgbClr val="9999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5" marL="1709640" indent="-22356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Clr>
                <a:srgbClr val="333333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6" marL="1709640" indent="-22356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Clr>
                <a:srgbClr val="333333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2111400"/>
            <a:ext cx="9144000" cy="1851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4197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2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  <a:p>
            <a:pPr lvl="1" marL="343080" indent="0" algn="ctr"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2" marL="690480" indent="109800" algn="ctr">
              <a:lnSpc>
                <a:spcPct val="95000"/>
              </a:lnSpc>
              <a:spcBef>
                <a:spcPts val="799"/>
              </a:spcBef>
              <a:buClr>
                <a:srgbClr val="999999"/>
              </a:buClr>
              <a:buSzPct val="80000"/>
              <a:buFont typeface="Arial"/>
              <a:buChar char="○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  <a:p>
            <a:pPr lvl="3" marL="1028880" indent="109440" algn="ctr">
              <a:lnSpc>
                <a:spcPct val="95000"/>
              </a:lnSpc>
              <a:spcBef>
                <a:spcPts val="876"/>
              </a:spcBef>
              <a:buClr>
                <a:srgbClr val="999999"/>
              </a:buClr>
              <a:buSzPct val="120000"/>
              <a:buFont typeface="Arial"/>
              <a:buChar char="+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lvl="4" marL="1376280" indent="109800" algn="ctr">
              <a:lnSpc>
                <a:spcPct val="95000"/>
              </a:lnSpc>
              <a:spcBef>
                <a:spcPts val="876"/>
              </a:spcBef>
              <a:buClr>
                <a:srgbClr val="999999"/>
              </a:buClr>
              <a:buSzPct val="12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lvl="5" marL="1376280" indent="109800">
              <a:spcBef>
                <a:spcPts val="349"/>
              </a:spcBef>
              <a:buClr>
                <a:srgbClr val="333333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lvl="6" marL="1376280" indent="109800">
              <a:spcBef>
                <a:spcPts val="349"/>
              </a:spcBef>
              <a:buClr>
                <a:srgbClr val="333333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4197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22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66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6c3ab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6c3ab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6c3ab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6c3ab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6c3ab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6c3ab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6c3ab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6c3ab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5:45:00Z</dcterms:created>
  <dc:creator>McAfee</dc:creator>
  <dc:description/>
  <dc:language>en-US</dc:language>
  <cp:lastModifiedBy>User</cp:lastModifiedBy>
  <dcterms:modified xsi:type="dcterms:W3CDTF">2015-01-10T11:51:35Z</dcterms:modified>
  <cp:revision>164</cp:revision>
  <dc:subject/>
  <dc:title>VS80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