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F4F2-B5B1-4C09-9D2A-5B30BAEB3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95280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DE44-875F-476C-91C4-18850E812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73D5-AB85-4986-847F-FA190613E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89F3-EA8B-4C60-B451-F4B79AB5A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6160" y="11854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DBD0-7EBA-48E4-B67D-0CC12803E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95280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54B27-980D-4F6E-96CC-FDFED077B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89C7-6E44-4981-A571-CF29ED074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16E7-A9B3-498F-90A4-93E6D4C38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6160" y="11854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12DE-BCCD-4A5C-91B2-835C5DCC4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87A6-A8FB-4EC9-97CA-DDDE4EF82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73E8-C589-4CF4-AF26-81A0C5204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A8637-05B5-4810-8F97-95BF23AB2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80360" cy="6878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FA3B0C7-61E8-428B-91E0-579161A61D59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30240" y="0"/>
            <a:ext cx="917424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370040"/>
            <a:ext cx="5408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5093dc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370040"/>
            <a:ext cx="5408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76280" y="5450040"/>
            <a:ext cx="5400720" cy="5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5" name="矩形 4"/>
            <p:cNvSpPr/>
            <p:nvPr/>
          </p:nvSpPr>
          <p:spPr>
            <a:xfrm>
              <a:off x="734040" y="0"/>
              <a:ext cx="6430680" cy="52056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下载网站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www.eeppt.com 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458a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458a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458a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0:56:42Z</dcterms:created>
  <dc:creator/>
  <dc:description/>
  <dc:language>en-US</dc:language>
  <cp:lastModifiedBy/>
  <dcterms:modified xsi:type="dcterms:W3CDTF">2015-01-11T13:58:1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