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4A9-9BF9-411F-8DAC-994D9216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7AD-DFBB-4F6F-898B-44E285FE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C40-6258-4320-AE4E-6115CC33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1CE-BE4E-4D1C-9E56-20F949E3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CED-837B-4010-946B-B12E9FE6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C76-6378-4651-9E68-5FF8518C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5D5-7599-4F7E-86AE-18FEAD98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E16-FFD5-4B79-86D9-2D23D819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DC8-34A7-4307-99E6-5359888F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278-8D0C-4F47-85BC-AC5B51BD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D68-0E0E-4D77-9170-8EA93B3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938-8484-4CAF-BA7E-08DCA786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9/1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E2C1-47E0-4BF7-B273-BD9D9F4B08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28564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请在此输入标题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093440" y="6454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xudongwei</cp:lastModifiedBy>
  <dcterms:modified xsi:type="dcterms:W3CDTF">2015-01-10T11:54:06Z</dcterms:modified>
  <cp:revision>30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