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6BFC-610B-43C5-9EE3-F57DF5C92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65ED-950E-4059-84F9-30BE563B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8B61B-428C-435C-8C68-DF2578EA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11F6-3281-4D74-A905-E557D1DC5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3EDF6-7C76-4E81-BFD3-94E12E6D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ACC7-95D5-4B6C-BF20-B1217C0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DB94D-F81E-4739-80E1-2C964F9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D8907-FF3A-45E8-924A-7D0B0C2E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22BFC-21C2-4583-B02E-496D6B81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C11B-540B-4620-9C28-059DD0C7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61C03-43EB-4F45-9B96-FFDF82D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FA7C-C3EB-4818-9007-E5425C1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C352-1FA6-44D7-8446-C71B93C5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D89DB-12E0-4BF8-A5E7-E7E08D9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6BCA2-2217-4AD9-82F0-3C37612B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BCB9-CB2A-4F30-919C-A0EC489D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B6A8E-207C-45E4-8F0A-401D4130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A2B0-582B-447E-9EE8-E163220D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BA77-A33A-44A8-8BEA-8176B5F5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EE44-C03F-486C-9821-176563E4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7B45-389B-456F-85D6-FEB9CFE5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BF0B-B229-4FAA-9C58-8BF6B06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CED2-C1AA-4573-A3A1-39FABBEF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3EF1-1084-4381-94C4-949252C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C4E8-D69E-4C15-ABB0-210177E10D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5" name="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160-8B1F-4230-BDA4-2EB6F8EF2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e815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251460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酷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科技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下载</a:t>
            </a:r>
            <a:endParaRPr b="1" lang="en-US" sz="40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120" y="320040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e815b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e815b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e815b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52:28Z</dcterms:created>
  <dc:creator>Sung Ha, Park</dc:creator>
  <dc:description/>
  <dc:language>en-US</dc:language>
  <cp:lastModifiedBy>Sung Ha, Park</cp:lastModifiedBy>
  <dcterms:modified xsi:type="dcterms:W3CDTF">2015-01-10T08:41:09Z</dcterms:modified>
  <cp:revision>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