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94E-5C4F-46F1-8938-5015A08F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EAB-68C3-479C-BBFE-5EA756B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BD3-CFD3-4163-AE93-6A80DA58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78F-10DB-4C1D-AB15-CEE245A4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4B9-C5E5-4D55-8B85-6166937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8BF2-6BB6-4791-B883-21003F60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68E-BC9B-4C50-A118-53A7FF7A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CE6-1408-4826-9D22-A611CABD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6FAC-8262-4787-9824-780D6EE3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BC-E804-4BE6-B8B6-317E7E34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FEA-D484-4B42-A63F-32A9608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DEAD-B675-48B7-BCC1-BF7B64C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C1A-0553-44DC-BBBE-F78D952AE605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14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80a331"/>
                </a:solidFill>
                <a:latin typeface="Calibri"/>
              </a:rPr>
              <a:t>PRESENTATION  NA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261040"/>
            <a:ext cx="64008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80a331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796680"/>
            <a:ext cx="77580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80a33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3569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a331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80a3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401600" y="6450120"/>
            <a:ext cx="15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434600" y="501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02:56Z</dcterms:created>
  <dc:creator>我爱PPT官方网 - 中文演示设计平台 www.iloveppt.org; Eric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cp:lastPrinted>1899-12-30T00:00:00Z</cp:lastPrinted>
  <dcterms:modified xsi:type="dcterms:W3CDTF">2014-05-27T09:29:10Z</dcterms:modified>
  <cp:revision>24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