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715-4F15-48D2-BC27-6B93883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9E3-3680-4E8E-BC27-CE6BA65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FDF-B449-40F7-B891-DE71122C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647-AF72-454C-8F45-63B28CFC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EF7-4721-47A1-A3A7-25B2DAA3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F136-E0AA-4ECB-8EAB-6077786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3BC8-EE56-4441-ABD0-1E62255B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0B9B-3581-4EE9-9025-27D7158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C2EC-F8E0-447D-91C4-5261D03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81C1-1AD1-4F92-88E6-2776758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B285-A8F4-4776-9C6C-97A5A73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4AC-668A-4B97-A913-A50729B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4AB0-BD68-4339-A1ED-D65B657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9DA-12CA-4DA0-91D7-58BD3B1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15A9-757F-4A23-BE2B-702F188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8ED1-C3CA-4B8D-9DA4-E4FDF7C9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7DE-8593-4F14-A3E4-92A921B9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DAB-2C0A-444E-B90C-3E0E2DF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E53-036B-4E92-83E7-E2F3C00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8CD-B6F2-4CDE-9BEA-FB6A446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413-9335-4721-AB04-49B6254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B7E-52EB-49E6-A6C0-3564466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695-5FDE-4C66-A086-9BD55E6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583-5266-408F-BF6F-0DAA2B4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170-72D8-44F0-B1F5-235A14C6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11280" y="5165280"/>
            <a:ext cx="8506800" cy="1479600"/>
            <a:chOff x="611280" y="5165280"/>
            <a:chExt cx="8506800" cy="1479600"/>
          </a:xfrm>
        </p:grpSpPr>
        <p:grpSp>
          <p:nvGrpSpPr>
            <p:cNvPr id="9" name=""/>
            <p:cNvGrpSpPr/>
            <p:nvPr/>
          </p:nvGrpSpPr>
          <p:grpSpPr>
            <a:xfrm>
              <a:off x="8093520" y="5165280"/>
              <a:ext cx="1024560" cy="1187640"/>
              <a:chOff x="8093520" y="5165280"/>
              <a:chExt cx="1024560" cy="1187640"/>
            </a:xfrm>
          </p:grpSpPr>
          <p:sp>
            <p:nvSpPr>
              <p:cNvPr id="10" name="未知"/>
              <p:cNvSpPr/>
              <p:nvPr/>
            </p:nvSpPr>
            <p:spPr>
              <a:xfrm rot="7320000">
                <a:off x="8102520" y="54864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7320000">
                <a:off x="8244720" y="5450760"/>
                <a:ext cx="660600" cy="45576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093520" y="5165280"/>
                <a:ext cx="1024560" cy="1187640"/>
                <a:chOff x="8093520" y="5165280"/>
                <a:chExt cx="1024560" cy="1187640"/>
              </a:xfrm>
            </p:grpSpPr>
            <p:sp>
              <p:nvSpPr>
                <p:cNvPr id="14" name="未知"/>
                <p:cNvSpPr/>
                <p:nvPr/>
              </p:nvSpPr>
              <p:spPr>
                <a:xfrm rot="7320000">
                  <a:off x="8217720" y="590400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7320000">
                  <a:off x="8075880" y="5485680"/>
                  <a:ext cx="1059120" cy="5464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7320000">
                  <a:off x="8384400" y="5603760"/>
                  <a:ext cx="749520" cy="308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7320000">
                  <a:off x="8862480" y="5396400"/>
                  <a:ext cx="100080" cy="2073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7320000">
                  <a:off x="8474400" y="5597640"/>
                  <a:ext cx="306360" cy="18216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21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D48-1A0B-41C1-826A-0104DBBA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11280" y="5165280"/>
            <a:ext cx="8506800" cy="1479600"/>
            <a:chOff x="611280" y="5165280"/>
            <a:chExt cx="8506800" cy="1479600"/>
          </a:xfrm>
        </p:grpSpPr>
        <p:grpSp>
          <p:nvGrpSpPr>
            <p:cNvPr id="68" name=""/>
            <p:cNvGrpSpPr/>
            <p:nvPr/>
          </p:nvGrpSpPr>
          <p:grpSpPr>
            <a:xfrm>
              <a:off x="8093520" y="5165280"/>
              <a:ext cx="1024560" cy="1187640"/>
              <a:chOff x="8093520" y="5165280"/>
              <a:chExt cx="1024560" cy="1187640"/>
            </a:xfrm>
          </p:grpSpPr>
          <p:sp>
            <p:nvSpPr>
              <p:cNvPr id="69" name="未知"/>
              <p:cNvSpPr/>
              <p:nvPr/>
            </p:nvSpPr>
            <p:spPr>
              <a:xfrm rot="7320000">
                <a:off x="8102520" y="54864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rot="7320000">
                <a:off x="8244720" y="5450760"/>
                <a:ext cx="660600" cy="45576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8093520" y="5165280"/>
                <a:ext cx="1024560" cy="1187640"/>
                <a:chOff x="8093520" y="5165280"/>
                <a:chExt cx="1024560" cy="1187640"/>
              </a:xfrm>
            </p:grpSpPr>
            <p:sp>
              <p:nvSpPr>
                <p:cNvPr id="73" name="未知"/>
                <p:cNvSpPr/>
                <p:nvPr/>
              </p:nvSpPr>
              <p:spPr>
                <a:xfrm rot="7320000">
                  <a:off x="8217720" y="590400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 rot="7320000">
                  <a:off x="8075880" y="5485680"/>
                  <a:ext cx="1059120" cy="5464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 rot="7320000">
                  <a:off x="8384400" y="5603760"/>
                  <a:ext cx="749520" cy="308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 rot="7320000">
                  <a:off x="8862480" y="5396400"/>
                  <a:ext cx="100080" cy="2073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未知"/>
                <p:cNvSpPr/>
                <p:nvPr/>
              </p:nvSpPr>
              <p:spPr>
                <a:xfrm rot="7320000">
                  <a:off x="8474400" y="5597640"/>
                  <a:ext cx="306360" cy="18216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80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84" name="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85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89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请输入课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讲师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135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138" name="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139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143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04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411280" y="1413000"/>
            <a:ext cx="5043600" cy="720360"/>
            <a:chOff x="2411280" y="1413000"/>
            <a:chExt cx="5043600" cy="720360"/>
          </a:xfrm>
        </p:grpSpPr>
        <p:sp>
          <p:nvSpPr>
            <p:cNvPr id="151" name="未知"/>
            <p:cNvSpPr/>
            <p:nvPr/>
          </p:nvSpPr>
          <p:spPr>
            <a:xfrm>
              <a:off x="2411280" y="19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280" y="1413000"/>
              <a:ext cx="4393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一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11280" y="2205000"/>
            <a:ext cx="5043600" cy="790200"/>
            <a:chOff x="2411280" y="2205000"/>
            <a:chExt cx="5043600" cy="790200"/>
          </a:xfrm>
        </p:grpSpPr>
        <p:sp>
          <p:nvSpPr>
            <p:cNvPr id="154" name="未知"/>
            <p:cNvSpPr/>
            <p:nvPr/>
          </p:nvSpPr>
          <p:spPr>
            <a:xfrm>
              <a:off x="2411280" y="2780280"/>
              <a:ext cx="5043600" cy="21492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71280" y="220500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二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11280" y="3070080"/>
            <a:ext cx="5043600" cy="863280"/>
            <a:chOff x="2411280" y="3070080"/>
            <a:chExt cx="5043600" cy="863280"/>
          </a:xfrm>
        </p:grpSpPr>
        <p:sp>
          <p:nvSpPr>
            <p:cNvPr id="157" name="未知"/>
            <p:cNvSpPr/>
            <p:nvPr/>
          </p:nvSpPr>
          <p:spPr>
            <a:xfrm>
              <a:off x="2411280" y="37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1280" y="307008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三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411280" y="3789360"/>
            <a:ext cx="5043600" cy="892080"/>
            <a:chOff x="2411280" y="3789360"/>
            <a:chExt cx="5043600" cy="892080"/>
          </a:xfrm>
        </p:grpSpPr>
        <p:sp>
          <p:nvSpPr>
            <p:cNvPr id="160" name="未知"/>
            <p:cNvSpPr/>
            <p:nvPr/>
          </p:nvSpPr>
          <p:spPr>
            <a:xfrm>
              <a:off x="2411280" y="4509360"/>
              <a:ext cx="5043600" cy="172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280" y="3789360"/>
              <a:ext cx="4393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11280" y="4581360"/>
            <a:ext cx="5043600" cy="1036440"/>
            <a:chOff x="2411280" y="4581360"/>
            <a:chExt cx="5043600" cy="1036440"/>
          </a:xfrm>
        </p:grpSpPr>
        <p:sp>
          <p:nvSpPr>
            <p:cNvPr id="163" name="未知"/>
            <p:cNvSpPr/>
            <p:nvPr/>
          </p:nvSpPr>
          <p:spPr>
            <a:xfrm>
              <a:off x="2411280" y="5301720"/>
              <a:ext cx="5043600" cy="316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71280" y="4581360"/>
              <a:ext cx="439272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0" y="-11160"/>
            <a:ext cx="2211480" cy="6850080"/>
            <a:chOff x="0" y="-11160"/>
            <a:chExt cx="2211480" cy="6850080"/>
          </a:xfrm>
        </p:grpSpPr>
        <p:grpSp>
          <p:nvGrpSpPr>
            <p:cNvPr id="166" name=""/>
            <p:cNvGrpSpPr/>
            <p:nvPr/>
          </p:nvGrpSpPr>
          <p:grpSpPr>
            <a:xfrm>
              <a:off x="0" y="-11160"/>
              <a:ext cx="2211480" cy="6850080"/>
              <a:chOff x="0" y="-11160"/>
              <a:chExt cx="2211480" cy="6850080"/>
            </a:xfrm>
          </p:grpSpPr>
          <p:sp>
            <p:nvSpPr>
              <p:cNvPr id="167" name="未知"/>
              <p:cNvSpPr/>
              <p:nvPr/>
            </p:nvSpPr>
            <p:spPr>
              <a:xfrm>
                <a:off x="0" y="3240"/>
                <a:ext cx="2211480" cy="683568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2880" y="-11160"/>
                <a:ext cx="1523160" cy="685008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 txBox="1"/>
            <p:nvPr/>
          </p:nvSpPr>
          <p:spPr>
            <a:xfrm rot="5400000">
              <a:off x="-609480" y="1128960"/>
              <a:ext cx="2515320" cy="937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目录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74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75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一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04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86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二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95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96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三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304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08000" y="764640"/>
            <a:ext cx="6778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202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203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 txBox="1"/>
            <p:nvPr/>
          </p:nvSpPr>
          <p:spPr>
            <a:xfrm rot="5400000">
              <a:off x="-721440" y="1231920"/>
              <a:ext cx="2733840" cy="936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结束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47:35Z</dcterms:created>
  <dc:creator/>
  <dc:description/>
  <dc:language>en-US</dc:language>
  <cp:lastModifiedBy/>
  <dcterms:modified xsi:type="dcterms:W3CDTF">2015-01-11T14:03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