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flipH="1">
            <a:off x="7615080" y="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620120" y="5757840"/>
            <a:ext cx="1523880" cy="110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07912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#</a:t>
            </a:r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478480" y="0"/>
            <a:ext cx="3665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6946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6946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Easter PowerPoint Templat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5684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66"/>
                </a:solidFill>
                <a:latin typeface="Arial"/>
              </a:rPr>
              <a:t>Presenter Name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5080" y="6453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66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cc0066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cc0066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cc0066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cc0066"/>
                </a:solidFill>
                <a:latin typeface="Times New Roman"/>
              </a:endParaRPr>
            </a:p>
          </p:txBody>
        </p:sp>
        <p:pic>
          <p:nvPicPr>
            <p:cNvPr id="12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0033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0033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0033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cc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Example Bullet Point Slid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Two column bullet points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Bullets go in here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And also in here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Example of a tabl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40000" y="1916280"/>
          <a:ext cx="7080120" cy="3278160"/>
        </p:xfrm>
        <a:graphic>
          <a:graphicData uri="http://schemas.openxmlformats.org/drawingml/2006/table">
            <a:tbl>
              <a:tblPr/>
              <a:tblGrid>
                <a:gridCol w="3540240"/>
                <a:gridCol w="353988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4572000" y="5624640"/>
            <a:ext cx="38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66"/>
                </a:solidFill>
                <a:latin typeface="Arial"/>
                <a:ea typeface="Arial"/>
              </a:rPr>
              <a:t>Note:  </a:t>
            </a:r>
            <a:r>
              <a:rPr b="0" lang="en-GB" sz="1800" spc="-1" strike="noStrike">
                <a:solidFill>
                  <a:srgbClr val="cc0066"/>
                </a:solidFill>
                <a:latin typeface="Arial"/>
                <a:ea typeface="Arial"/>
              </a:rPr>
              <a:t>PowerPoint does not allow have nice default tables – but you can cut and paste this one</a:t>
            </a:r>
            <a:endParaRPr b="0" lang="en-US" sz="1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65080" y="6453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Sample Graph (3 colours)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7640" y="1873080"/>
            <a:ext cx="792000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0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932360" y="1952640"/>
            <a:ext cx="2093760" cy="3529080"/>
          </a:xfrm>
          <a:prstGeom prst="rect">
            <a:avLst/>
          </a:prstGeom>
          <a:ln w="38160">
            <a:solidFill>
              <a:srgbClr val="663366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7165080" y="6453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312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0033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1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180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97480" y="2146320"/>
          <a:ext cx="2994120" cy="1467000"/>
        </p:xfrm>
        <a:graphic>
          <a:graphicData uri="http://schemas.openxmlformats.org/drawingml/2006/table">
            <a:tbl>
              <a:tblPr/>
              <a:tblGrid>
                <a:gridCol w="1496880"/>
                <a:gridCol w="14972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448000" y="4568760"/>
            <a:ext cx="2232000" cy="136836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66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04000" y="4568760"/>
            <a:ext cx="2232000" cy="136836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66"/>
            </a:solidFill>
            <a:miter/>
          </a:ln>
          <a:effectLst>
            <a:outerShdw dist="107932" dir="2700000" blurRad="0" rotWithShape="0">
              <a:srgbClr val="99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66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cc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66"/>
                </a:solidFill>
                <a:latin typeface="Arial"/>
                <a:ea typeface="Arial"/>
              </a:rPr>
              <a:t>With shadow</a:t>
            </a:r>
            <a:endParaRPr b="0" lang="en-US" sz="1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751280" y="2313000"/>
            <a:ext cx="460440" cy="1440"/>
          </a:xfrm>
          <a:prstGeom prst="line">
            <a:avLst/>
          </a:prstGeom>
          <a:ln w="1260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Colour schem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89000"/>
            <a:ext cx="9144000" cy="4869000"/>
          </a:xfrm>
          <a:prstGeom prst="rect">
            <a:avLst/>
          </a:prstGeom>
          <a:solidFill>
            <a:srgbClr val="fffffe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30280" y="3178080"/>
            <a:ext cx="827280" cy="611280"/>
          </a:xfrm>
          <a:prstGeom prst="rect">
            <a:avLst/>
          </a:prstGeom>
          <a:solidFill>
            <a:srgbClr val="cc00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06680" y="3178080"/>
            <a:ext cx="826920" cy="61128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35360" y="3178080"/>
            <a:ext cx="827280" cy="6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03840" y="3178080"/>
            <a:ext cx="827280" cy="611280"/>
          </a:xfrm>
          <a:prstGeom prst="rect">
            <a:avLst/>
          </a:prstGeom>
          <a:solidFill>
            <a:srgbClr val="6633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72320" y="3178080"/>
            <a:ext cx="826920" cy="611280"/>
          </a:xfrm>
          <a:prstGeom prst="rect">
            <a:avLst/>
          </a:prstGeom>
          <a:solidFill>
            <a:srgbClr val="cc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42240" y="3178080"/>
            <a:ext cx="826920" cy="611280"/>
          </a:xfrm>
          <a:prstGeom prst="rect">
            <a:avLst/>
          </a:prstGeom>
          <a:solidFill>
            <a:srgbClr val="ff018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67240" y="3178080"/>
            <a:ext cx="826920" cy="611280"/>
          </a:xfrm>
          <a:prstGeom prst="rect">
            <a:avLst/>
          </a:prstGeom>
          <a:solidFill>
            <a:srgbClr val="cc00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1800" y="317808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" y="253836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ackground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62320" y="241632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ext &amp;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ines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12000" y="25383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hadows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92880" y="241632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77920" y="25383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Fills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25440" y="2538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ccent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59640" y="24163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ccent &amp;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40720" y="24145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Followed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Example Bullet Point Slid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These templates are for personal use only and must not be distributed, sold or displayed on the web by anyone other than Presentation Helper.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You can find many more free PowerPoint templates on the Presentation Helper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1:00:53Z</dcterms:created>
  <dc:creator>Presentation Helper</dc:creator>
  <dc:description/>
  <dc:language>en-US</dc:language>
  <cp:lastModifiedBy>echo</cp:lastModifiedBy>
  <dcterms:modified xsi:type="dcterms:W3CDTF">2015-01-11T08:33:59Z</dcterms:modified>
  <cp:revision>9</cp:revision>
  <dc:subject/>
  <dc:title>Easter Pastel Eg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