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098-DBF2-42C4-B5F7-A6FBC390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578-11BD-4C66-A487-FD43263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EDA-21AB-41D7-ADE6-830E149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E07-3F31-479F-AA6F-044AE3BA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ABE-DC8E-4F83-A08B-F046DC7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B043-0435-408F-86CF-3929713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DB56-3646-4B7A-B461-10F7AC2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63B-060E-403A-9BCD-6DA2FAF1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221C-FDB4-4317-82EB-43545E3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897B-FCBC-40E6-A7C8-312A03E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4AB1-7F50-4EF1-8B24-B062BB3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2B2-7BA8-4573-8209-2BA8575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07C-A50E-4E31-BE1A-E6E137A3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570A-2182-4C36-B879-D5FF9C8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996D-4FFC-46A8-9B80-8B6CD2F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896-C8E6-47DA-ABB4-6DC50795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90C-45B3-47E8-94CD-1B72C580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32E-4A5A-4557-991F-F8F9E78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558-84C2-439A-8B7E-3DF20340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D63-8A10-4B30-9B8E-B05FF846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F7C-5AB5-496C-8EF5-9FD8C342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4A8-63DE-433C-B168-EA5FDEE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C5F-AEE8-4C93-B9FE-08EDB64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1A5-9EFC-418B-BCB4-7581BD3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6567-608D-486A-80BD-1F3597FF5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697-B029-4D41-B94B-C93457877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1Z</dcterms:created>
  <dc:creator/>
  <dc:description/>
  <dc:language>en-US</dc:language>
  <cp:lastModifiedBy/>
  <dcterms:modified xsi:type="dcterms:W3CDTF">2015-01-10T12:21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