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06C54-37CE-47D2-9CFC-22E9ECE1A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01D24-8F07-49C9-9B67-FB84E6FC1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7CBF7-4C52-44B4-BB0E-B501D051D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8B76A-895C-4047-B0B4-FE5E4CBD3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A9982-77E1-4E37-9502-CCA318121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8BF58-412E-4A89-B43A-7B6A4C340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8A2D1-C855-49C6-B6D8-B16C4F5EC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C2B9D-3867-4548-B696-4556B54A7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D7F45-12F6-4815-A90F-0DC85B3AE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5ADC6-93E2-407E-AA59-E0CDD26FE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E9A6F-D793-4573-8DDB-75CF65B0E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21D65-11FC-4817-BD7E-51F01CD31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7C1F8-7A0F-4E34-B8AA-91AE34C24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49A04-D9A0-4255-8C2C-CD936A8BD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58A9D-ED11-4401-8CB6-907DDB48D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69A02-9F0E-492F-BF00-06C74FDE8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CDDE4-D436-453B-AD43-8860BB25D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3B2AE-6977-47A4-AB7E-2DA1D1B7E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C9DE3-332B-4A8C-B6F0-05D82CB57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603FF-25D2-473C-8306-3013AB651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DCA8A-DD6C-4256-8315-4EE45BC49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63D97-00C5-4867-817A-116754C76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98A4D-44B8-457F-8002-84C4C74C2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9F5FF-DF94-4934-9F6F-E5785020B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Impact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6169F-DB7D-484E-AAE9-172845BD204A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Impact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DA4B0-1433-4B72-A9B8-0DD720F7073D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4360" y="414972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Impact"/>
              </a:rPr>
              <a:t>蓝天白云</a:t>
            </a:r>
            <a:r>
              <a:rPr b="1" lang="zh-CN" sz="4000" spc="-1" strike="noStrike">
                <a:solidFill>
                  <a:srgbClr val="ffffff"/>
                </a:solidFill>
                <a:latin typeface="Impact"/>
              </a:rPr>
              <a:t>PPT</a:t>
            </a:r>
            <a:r>
              <a:rPr b="1" lang="zh-CN" sz="4000" spc="-1" strike="noStrike">
                <a:solidFill>
                  <a:srgbClr val="ffffff"/>
                </a:solidFill>
                <a:latin typeface="Impact"/>
              </a:rPr>
              <a:t>模板</a:t>
            </a:r>
            <a:endParaRPr b="1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84360" y="5373360"/>
            <a:ext cx="7775280" cy="6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309440" y="6453360"/>
            <a:ext cx="173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Times New Roman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90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1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00ff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00ff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00ff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13T18:55:43Z</dcterms:created>
  <dc:creator>zouendong</dc:creator>
  <dc:description/>
  <dc:language>en-US</dc:language>
  <cp:lastModifiedBy>zouendong</cp:lastModifiedBy>
  <dcterms:modified xsi:type="dcterms:W3CDTF">2015-01-10T12:01:12Z</dcterms:modified>
  <cp:revision>4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