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5136-2C6B-4CC9-9C55-FE2A0A64B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BEFA-69AA-4034-9D87-C5F0F15B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F7EC-ED7A-4951-9DF5-19F4535A1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8B11-9E6C-4632-9D96-2CFAEB892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ADA4-A41D-4EBC-8B95-F7284568C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C53E-0ADE-411A-AA0D-DF9B5D2F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0502-70B6-4CC9-A214-E8EB30F9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DBE4-F90A-4BD8-9CDD-E971E3F0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410B-65C4-4A75-B46C-1AF4731D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642960"/>
            <a:ext cx="82296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60D0-77C1-4D00-BF1C-94447F62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1C64-B082-46C3-9051-F710EB94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717E-643C-48FF-89F0-8B66503D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9196-6AF4-4686-B45D-B0E35ADC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BF41-6989-4E34-A7ED-0CF4A325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0ABD-61D6-4BB4-85A1-42CBAAC2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1053-EE5D-40FB-A85C-3916DC4EF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18DA-32C5-4198-BBEA-5F643F05F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EC76-84AF-42C0-985B-C3549612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A2B7-D1B7-4CED-99E0-55EBDDC2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CCFA-DB54-4472-ACEC-5FBF0B4C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642960"/>
            <a:ext cx="82296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2CF1-8C5C-40D9-9634-A95CC09F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2371-6F44-4531-8268-805FF603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3342-6810-48AF-8112-A9F36D7B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41A3-A6BA-4C1D-8D27-087B3ACB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鱼不愚\桌面\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经典特宋简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B5BE-D345-463C-AD20-59E83E5066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Documents and Settings\鱼不愚\桌面\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C:\Documents and Settings\鱼不愚\桌面\未标题-1副本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经典特宋简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D9D2-BCCC-4832-8F2A-22FBB0F399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400" y="686880"/>
            <a:ext cx="650052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0c0"/>
                </a:solidFill>
                <a:latin typeface="汉仪粗宋简"/>
                <a:ea typeface="汉仪粗宋简"/>
              </a:rPr>
              <a:t>湛蓝情深</a:t>
            </a:r>
            <a:endParaRPr b="0" lang="en-US" sz="4000" spc="-1" strike="noStrike">
              <a:solidFill>
                <a:srgbClr val="000000"/>
              </a:solidFill>
              <a:latin typeface="经典特宋简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60360" y="1536840"/>
            <a:ext cx="6534000" cy="742680"/>
            <a:chOff x="360360" y="1536840"/>
            <a:chExt cx="6534000" cy="742680"/>
          </a:xfrm>
        </p:grpSpPr>
        <p:pic>
          <p:nvPicPr>
            <p:cNvPr id="87" name="副标题 2" descr=""/>
            <p:cNvPicPr/>
            <p:nvPr/>
          </p:nvPicPr>
          <p:blipFill>
            <a:blip r:embed="rId1"/>
            <a:stretch/>
          </p:blipFill>
          <p:spPr>
            <a:xfrm>
              <a:off x="360360" y="1536840"/>
              <a:ext cx="6534000" cy="7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428760" y="1604880"/>
              <a:ext cx="640080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0c0"/>
                  </a:solidFill>
                  <a:latin typeface="叶根友行书繁"/>
                  <a:ea typeface="叶根友行书繁"/>
                </a:rPr>
                <a:t>Design by </a:t>
              </a:r>
              <a:r>
                <a:rPr b="1" lang="zh-CN" sz="2800" spc="-1" strike="noStrike">
                  <a:solidFill>
                    <a:srgbClr val="0070c0"/>
                  </a:solidFill>
                  <a:latin typeface="叶根友行书繁"/>
                  <a:ea typeface="叶根友行书繁"/>
                </a:rPr>
                <a:t>eeppt.co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082520"/>
            <a:ext cx="8229600" cy="774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0c0"/>
                </a:solidFill>
                <a:latin typeface="汉仪粗宋简"/>
                <a:ea typeface="汉仪粗宋简"/>
              </a:rPr>
              <a:t>目  录</a:t>
            </a:r>
            <a:endParaRPr b="0" lang="en-US" sz="44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90" name="圆角矩形 4"/>
          <p:cNvSpPr/>
          <p:nvPr/>
        </p:nvSpPr>
        <p:spPr>
          <a:xfrm>
            <a:off x="1643040" y="2292480"/>
            <a:ext cx="4929120" cy="642960"/>
          </a:xfrm>
          <a:prstGeom prst="roundRect">
            <a:avLst>
              <a:gd name="adj" fmla="val 16667"/>
            </a:avLst>
          </a:prstGeom>
          <a:solidFill>
            <a:srgbClr val="0062ac"/>
          </a:solidFill>
          <a:ln w="25560">
            <a:solidFill>
              <a:srgbClr val="00b0f0"/>
            </a:solidFill>
            <a:miter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C:\Documents and Settings\鱼不愚\桌面\3dicon1_zcool.com.cn [转换].png"/>
          <p:cNvPicPr/>
          <p:nvPr/>
        </p:nvPicPr>
        <p:blipFill>
          <a:blip r:embed="rId1"/>
          <a:srcRect l="38759" t="0" r="35730" b="62560"/>
          <a:stretch/>
        </p:blipFill>
        <p:spPr>
          <a:xfrm>
            <a:off x="1071720" y="1857240"/>
            <a:ext cx="1143000" cy="124488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1292400" y="2408400"/>
            <a:ext cx="7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 Black"/>
                <a:ea typeface="ClassizismAntiqua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圆角矩形 8"/>
          <p:cNvSpPr/>
          <p:nvPr/>
        </p:nvSpPr>
        <p:spPr>
          <a:xfrm>
            <a:off x="2357280" y="3521160"/>
            <a:ext cx="4929480" cy="642960"/>
          </a:xfrm>
          <a:prstGeom prst="roundRect">
            <a:avLst>
              <a:gd name="adj" fmla="val 16667"/>
            </a:avLst>
          </a:prstGeom>
          <a:solidFill>
            <a:srgbClr val="0062ac"/>
          </a:solidFill>
          <a:ln w="25560">
            <a:solidFill>
              <a:srgbClr val="00b0f0"/>
            </a:solidFill>
            <a:miter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C:\Documents and Settings\鱼不愚\桌面\3dicon1_zcool.com.cn [转换].png"/>
          <p:cNvPicPr/>
          <p:nvPr/>
        </p:nvPicPr>
        <p:blipFill>
          <a:blip r:embed="rId2"/>
          <a:srcRect l="38759" t="0" r="35730" b="62560"/>
          <a:stretch/>
        </p:blipFill>
        <p:spPr>
          <a:xfrm>
            <a:off x="1785960" y="3071880"/>
            <a:ext cx="1143000" cy="1244520"/>
          </a:xfrm>
          <a:prstGeom prst="rect">
            <a:avLst/>
          </a:prstGeom>
          <a:ln w="0">
            <a:noFill/>
          </a:ln>
        </p:spPr>
      </p:pic>
      <p:sp>
        <p:nvSpPr>
          <p:cNvPr id="95" name="TextBox 10"/>
          <p:cNvSpPr/>
          <p:nvPr/>
        </p:nvSpPr>
        <p:spPr>
          <a:xfrm>
            <a:off x="2006640" y="3637080"/>
            <a:ext cx="7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 Black"/>
                <a:ea typeface="ClassizismAntiqua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圆角矩形 12"/>
          <p:cNvSpPr/>
          <p:nvPr/>
        </p:nvSpPr>
        <p:spPr>
          <a:xfrm>
            <a:off x="3051000" y="4792680"/>
            <a:ext cx="4929480" cy="642960"/>
          </a:xfrm>
          <a:prstGeom prst="roundRect">
            <a:avLst>
              <a:gd name="adj" fmla="val 16667"/>
            </a:avLst>
          </a:prstGeom>
          <a:solidFill>
            <a:srgbClr val="0062ac"/>
          </a:solidFill>
          <a:ln w="25560">
            <a:solidFill>
              <a:srgbClr val="00b0f0"/>
            </a:solidFill>
            <a:miter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C:\Documents and Settings\鱼不愚\桌面\3dicon1_zcool.com.cn [转换].png"/>
          <p:cNvPicPr/>
          <p:nvPr/>
        </p:nvPicPr>
        <p:blipFill>
          <a:blip r:embed="rId3"/>
          <a:srcRect l="38759" t="0" r="35730" b="62560"/>
          <a:stretch/>
        </p:blipFill>
        <p:spPr>
          <a:xfrm>
            <a:off x="2479680" y="4357800"/>
            <a:ext cx="1143000" cy="1244520"/>
          </a:xfrm>
          <a:prstGeom prst="rect">
            <a:avLst/>
          </a:prstGeom>
          <a:ln w="0">
            <a:noFill/>
          </a:ln>
        </p:spPr>
      </p:pic>
      <p:sp>
        <p:nvSpPr>
          <p:cNvPr id="98" name="TextBox 14"/>
          <p:cNvSpPr/>
          <p:nvPr/>
        </p:nvSpPr>
        <p:spPr>
          <a:xfrm>
            <a:off x="2700360" y="4908600"/>
            <a:ext cx="7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 Black"/>
                <a:ea typeface="ClassizismAntiqua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058840" y="2301840"/>
            <a:ext cx="432936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细黑"/>
              </a:rPr>
              <a:t>文本目录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0" name="内容占位符 2"/>
          <p:cNvSpPr/>
          <p:nvPr/>
        </p:nvSpPr>
        <p:spPr>
          <a:xfrm>
            <a:off x="2857680" y="3516480"/>
            <a:ext cx="4329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文本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内容占位符 2"/>
          <p:cNvSpPr/>
          <p:nvPr/>
        </p:nvSpPr>
        <p:spPr>
          <a:xfrm>
            <a:off x="3529080" y="4811760"/>
            <a:ext cx="4329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文本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对角圆角矩形 5"/>
          <p:cNvSpPr/>
          <p:nvPr/>
        </p:nvSpPr>
        <p:spPr>
          <a:xfrm rot="21346800">
            <a:off x="1133640" y="1809360"/>
            <a:ext cx="6954840" cy="3879720"/>
          </a:xfrm>
          <a:custGeom>
            <a:avLst/>
            <a:gdLst/>
            <a:ahLst/>
            <a:rect l="l" t="t" r="r" b="b"/>
            <a:pathLst>
              <a:path w="6954838" h="3879850">
                <a:moveTo>
                  <a:pt x="492043" y="0"/>
                </a:moveTo>
                <a:lnTo>
                  <a:pt x="6954838" y="0"/>
                </a:lnTo>
                <a:lnTo>
                  <a:pt x="6954838" y="0"/>
                </a:lnTo>
                <a:lnTo>
                  <a:pt x="6954838" y="3387807"/>
                </a:lnTo>
                <a:cubicBezTo>
                  <a:pt x="6954838" y="3659555"/>
                  <a:pt x="6734543" y="3879850"/>
                  <a:pt x="6462795" y="3879850"/>
                </a:cubicBezTo>
                <a:lnTo>
                  <a:pt x="0" y="3879850"/>
                </a:lnTo>
                <a:lnTo>
                  <a:pt x="0" y="3879850"/>
                </a:lnTo>
                <a:lnTo>
                  <a:pt x="0" y="492043"/>
                </a:lnTo>
                <a:cubicBezTo>
                  <a:pt x="0" y="220295"/>
                  <a:pt x="220295" y="0"/>
                  <a:pt x="492043" y="0"/>
                </a:cubicBezTo>
                <a:close/>
              </a:path>
            </a:pathLst>
          </a:custGeom>
          <a:gradFill rotWithShape="0">
            <a:gsLst>
              <a:gs pos="0">
                <a:srgbClr val="0070c0"/>
              </a:gs>
              <a:gs pos="100000">
                <a:srgbClr val="00b0f0"/>
              </a:gs>
            </a:gsLst>
            <a:lin ang="8352000"/>
          </a:gradFill>
          <a:ln w="0">
            <a:noFill/>
          </a:ln>
          <a:effectLst>
            <a:outerShdw dist="2304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汉仪粗宋简"/>
                <a:ea typeface="汉仪粗宋简"/>
              </a:rPr>
              <a:t>强调类型图表</a:t>
            </a: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pic>
        <p:nvPicPr>
          <p:cNvPr id="104" name="Picture 3" descr="C:\TDDOWNLOAD\pencil.png"/>
          <p:cNvPicPr/>
          <p:nvPr/>
        </p:nvPicPr>
        <p:blipFill>
          <a:blip r:embed="rId1"/>
          <a:stretch/>
        </p:blipFill>
        <p:spPr>
          <a:xfrm>
            <a:off x="887400" y="161784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 rot="21361200">
            <a:off x="1348920" y="2091960"/>
            <a:ext cx="6454800" cy="33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细黑"/>
              </a:rPr>
              <a:t>强调文本内容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6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汉仪粗宋简"/>
                <a:ea typeface="汉仪粗宋简"/>
              </a:rPr>
              <a:t>分析类型图表</a:t>
            </a: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705200" y="2577960"/>
            <a:ext cx="3726000" cy="3505320"/>
            <a:chOff x="4705200" y="2577960"/>
            <a:chExt cx="3726000" cy="3505320"/>
          </a:xfrm>
        </p:grpSpPr>
        <p:pic>
          <p:nvPicPr>
            <p:cNvPr id="109" name="剪去同侧角的矩形 6" descr=""/>
            <p:cNvPicPr/>
            <p:nvPr/>
          </p:nvPicPr>
          <p:blipFill>
            <a:blip r:embed="rId1"/>
            <a:stretch/>
          </p:blipFill>
          <p:spPr>
            <a:xfrm>
              <a:off x="4705200" y="2577960"/>
              <a:ext cx="372600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927320" y="2803320"/>
              <a:ext cx="3281400" cy="320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712800" y="2577960"/>
            <a:ext cx="3726000" cy="3505320"/>
            <a:chOff x="712800" y="2577960"/>
            <a:chExt cx="3726000" cy="3505320"/>
          </a:xfrm>
        </p:grpSpPr>
        <p:pic>
          <p:nvPicPr>
            <p:cNvPr id="112" name="剪去同侧角的矩形 5" descr=""/>
            <p:cNvPicPr/>
            <p:nvPr/>
          </p:nvPicPr>
          <p:blipFill>
            <a:blip r:embed="rId2"/>
            <a:stretch/>
          </p:blipFill>
          <p:spPr>
            <a:xfrm>
              <a:off x="712800" y="2577960"/>
              <a:ext cx="372600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934920" y="2803320"/>
              <a:ext cx="3281400" cy="320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" name="Picture 2" descr="C:\TDDOWNLOAD\user_female.png"/>
          <p:cNvPicPr/>
          <p:nvPr/>
        </p:nvPicPr>
        <p:blipFill>
          <a:blip r:embed="rId3"/>
          <a:stretch/>
        </p:blipFill>
        <p:spPr>
          <a:xfrm>
            <a:off x="1951200" y="1573200"/>
            <a:ext cx="1249200" cy="2462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TDDOWNLOAD\user_male.png"/>
          <p:cNvPicPr/>
          <p:nvPr/>
        </p:nvPicPr>
        <p:blipFill>
          <a:blip r:embed="rId4"/>
          <a:stretch/>
        </p:blipFill>
        <p:spPr>
          <a:xfrm>
            <a:off x="5943600" y="1560600"/>
            <a:ext cx="1249200" cy="24620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731880" y="2577960"/>
            <a:ext cx="3706920" cy="3487680"/>
            <a:chOff x="731880" y="2577960"/>
            <a:chExt cx="3706920" cy="3487680"/>
          </a:xfrm>
        </p:grpSpPr>
        <p:pic>
          <p:nvPicPr>
            <p:cNvPr id="117" name="内容占位符 2" descr=""/>
            <p:cNvPicPr/>
            <p:nvPr/>
          </p:nvPicPr>
          <p:blipFill>
            <a:blip r:embed="rId5"/>
            <a:stretch/>
          </p:blipFill>
          <p:spPr>
            <a:xfrm>
              <a:off x="731880" y="2577960"/>
              <a:ext cx="3706920" cy="34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801720" y="2643120"/>
              <a:ext cx="3571920" cy="33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文本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94400" y="2577960"/>
            <a:ext cx="3706560" cy="3487680"/>
            <a:chOff x="4694400" y="2577960"/>
            <a:chExt cx="3706560" cy="3487680"/>
          </a:xfrm>
        </p:grpSpPr>
        <p:pic>
          <p:nvPicPr>
            <p:cNvPr id="120" name="内容占位符 2" descr=""/>
            <p:cNvPicPr/>
            <p:nvPr/>
          </p:nvPicPr>
          <p:blipFill>
            <a:blip r:embed="rId6"/>
            <a:stretch/>
          </p:blipFill>
          <p:spPr>
            <a:xfrm>
              <a:off x="4694400" y="2577960"/>
              <a:ext cx="3706560" cy="34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4763880" y="2643120"/>
              <a:ext cx="3571560" cy="33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文本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汉仪粗宋简"/>
                <a:ea typeface="汉仪粗宋简"/>
              </a:rPr>
              <a:t>数据类型图标</a:t>
            </a: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pic>
        <p:nvPicPr>
          <p:cNvPr id="123" name="内容占位符 3" descr=""/>
          <p:cNvPicPr/>
          <p:nvPr/>
        </p:nvPicPr>
        <p:blipFill>
          <a:blip r:embed="rId1"/>
          <a:stretch/>
        </p:blipFill>
        <p:spPr>
          <a:xfrm>
            <a:off x="1120680" y="1714680"/>
            <a:ext cx="6902640" cy="39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汉仪粗宋简"/>
                <a:ea typeface="汉仪粗宋简"/>
              </a:rPr>
              <a:t>说明类型图表</a:t>
            </a: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pic>
        <p:nvPicPr>
          <p:cNvPr id="125" name="Picture 5" descr="C:\Documents and Settings\鱼不愚\桌面\biz_icon_01.png"/>
          <p:cNvPicPr/>
          <p:nvPr/>
        </p:nvPicPr>
        <p:blipFill>
          <a:blip r:embed="rId1"/>
          <a:stretch/>
        </p:blipFill>
        <p:spPr>
          <a:xfrm>
            <a:off x="1112760" y="1825560"/>
            <a:ext cx="6918480" cy="425448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2004840" y="2084400"/>
            <a:ext cx="5133960" cy="2994120"/>
            <a:chOff x="2004840" y="2084400"/>
            <a:chExt cx="5133960" cy="2994120"/>
          </a:xfrm>
        </p:grpSpPr>
        <p:pic>
          <p:nvPicPr>
            <p:cNvPr id="127" name="内容占位符 2" descr=""/>
            <p:cNvPicPr/>
            <p:nvPr/>
          </p:nvPicPr>
          <p:blipFill>
            <a:blip r:embed="rId2"/>
            <a:stretch/>
          </p:blipFill>
          <p:spPr>
            <a:xfrm>
              <a:off x="2004840" y="2084400"/>
              <a:ext cx="5133960" cy="299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2071440" y="2152800"/>
              <a:ext cx="500076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文本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506520" y="858960"/>
            <a:ext cx="6491160" cy="1207800"/>
            <a:chOff x="506520" y="858960"/>
            <a:chExt cx="6491160" cy="1207800"/>
          </a:xfrm>
        </p:grpSpPr>
        <p:pic>
          <p:nvPicPr>
            <p:cNvPr id="131" name="副标题 2" descr=""/>
            <p:cNvPicPr/>
            <p:nvPr/>
          </p:nvPicPr>
          <p:blipFill>
            <a:blip r:embed="rId1"/>
            <a:stretch/>
          </p:blipFill>
          <p:spPr>
            <a:xfrm>
              <a:off x="506520" y="858960"/>
              <a:ext cx="6491160" cy="120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571680" y="928440"/>
              <a:ext cx="635796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70c0"/>
                  </a:solidFill>
                  <a:latin typeface="汉仪粗宋简"/>
                  <a:ea typeface="汉仪粗宋简"/>
                </a:rPr>
                <a:t>THANKS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379240" y="6380280"/>
            <a:ext cx="42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更多免费</a:t>
            </a:r>
            <a:r>
              <a:rPr b="0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0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经典特宋简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华文细黑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华文细黑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华文细黑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8T11:08:52Z</dcterms:created>
  <dc:creator>rachel</dc:creator>
  <dc:description/>
  <dc:language>en-US</dc:language>
  <cp:lastModifiedBy>微软中国</cp:lastModifiedBy>
  <dcterms:modified xsi:type="dcterms:W3CDTF">2015-01-11T07:25:48Z</dcterms:modified>
  <cp:revision>3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