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285-A3BA-4BF9-9984-638448C5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8E4-3081-493E-80AD-F581B95B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B4F-EF98-4ED8-8420-0A6434DA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037-FBF4-462A-BDD6-011B6B2B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65B6-C8FD-4433-9B16-64348625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F4F0-48D2-4B2D-8752-7A2CB615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8CAA-2ED4-4142-93E4-2A83F182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D00D-4642-4051-9295-35DF1B9F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E078-FFFF-402A-8557-50482AFF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E99F-9833-41C7-BE32-A6BE8559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CA7F-5BF8-4394-8750-DF1EBC7C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D8E-23D3-445A-811C-26CD035D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7673-6C75-4662-8E21-A8EB4AF2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1A0A-AAD2-4C88-8ED2-AA113594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BBC0-5425-4ACA-A777-D38694B9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4ED7-F627-4BDD-80D5-26F36473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F2F7-1DCC-49A3-A87B-FF5FD850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6CE5-9AB5-4950-8A03-F74362F9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2A68-D889-497E-80B1-75819CC9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E1D0-CE7B-4509-9F78-5495DF7C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E1D9-5439-497C-822C-8C0D3D21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06972-DEE9-494B-B3EC-4796F90F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6D1-AF70-4570-B0A2-3376A735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95343-6C69-48E5-9D00-4E562722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3F62-C616-438E-B2C3-588B2606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9826-0C96-4C4F-9E68-1031C961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C304-42A5-4793-9059-53A0E08E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C96B-1764-4C1B-A6C7-272F4F07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E36A-1B37-4C82-A1C5-F9C70ABA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0F92-5B64-4208-806E-7A10C6A1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243-F06C-4705-8E29-5BBF3F98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4F3-5832-4711-9955-3F00DCB7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0DE-5846-4ACD-8E97-ADEBE233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E18-94E1-4F80-8C86-6549A95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114-04F7-4972-AD10-C4202EDC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9C8-735C-433D-9B59-1519259A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280" y="231480"/>
            <a:ext cx="64911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1344240"/>
            <a:ext cx="6491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D68C-A553-4FB8-98E7-836353B1E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88840"/>
            <a:ext cx="77724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F296-E3B0-4419-AF10-F595CC3F0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347840"/>
            <a:ext cx="82292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6F20-FB89-4259-B23B-D66887CA7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88840"/>
            <a:ext cx="77724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263760"/>
            <a:ext cx="64008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7640" y="511164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231480"/>
            <a:ext cx="64911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95280" y="1344240"/>
            <a:ext cx="6491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8466120" cy="5759280"/>
            <a:chOff x="0" y="0"/>
            <a:chExt cx="8466120" cy="575928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39640"/>
              <a:ext cx="84661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37520" y="29980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0:26:36Z</dcterms:created>
  <dc:creator>Administrator</dc:creator>
  <dc:description/>
  <dc:language>en-US</dc:language>
  <cp:lastModifiedBy/>
  <dcterms:modified xsi:type="dcterms:W3CDTF">2015-01-10T12:48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