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4895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20360" y="1233000"/>
            <a:ext cx="66978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20360" y="3351960"/>
            <a:ext cx="66978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20360" y="1233000"/>
            <a:ext cx="32684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2600" y="1233000"/>
            <a:ext cx="32684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20360" y="3351960"/>
            <a:ext cx="32684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52600" y="3351960"/>
            <a:ext cx="32684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20360" y="1233000"/>
            <a:ext cx="2156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85120" y="1233000"/>
            <a:ext cx="2156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9520" y="1233000"/>
            <a:ext cx="2156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620360" y="3351960"/>
            <a:ext cx="2156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85120" y="3351960"/>
            <a:ext cx="2156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9520" y="3351960"/>
            <a:ext cx="2156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20360" y="1233000"/>
            <a:ext cx="669780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20360" y="1233000"/>
            <a:ext cx="669780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20360" y="1233000"/>
            <a:ext cx="32684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2600" y="1233000"/>
            <a:ext cx="32684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20720" y="81000"/>
            <a:ext cx="6716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20360" y="1233000"/>
            <a:ext cx="32684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2600" y="1233000"/>
            <a:ext cx="32684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20360" y="3351960"/>
            <a:ext cx="32684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620360" y="1233000"/>
            <a:ext cx="669780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20360" y="1233000"/>
            <a:ext cx="32684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2600" y="1233000"/>
            <a:ext cx="32684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52600" y="3351960"/>
            <a:ext cx="32684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20360" y="1233000"/>
            <a:ext cx="32684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2600" y="1233000"/>
            <a:ext cx="32684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20360" y="3351960"/>
            <a:ext cx="66978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0360" y="1233000"/>
            <a:ext cx="66978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620360" y="3351960"/>
            <a:ext cx="66978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20360" y="1233000"/>
            <a:ext cx="32684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2600" y="1233000"/>
            <a:ext cx="32684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20360" y="3351960"/>
            <a:ext cx="32684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52600" y="3351960"/>
            <a:ext cx="32684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0360" y="1233000"/>
            <a:ext cx="2156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85120" y="1233000"/>
            <a:ext cx="2156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49520" y="1233000"/>
            <a:ext cx="2156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20360" y="3351960"/>
            <a:ext cx="2156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85120" y="3351960"/>
            <a:ext cx="2156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49520" y="3351960"/>
            <a:ext cx="2156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620360" y="1233000"/>
            <a:ext cx="669780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1233000"/>
            <a:ext cx="32684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52600" y="1233000"/>
            <a:ext cx="32684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20720" y="81000"/>
            <a:ext cx="6716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20360" y="1233000"/>
            <a:ext cx="32684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2600" y="1233000"/>
            <a:ext cx="32684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620360" y="3351960"/>
            <a:ext cx="32684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20360" y="1233000"/>
            <a:ext cx="32684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2600" y="1233000"/>
            <a:ext cx="32684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52600" y="3351960"/>
            <a:ext cx="32684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20360" y="1233000"/>
            <a:ext cx="32684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2600" y="1233000"/>
            <a:ext cx="32684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20360" y="3351960"/>
            <a:ext cx="66978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850" r="214" b="0"/>
          <a:stretch/>
        </p:blipFill>
        <p:spPr>
          <a:xfrm>
            <a:off x="0" y="853920"/>
            <a:ext cx="9140760" cy="4627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20360" y="1233000"/>
            <a:ext cx="669780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rcRect l="0" t="2042" r="749" b="0"/>
          <a:stretch/>
        </p:blipFill>
        <p:spPr>
          <a:xfrm>
            <a:off x="0" y="728640"/>
            <a:ext cx="9120240" cy="4681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12720" y="1415520"/>
            <a:ext cx="4965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84480"/>
            <a:ext cx="8229240" cy="31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12720" y="1415520"/>
            <a:ext cx="4965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413080" y="2383920"/>
            <a:ext cx="4889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226640" y="512136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20360" y="1233000"/>
            <a:ext cx="669780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8466120" cy="5489640"/>
            <a:chOff x="0" y="0"/>
            <a:chExt cx="8466120" cy="5489640"/>
          </a:xfrm>
        </p:grpSpPr>
        <p:sp>
          <p:nvSpPr>
            <p:cNvPr id="8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372320"/>
              <a:ext cx="8466120" cy="41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7"/>
            <p:cNvSpPr/>
            <p:nvPr/>
          </p:nvSpPr>
          <p:spPr>
            <a:xfrm rot="20926800">
              <a:off x="1941480" y="285696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/>
  <dc:description/>
  <dc:language>en-US</dc:language>
  <cp:lastModifiedBy>番茄花园</cp:lastModifiedBy>
  <dcterms:modified xsi:type="dcterms:W3CDTF">2015-01-10T12:44:25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