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2D63F-0DBA-4506-90AF-203E99DFD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7008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80772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D46FC-FB08-4D6A-AE64-72CC27747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700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2700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80772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80772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4B36A-C7FF-4126-99B2-0B61FB57E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27008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27008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27008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80772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80772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80772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C0145-8896-4666-9574-F795464AB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5E349-EB58-43FB-88D0-22C408D95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2700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037F1-6899-42DE-BBFC-DC34E0F35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700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2CEE5-6CBD-46C5-88D6-EBE2C9FD7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27008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27008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65069-A0D2-4152-9AF7-2A3EA9626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3D87C-5CBC-4CDE-9D20-2AD57DF0E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475920"/>
            <a:ext cx="8229600" cy="30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70312-3AEF-40FD-8064-ABC6AC5D3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2700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27008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80772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49347-7F13-4FD9-8AEA-EEECB0805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2700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4AC8E-EB7E-4C84-A796-269A32580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27008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2700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80772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369DB-00C8-42C3-9A53-3C6DA9B04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2700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2700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0772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D1DED-F267-4447-8AD8-6F2D57EC3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27008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80772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D24E3-577C-4A38-82A3-BE561F0E1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2700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2700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80772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80772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86FCD-E09F-430F-81C5-D3F2F6496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27008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27008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27008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80772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80772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80772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62562-FC06-406D-84CD-B5CBF986C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682801-6BBC-43B5-AE51-2C762D076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2700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83A670-828C-4DDF-9E11-B22F753D0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2700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5DB3E6-1620-47CE-BF70-A2EE5B0CE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27008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27008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66ECB2-CD6F-489D-92E7-7E7DF3103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8B1FE9-4430-4593-BC5B-25BB653B3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700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E5499-FA11-4730-AC12-39FF8B4C1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475920"/>
            <a:ext cx="8229600" cy="30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615988-3877-455C-A99D-BBA765011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2700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27008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80772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91E732-83E1-425D-8DBA-45733DDD1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7008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2700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80772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A1C50C-E6DD-4051-A934-D4260E18D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700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700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80772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A1E6A6-800D-44ED-B60B-C755E8306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7008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80772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F38586-C431-4D5B-807A-7B059F0E5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2700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2700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80772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80772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5D7F7A-A62B-4439-8D93-F3B576C5B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7008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27008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27008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80772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80772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80772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97681F-E1CA-46F8-92DA-40CD617FC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8D5323-4733-489F-8067-2C7137EDD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2700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AD9F5A-8873-491F-94DD-38F1B9575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2700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FA8C57-E597-48E6-8C3E-2788AF905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7008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27008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9B858-2FE1-4A1E-BB03-205AC6153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27008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27008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3B98E7-E32F-4FA7-9CF2-1696594A8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02B19F-DA10-4D25-B474-752DAB6C5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7200" y="475920"/>
            <a:ext cx="8229600" cy="30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37FA95-B988-4FED-962D-707908619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2700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27008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0772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0AFE7B-479F-4EE9-954D-A48051091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7008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2700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380772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DEA8D6-A809-401A-8B91-F609975A8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2700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2700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80772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20EE21-BE4D-4BE4-AFDA-8B8077B53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27008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80772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786B42-8071-49E6-AA1B-B1DC5D07C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700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2700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80772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380772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4C8723-54C9-47C7-B285-E717C4155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27008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27008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27008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80772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380772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380772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E67198-8C43-4C2D-8D9E-FB8D60560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CD3951-B9DF-4151-917F-7CF85B449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D9675-5CC3-4968-822A-4639F2218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457200" y="12700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726303-2489-4677-9A9C-AA6C4AE92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700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BC312E-2FA8-420D-BEAF-DEB67FAA9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27008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27008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23BD71-C1C9-4C58-9DF8-519304CDF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DD3BED-6392-4BA6-A3AB-AB1875DA2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457200" y="475920"/>
            <a:ext cx="8229600" cy="30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D69869-D792-488D-A9BE-2794EED76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2700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27008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0772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C5BE39-3ED9-457A-8857-746385D9F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27008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2700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4240" y="380772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41FFF4-5128-4B02-BCFC-33F14432C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700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700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80772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5A020D-BC5C-4A2E-A454-DFE601182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27008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57200" y="380772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AA07E1-5072-4905-9771-B7B5E5285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2700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2700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80772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4240" y="380772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2A57BA-E1E9-45FE-B874-2A13ECB32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475920"/>
            <a:ext cx="8229600" cy="30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40CDB-5E0D-4ECF-8338-C57B08BD7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27008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239640" y="127008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22080" y="127008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57200" y="380772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239640" y="380772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22080" y="380772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67FF4C-B9BD-455D-A6A1-76209AC47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2700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27008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80772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FA895-7166-4704-B947-CA0FC97A8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27008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2700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80772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DCE7A-CE85-4E40-839F-471039218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2700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2700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80772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30A4D-2F3A-470D-A3ED-BA272193E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da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oundRect">
            <a:avLst>
              <a:gd name="adj" fmla="val 21278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2700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0385B-EDD4-4D4F-AFAA-A5A59AFBDB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563640" y="2781360"/>
            <a:ext cx="4965480" cy="650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CDE99-3BA8-48F9-8C17-7D8EB80B2B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276720" y="620640"/>
            <a:ext cx="5338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2484000" y="1557000"/>
            <a:ext cx="6193080" cy="48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34800-135A-418F-BC13-FD90FB0C17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da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9144000" cy="6858000"/>
          </a:xfrm>
          <a:prstGeom prst="roundRect">
            <a:avLst>
              <a:gd name="adj" fmla="val 21278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2700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2E2B9-E56F-4B26-A6A1-9BB295E3F6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563640" y="2781360"/>
            <a:ext cx="4965480" cy="650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3804D-2D9C-4E7B-B4A7-703023A1C9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0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563640" y="2781360"/>
            <a:ext cx="4965480" cy="650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免费商务总结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模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4356000" y="3503160"/>
            <a:ext cx="417528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182000" y="461880"/>
            <a:ext cx="1352520" cy="368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008120" y="645336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276720" y="620640"/>
            <a:ext cx="5338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2484000" y="1557000"/>
            <a:ext cx="6193080" cy="48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da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563640" y="2781360"/>
            <a:ext cx="4965480" cy="650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感谢您的关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7182000" y="461880"/>
            <a:ext cx="1352520" cy="368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57520" y="6453360"/>
            <a:ext cx="4476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楷体"/>
                <a:ea typeface="楷体"/>
              </a:rPr>
              <a:t>更多免费</a:t>
            </a:r>
            <a:r>
              <a:rPr b="1" lang="zh-CN" sz="1600" spc="-1" strike="noStrike">
                <a:solidFill>
                  <a:srgbClr val="1c1c1c"/>
                </a:solidFill>
                <a:latin typeface="楷体"/>
                <a:ea typeface="楷体"/>
              </a:rPr>
              <a:t>PPT</a:t>
            </a:r>
            <a:r>
              <a:rPr b="1" lang="zh-CN" sz="1600" spc="-1" strike="noStrike">
                <a:solidFill>
                  <a:srgbClr val="1c1c1c"/>
                </a:solidFill>
                <a:latin typeface="楷体"/>
                <a:ea typeface="楷体"/>
              </a:rPr>
              <a:t>模板下载请访问：</a:t>
            </a:r>
            <a:r>
              <a:rPr b="1" lang="zh-CN" sz="1600" spc="-1" strike="noStrike">
                <a:solidFill>
                  <a:srgbClr val="1c1c1c"/>
                </a:solidFill>
                <a:latin typeface="楷体"/>
                <a:ea typeface="楷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2T09:15:32Z</dcterms:created>
  <dc:creator/>
  <dc:description/>
  <dc:language>en-US</dc:language>
  <cp:lastModifiedBy/>
  <dcterms:modified xsi:type="dcterms:W3CDTF">2015-01-10T12:39:23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