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5E85-75C5-4F70-AB6C-1616DB091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68E5-5FD2-4105-A185-DF25E7CF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F1CD-8AFD-46ED-A3C3-ABAA33F1F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8BCC-D619-4080-AB80-B233951A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362F-FFAA-4FF4-B440-449D1B18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DC87-3DBE-46A4-8E27-F3C8CA7D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A565-D7C0-4162-BB83-31E6D674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9F86-4B3A-40A5-83F1-7CCACE9E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DDE3-8103-4990-B154-B24067EB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8A44-CE33-4E60-8E2B-88995B60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3C82-9DBB-4B82-8173-4BC01083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FAA3-BCEE-4AF8-A408-50BB5F6E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44313"/>
                </a:srgbClr>
              </a:gs>
              <a:gs pos="100000">
                <a:srgbClr val="ffffff">
                  <a:alpha val="9725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FEEF-29FC-47BA-A6DB-4FF78B67A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64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2:41:07Z</dcterms:created>
  <dc:creator/>
  <dc:description/>
  <dc:language>en-US</dc:language>
  <cp:lastModifiedBy>微软用户</cp:lastModifiedBy>
  <dcterms:modified xsi:type="dcterms:W3CDTF">2015-01-11T06:55:42Z</dcterms:modified>
  <cp:revision>4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