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21D-7179-408E-BF90-10A1B55D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53B-C7C4-4FC3-95EA-6C43C1D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554-6CAA-4463-A0D8-FB477D03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DDC-8C02-4B33-A214-FA0E2281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06160" y="117000"/>
            <a:ext cx="727092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ABD-BB50-418F-AA63-55797A70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C2A-14A5-44DD-971A-9176108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444-BF49-406C-B88D-757F28C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16B-8A39-48BA-811A-E2A9A02B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06160" y="117000"/>
            <a:ext cx="727092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AB8-E45A-433C-B18E-FC01D38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F9D-E008-43D2-9EED-CBCD81F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AAA-4D87-46C6-886D-057F1E7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30C-34C1-4E78-9AEF-B2CBF79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D23-C1E0-4B7A-A8FF-3CA27FC88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-17640"/>
            <a:ext cx="0" cy="11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406160" y="117000"/>
            <a:ext cx="72709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14240" y="-3240"/>
            <a:ext cx="0" cy="113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5712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58920" y="-17640"/>
            <a:ext cx="0" cy="11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6360" y="1988640"/>
            <a:ext cx="39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53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6360" y="1483920"/>
            <a:ext cx="39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219280" y="2923920"/>
            <a:ext cx="3746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537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4168800"/>
            <a:ext cx="1560240" cy="1089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80480" y="5734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6160" y="117000"/>
            <a:ext cx="72709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图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33339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bbe0e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04440" y="3508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01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请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2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请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03.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请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29080" y="214632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76640" y="430056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0240" y="4340160"/>
            <a:ext cx="18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请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6160" y="113760"/>
            <a:ext cx="7270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感谢您的关注</a:t>
            </a:r>
            <a:endParaRPr b="0" i="1" lang="en-US" sz="5400" spc="-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97440" y="3863880"/>
            <a:ext cx="2664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i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480680" y="6381720"/>
            <a:ext cx="55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15:00Z</dcterms:created>
  <dc:creator/>
  <dc:description/>
  <dc:language>en-US</dc:language>
  <cp:lastModifiedBy/>
  <dcterms:modified xsi:type="dcterms:W3CDTF">2015-01-11T07:35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