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AB2-8ACF-4C66-BD24-DDB500DC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A01-947F-4A7A-A6D3-45E4C0AA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9D5-0545-41CC-B05F-08616513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33F-A5BA-4C5F-8A52-A9ECF0A1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5CC-E5B2-49D0-B0B6-F6173EBE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9D0-15F4-486D-ABC1-684FD69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741A-7A9C-4069-B477-5E2CFBE1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0230-01B6-4D78-A77F-20807EE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7425-5365-4360-B5C7-6CEE878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B266-C093-40BE-A537-07118193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7A5-1ED1-424C-97C9-82BEE76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0A2-4A0C-4DEB-BC05-37212F7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856-2B0C-4741-BD10-6B73165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D60-D125-44A3-A63B-D421EB2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6877-5C1C-4B9A-BE7E-B549BA9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1CA-CDD8-4487-8F59-CBC1A07D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7BC-2EF8-4983-8AAC-5E2635E2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BED-CE68-4121-89D1-3927928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6E1-311B-46A9-B262-E79C590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728-BBC9-401B-A2EB-BDAD512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631-DFCC-434B-A9F4-96919CA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B98-6899-4D8F-8D72-7FECB60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C67-796E-46ED-B826-7DCE5C7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974-670B-4481-8B91-882854F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04920" y="2106720"/>
            <a:ext cx="8572320" cy="3686040"/>
            <a:chOff x="304920" y="2106720"/>
            <a:chExt cx="8572320" cy="3686040"/>
          </a:xfrm>
        </p:grpSpPr>
        <p:grpSp>
          <p:nvGrpSpPr>
            <p:cNvPr id="2" name=""/>
            <p:cNvGrpSpPr/>
            <p:nvPr/>
          </p:nvGrpSpPr>
          <p:grpSpPr>
            <a:xfrm>
              <a:off x="304920" y="2106720"/>
              <a:ext cx="8572320" cy="3686040"/>
              <a:chOff x="304920" y="2106720"/>
              <a:chExt cx="8572320" cy="3686040"/>
            </a:xfrm>
          </p:grpSpPr>
          <p:sp>
            <p:nvSpPr>
              <p:cNvPr id="3" name="圆角矩形 4"/>
              <p:cNvSpPr/>
              <p:nvPr/>
            </p:nvSpPr>
            <p:spPr>
              <a:xfrm>
                <a:off x="304920" y="2106720"/>
                <a:ext cx="8572320" cy="368604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圆角矩形 3"/>
              <p:cNvSpPr/>
              <p:nvPr/>
            </p:nvSpPr>
            <p:spPr>
              <a:xfrm>
                <a:off x="379440" y="2229480"/>
                <a:ext cx="8423280" cy="344052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Text Box 11"/>
            <p:cNvSpPr/>
            <p:nvPr/>
          </p:nvSpPr>
          <p:spPr>
            <a:xfrm>
              <a:off x="438120" y="3029400"/>
              <a:ext cx="8305920" cy="15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3BE-343C-457A-B803-3C748350C2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0" y="14479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564-6829-4826-817D-7FC7B10CD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24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0" y="46148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74520" y="510552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医学及相关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839880" y="64022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前 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dcterms:modified xsi:type="dcterms:W3CDTF">2015-01-11T07:34:4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