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188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432080"/>
            <a:ext cx="82292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0188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468240"/>
            <a:ext cx="64008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80480" y="5724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8040" y="5724360"/>
            <a:ext cx="44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8466120" cy="6119280"/>
            <a:chOff x="0" y="0"/>
            <a:chExt cx="8466120" cy="6119280"/>
          </a:xfrm>
        </p:grpSpPr>
        <p:sp>
          <p:nvSpPr>
            <p:cNvPr id="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529640"/>
              <a:ext cx="8466120" cy="458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7"/>
            <p:cNvSpPr/>
            <p:nvPr/>
          </p:nvSpPr>
          <p:spPr>
            <a:xfrm rot="20926800">
              <a:off x="1932120" y="318636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4:06:32Z</dcterms:created>
  <dc:creator>Administrator</dc:creator>
  <dc:description/>
  <dc:language>en-US</dc:language>
  <cp:lastModifiedBy/>
  <dcterms:modified xsi:type="dcterms:W3CDTF">2015-01-11T12:05:2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