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3F22-7E23-4E17-98F1-4D1B42139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55DE-9F45-4E9F-80C5-17661BA5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67EE-5ABB-42AA-8057-C79E59862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5AF5-35E5-4531-98A3-3AEDF4E38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004A-E29A-440B-8D04-1A3949072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B1A8-8999-4DC8-92B1-4025B7C3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99D1-4A30-44BC-9790-6593B13C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CFBD-EA5E-4406-9999-90E48ECD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EABC-4E17-4606-8582-946FD174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D012-896B-439B-9628-319CA133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94C5-762E-4A36-ABD1-194F7699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7919-4AF8-4129-AE49-6612FFCA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56CE-09CC-4767-8EDD-EFBCD7EC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A062-C909-48B6-BC53-1A3318FC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BB03-12BB-4869-99CD-E16665AE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6A91-CD35-44FA-8372-124BC6A9D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6DAB-1868-41FE-8570-B6AAC6A8D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871A-FCE4-4511-88C2-119C7577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D6A1-D239-4865-A759-E0C9B366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4BAB-DD54-40CC-905D-A88AFE54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23C0-D539-4D84-8C2C-765F5BA0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D6F6-9807-455D-B569-6792FACD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2816-43F1-4206-8615-1ABC3BFC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B055-A7DF-453F-8A6A-23C53A5C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95A1-2D2E-4832-8632-AEFFBECD52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8720" y="256536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AB5D-C141-4289-9F8C-67E11542B9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8720" y="256536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97080" y="3650760"/>
            <a:ext cx="64008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7401600" y="6450120"/>
            <a:ext cx="15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模板的使用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49544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3419640" y="3284640"/>
            <a:ext cx="279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8" name="WordArt 5"/>
          <p:cNvSpPr txBox="1"/>
          <p:nvPr/>
        </p:nvSpPr>
        <p:spPr>
          <a:xfrm>
            <a:off x="3897360" y="399888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57680" y="623556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1:28:58Z</dcterms:created>
  <dc:creator/>
  <dc:description/>
  <dc:language>en-US</dc:language>
  <cp:lastModifiedBy>雨林木风</cp:lastModifiedBy>
  <dcterms:modified xsi:type="dcterms:W3CDTF">2015-01-31T12:46:57Z</dcterms:modified>
  <cp:revision>34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