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4403388" cy="7199313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5E0-ADCA-4917-8F3C-A8ADCFE1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12960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20360" y="4161600"/>
            <a:ext cx="12960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D33E-5DED-456B-8F2F-EEB18E03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20360" y="416160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361280" y="416160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9408-0F75-4AC3-B0E8-8D3217BE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02640" y="167904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4560" y="167904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20360" y="416160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102640" y="416160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9484560" y="4161600"/>
            <a:ext cx="417312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B3E6-9CC4-46AF-AC2B-37AA54578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20360" y="1679040"/>
            <a:ext cx="12960360" cy="47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458A-C06D-4CAC-A26B-0FC46BC32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1296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D6AE-5CD1-4B5B-AE46-B2DB1B2A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BB58-BFB9-4FC3-A008-7FC1697E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4DBD-7906-4A8C-B518-937BFD70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20360" y="288720"/>
            <a:ext cx="1296036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4E91-BFCF-4B7B-9A1A-9ED01E33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20360" y="416160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56B-B15A-49C3-BAB9-0FAF5362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61280" y="416160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E93A-3BA0-4FDF-95F1-E6C58DE4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61280" y="1679040"/>
            <a:ext cx="63244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20360" y="4161600"/>
            <a:ext cx="1296036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50FE-5C97-42B1-BF87-1D54D0CB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473080" cy="7199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0360" y="1679040"/>
            <a:ext cx="1296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0360" y="6557760"/>
            <a:ext cx="3359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923000" y="6557760"/>
            <a:ext cx="455904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321560" y="6557760"/>
            <a:ext cx="3359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2E86-3B40-43C4-97DF-B6C7ACED4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73080" cy="7199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376200"/>
            <a:ext cx="6170760" cy="3905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76360" y="-930240"/>
            <a:ext cx="4248000" cy="3738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4905080" y="1152360"/>
            <a:ext cx="3313080" cy="2862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9721800" y="-34920"/>
            <a:ext cx="4896000" cy="3059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4680000" y="2879640"/>
            <a:ext cx="6192720" cy="3932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10441080" y="3600360"/>
            <a:ext cx="4967280" cy="4087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5545080" y="1655640"/>
            <a:ext cx="1582920" cy="1319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11665080" y="1944720"/>
            <a:ext cx="20304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-3554280" y="1008000"/>
            <a:ext cx="3554280" cy="650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1"/>
          <a:srcRect l="0" t="0" r="76247" b="0"/>
          <a:stretch/>
        </p:blipFill>
        <p:spPr>
          <a:xfrm>
            <a:off x="216000" y="2664000"/>
            <a:ext cx="3240000" cy="933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2"/>
          <a:srcRect l="24292" t="3067" r="53014" b="0"/>
          <a:stretch/>
        </p:blipFill>
        <p:spPr>
          <a:xfrm>
            <a:off x="2232000" y="3416400"/>
            <a:ext cx="3095640" cy="904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3"/>
          <a:srcRect l="47580" t="6308" r="30249" b="0"/>
          <a:stretch/>
        </p:blipFill>
        <p:spPr>
          <a:xfrm>
            <a:off x="4321080" y="4176720"/>
            <a:ext cx="3024360" cy="874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4"/>
          <a:srcRect l="70648" t="6134" r="6658" b="0"/>
          <a:stretch/>
        </p:blipFill>
        <p:spPr>
          <a:xfrm>
            <a:off x="6265800" y="4956120"/>
            <a:ext cx="3095640" cy="876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5"/>
          <a:stretch/>
        </p:blipFill>
        <p:spPr>
          <a:xfrm>
            <a:off x="11593440" y="1944720"/>
            <a:ext cx="189000" cy="270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6"/>
          <a:stretch/>
        </p:blipFill>
        <p:spPr>
          <a:xfrm>
            <a:off x="11315880" y="1816200"/>
            <a:ext cx="349200" cy="4888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7"/>
          <a:stretch/>
        </p:blipFill>
        <p:spPr>
          <a:xfrm>
            <a:off x="11377440" y="1800360"/>
            <a:ext cx="225720" cy="603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8"/>
          <a:stretch/>
        </p:blipFill>
        <p:spPr>
          <a:xfrm>
            <a:off x="11593440" y="1944720"/>
            <a:ext cx="216000" cy="203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012840" y="66960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834 -0.03618 C -0.1181 -0.03088 -0.10785 -0.02559 -0.13661 -0.04324 C -0.16536 -0.06088 -0.23752 -0.14868 -0.30131 -0.14207 C -0.36488 -0.13545 -0.44794 -0.00529 -0.51845 -0.00331 C -0.58918 -0.00132 -0.64933 -0.12839 -0.72535 -0.13037 C -0.80136 -0.13236 -0.93257 -0.03463 -0.97444 -0.015 E">
                                      <p:cBhvr>
                                        <p:cTn id="12" dur="6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" autoRev="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9859E-006 -1.81337E-006 L 0.06346 0.02361 L 0.07294 0.06354 L 0.03768 0.09663 L 6.39859E-006 0.10126 L -0.05398 0.11075 L -0.09628 0.10126 L -0.12922 0.08008 L -0.17858 0.0706 L -0.19389 0.04015 L -0.19268 0.02361 L -0.17737 0.01412 L -0.15159 -0.0022 L -0.10807 -0.00463 L -0.08339 -0.00706 L -0.03877 -0.00706 L 6.39859E-006 -1.81337E-006 Z">
                                      <p:cBhvr>
                                        <p:cTn id="21" dur="8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925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1925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192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1925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300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6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9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356 0.00861 L 0.95307 0.01853 E">
                                      <p:cBhvr>
                                        <p:cTn id="45" dur="10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9000"/>
                            </p:stCondLst>
                            <p:childTnLst>
                              <p:par>
                                <p:cTn id="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200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5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8000"/>
                            </p:stCondLst>
                            <p:childTnLst>
                              <p:par>
                                <p:cTn id="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1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1500"/>
                            </p:stCondLst>
                            <p:childTnLst>
                              <p:par>
                                <p:cTn id="75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38836E-006 -3.89195E-006 C -0.02503 -0.02513 -0.05006 -0.05005 -0.08546 -0.0463 C -0.12085 -0.04255 -0.17444 0.02514 -0.21248 0.02294 C -0.25053 0.02073 -0.28041 -0.03947 -0.31404 -0.06019 C -0.34767 -0.08092 -0.39354 -0.09503 -0.41449 -0.10165 C -0.43544 -0.10827 -0.43688 -0.09989 -0.43996 -0.09944 C -0.44305 -0.099 -0.43809 -0.09922 -0.43302 -0.09944 E">
                                      <p:cBhvr>
                                        <p:cTn id="7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3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4000"/>
                            </p:stCondLst>
                            <p:childTnLst>
                              <p:par>
                                <p:cTn id="82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95 -0.00948 C -0.02018 -0.03969 -0.03341 -0.0699 -0.06462 -0.06946 C -0.09582 -0.06901 -0.16066 -0.01124 -0.19396 -0.00705 C -0.22726 -0.00286 -0.2352 -0.02822 -0.26442 -0.0441 C -0.29364 -0.05997 -0.35109 -0.09195 -0.3695 -0.10187 E">
                                      <p:cBhvr>
                                        <p:cTn id="83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6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66500"/>
                            </p:stCondLst>
                            <p:childTnLst>
                              <p:par>
                                <p:cTn id="89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41 -0.01874 C -0.05811 -0.03462 -0.09681 -0.05027 -0.12681 -0.0441 C -0.1568 -0.03792 -0.16959 0.02205 -0.19958 0.01831 C -0.22957 0.01456 -0.28813 -0.05292 -0.30698 -0.06725 E">
                                      <p:cBhvr>
                                        <p:cTn id="90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68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9000"/>
                            </p:stCondLst>
                            <p:childTnLst>
                              <p:par>
                                <p:cTn id="96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29 -0.02866 C -0.01621 -0.04454 -0.0194 -0.0602 -0.03936 -0.05645 C -0.05932 -0.0527 -0.10376 -0.00904 -0.13298 -0.00551 C -0.1622 -0.00198 -0.19583 -0.02756 -0.2149 -0.03572 C -0.23398 -0.04388 -0.24324 -0.05204 -0.24732 -0.05402 C -0.2514 -0.05601 -0.24534 -0.0516 -0.23916 -0.04719 E">
                                      <p:cBhvr>
                                        <p:cTn id="97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1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71500"/>
                            </p:stCondLst>
                            <p:childTnLst>
                              <p:par>
                                <p:cTn id="103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0151E-006 3.49504E-006 C -0.01753 -0.01323 -0.03506 -0.02624 -0.05425 -0.01853 C -0.07343 -0.01081 -0.09295 0.04101 -0.11545 0.0463 C -0.13794 0.0516 -0.17775 0.01896 -0.18932 0.01389 E">
                                      <p:cBhvr>
                                        <p:cTn id="104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0360" y="288720"/>
            <a:ext cx="1296036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幼圆"/>
              </a:rPr>
              <a:t>中秋祝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360" y="1679040"/>
            <a:ext cx="129603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每逢佳节倍思亲，想邀明月致安慰。远处的亲人，你们好吗</a:t>
            </a:r>
            <a:r>
              <a:rPr b="0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?</a:t>
            </a:r>
            <a:r>
              <a:rPr b="0" lang="zh-CN" sz="3200" spc="-1" strike="noStrike">
                <a:solidFill>
                  <a:srgbClr val="ffffff"/>
                </a:solidFill>
                <a:latin typeface="幼圆"/>
                <a:ea typeface="幼圆"/>
              </a:rPr>
              <a:t>阖家团聚的中秋佳节，发自内心的真挚问候，小小短信，传递着深深的祝福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13335120" cy="7200720"/>
            <a:chOff x="0" y="0"/>
            <a:chExt cx="13335120" cy="7200720"/>
          </a:xfrm>
        </p:grpSpPr>
        <p:sp>
          <p:nvSpPr>
            <p:cNvPr id="64" name="矩形 4"/>
            <p:cNvSpPr/>
            <p:nvPr/>
          </p:nvSpPr>
          <p:spPr>
            <a:xfrm>
              <a:off x="28497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800000"/>
              <a:ext cx="1333512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Box 7"/>
            <p:cNvSpPr/>
            <p:nvPr/>
          </p:nvSpPr>
          <p:spPr>
            <a:xfrm rot="20926800">
              <a:off x="2959200" y="3756960"/>
              <a:ext cx="735120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1T03:07:50Z</dcterms:created>
  <dc:creator/>
  <dc:description/>
  <dc:language>en-US</dc:language>
  <cp:lastModifiedBy>Beer</cp:lastModifiedBy>
  <dcterms:modified xsi:type="dcterms:W3CDTF">2015-01-11T06:53:15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