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9C6-A4EE-4BF1-A98B-AB0C3952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4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7A4-06DA-45C3-A7ED-13D56790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533-AF96-4E65-B37B-7E8EC651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FC7-2976-45A2-BF5E-D42E6843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84E5-2549-47DB-82C0-594EA0D1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96D6-F49D-49E4-8CAD-C66B4E73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F9FC-461F-4AE7-AC25-2014A06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6D82-9AF4-4714-A23A-13651F9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443-3A7E-4F88-AA38-21E0A448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9953-7A2C-4BD7-B126-7AAB7A78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94EF-EDFE-411D-9CBA-D525222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350-16D6-45BE-BCCF-B1A60531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77A-2988-4FA1-B99E-55E08FA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9609-5F08-460F-9D3A-63C71222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4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4154-003F-436F-969C-4104A18D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CACE-9C36-4AD2-A7E9-E9A50311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C7A2-8793-4DD8-BB36-903AF21B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CF1-E883-42E4-922F-3E448E6C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06A-1717-49AA-95F4-9A96FE28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FE4-80B5-411A-8295-F24FE881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4D1-65BF-4D19-982E-AA4A2505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905-33EA-4C9E-BCD2-14677BE6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102-2B37-439E-8943-09BCC46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29E-D397-4D32-8653-66C34DE2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80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B8B9-6217-4E00-8A41-29462AABF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611280" y="26028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0907-FD78-4BB6-82B1-BB7D8615E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墨绿清新商务演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60360" y="3357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删除与替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93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97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01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36880" y="1676520"/>
            <a:ext cx="5343480" cy="656640"/>
            <a:chOff x="2036880" y="1676520"/>
            <a:chExt cx="5343480" cy="656640"/>
          </a:xfrm>
        </p:grpSpPr>
        <p:sp>
          <p:nvSpPr>
            <p:cNvPr id="107" name=""/>
            <p:cNvSpPr/>
            <p:nvPr/>
          </p:nvSpPr>
          <p:spPr>
            <a:xfrm>
              <a:off x="2036880" y="206028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93120" y="1676520"/>
              <a:ext cx="5187240" cy="5281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62760" y="169992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36880" y="2614680"/>
            <a:ext cx="5343480" cy="655560"/>
            <a:chOff x="2036880" y="2614680"/>
            <a:chExt cx="5343480" cy="655560"/>
          </a:xfrm>
        </p:grpSpPr>
        <p:sp>
          <p:nvSpPr>
            <p:cNvPr id="111" name=""/>
            <p:cNvSpPr/>
            <p:nvPr/>
          </p:nvSpPr>
          <p:spPr>
            <a:xfrm>
              <a:off x="2036880" y="2997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3120" y="261468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2760" y="263700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35280" y="1413000"/>
            <a:ext cx="895320" cy="925560"/>
            <a:chOff x="1835280" y="1413000"/>
            <a:chExt cx="895320" cy="925560"/>
          </a:xfrm>
        </p:grpSpPr>
        <p:sp>
          <p:nvSpPr>
            <p:cNvPr id="115" name="未知"/>
            <p:cNvSpPr/>
            <p:nvPr/>
          </p:nvSpPr>
          <p:spPr>
            <a:xfrm>
              <a:off x="1835280" y="14130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1899000" y="14464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35280" y="2351160"/>
            <a:ext cx="895320" cy="925560"/>
            <a:chOff x="1835280" y="2351160"/>
            <a:chExt cx="895320" cy="925560"/>
          </a:xfrm>
        </p:grpSpPr>
        <p:sp>
          <p:nvSpPr>
            <p:cNvPr id="118" name="未知"/>
            <p:cNvSpPr/>
            <p:nvPr/>
          </p:nvSpPr>
          <p:spPr>
            <a:xfrm>
              <a:off x="1835280" y="23511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1899000" y="23846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2160720" y="1646280"/>
            <a:ext cx="214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60720" y="258444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35280" y="3289320"/>
            <a:ext cx="5545080" cy="923760"/>
            <a:chOff x="1835280" y="3289320"/>
            <a:chExt cx="5545080" cy="923760"/>
          </a:xfrm>
        </p:grpSpPr>
        <p:grpSp>
          <p:nvGrpSpPr>
            <p:cNvPr id="123" name=""/>
            <p:cNvGrpSpPr/>
            <p:nvPr/>
          </p:nvGrpSpPr>
          <p:grpSpPr>
            <a:xfrm>
              <a:off x="2036520" y="3552480"/>
              <a:ext cx="5343840" cy="652680"/>
              <a:chOff x="2036520" y="3552480"/>
              <a:chExt cx="5343840" cy="652680"/>
            </a:xfrm>
          </p:grpSpPr>
          <p:sp>
            <p:nvSpPr>
              <p:cNvPr id="124" name=""/>
              <p:cNvSpPr/>
              <p:nvPr/>
            </p:nvSpPr>
            <p:spPr>
              <a:xfrm>
                <a:off x="2036520" y="3932640"/>
                <a:ext cx="5315040" cy="272520"/>
              </a:xfrm>
              <a:prstGeom prst="rect">
                <a:avLst/>
              </a:prstGeom>
              <a:gradFill rotWithShape="0">
                <a:gsLst>
                  <a:gs pos="0">
                    <a:srgbClr val="080808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92760" y="3552480"/>
                <a:ext cx="5187600" cy="52740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216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</a:rPr>
                  <a:t>单击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62400" y="3572640"/>
                <a:ext cx="4895640" cy="32328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835280" y="3289320"/>
              <a:ext cx="895320" cy="923760"/>
              <a:chOff x="1835280" y="3289320"/>
              <a:chExt cx="895320" cy="923760"/>
            </a:xfrm>
          </p:grpSpPr>
          <p:sp>
            <p:nvSpPr>
              <p:cNvPr id="128" name="未知"/>
              <p:cNvSpPr/>
              <p:nvPr/>
            </p:nvSpPr>
            <p:spPr>
              <a:xfrm>
                <a:off x="1835280" y="3289320"/>
                <a:ext cx="895320" cy="923760"/>
              </a:xfrm>
              <a:custGeom>
                <a:avLst/>
                <a:gdLst/>
                <a:ahLst/>
                <a:rect l="l" t="t" r="r" b="b"/>
                <a:pathLst>
                  <a:path w="1752" h="1812">
                    <a:moveTo>
                      <a:pt x="1262" y="1812"/>
                    </a:moveTo>
                    <a:lnTo>
                      <a:pt x="0" y="1356"/>
                    </a:lnTo>
                    <a:lnTo>
                      <a:pt x="491" y="0"/>
                    </a:lnTo>
                    <a:lnTo>
                      <a:pt x="1752" y="458"/>
                    </a:lnTo>
                    <a:lnTo>
                      <a:pt x="1262" y="18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8f8f8"/>
                  </a:gs>
                </a:gsLst>
                <a:lin ang="135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1899000" y="3322800"/>
                <a:ext cx="798120" cy="774000"/>
              </a:xfrm>
              <a:custGeom>
                <a:avLst/>
                <a:gdLst/>
                <a:ahLst/>
                <a:rect l="l" t="t" r="r" b="b"/>
                <a:pathLst>
                  <a:path w="1562" h="1518">
                    <a:moveTo>
                      <a:pt x="1166" y="1518"/>
                    </a:moveTo>
                    <a:lnTo>
                      <a:pt x="0" y="1095"/>
                    </a:lnTo>
                    <a:lnTo>
                      <a:pt x="397" y="0"/>
                    </a:lnTo>
                    <a:lnTo>
                      <a:pt x="1562" y="422"/>
                    </a:lnTo>
                    <a:lnTo>
                      <a:pt x="1166" y="1518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 txBox="1"/>
            <p:nvPr/>
          </p:nvSpPr>
          <p:spPr>
            <a:xfrm>
              <a:off x="2160360" y="3521880"/>
              <a:ext cx="285480" cy="361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35280" y="4365720"/>
            <a:ext cx="5545080" cy="923760"/>
            <a:chOff x="1835280" y="4365720"/>
            <a:chExt cx="5545080" cy="923760"/>
          </a:xfrm>
        </p:grpSpPr>
        <p:grpSp>
          <p:nvGrpSpPr>
            <p:cNvPr id="132" name=""/>
            <p:cNvGrpSpPr/>
            <p:nvPr/>
          </p:nvGrpSpPr>
          <p:grpSpPr>
            <a:xfrm>
              <a:off x="2036520" y="4628880"/>
              <a:ext cx="5343840" cy="652680"/>
              <a:chOff x="2036520" y="4628880"/>
              <a:chExt cx="5343840" cy="652680"/>
            </a:xfrm>
          </p:grpSpPr>
          <p:sp>
            <p:nvSpPr>
              <p:cNvPr id="133" name=""/>
              <p:cNvSpPr/>
              <p:nvPr/>
            </p:nvSpPr>
            <p:spPr>
              <a:xfrm>
                <a:off x="2036520" y="5009040"/>
                <a:ext cx="5315040" cy="272520"/>
              </a:xfrm>
              <a:prstGeom prst="rect">
                <a:avLst/>
              </a:prstGeom>
              <a:gradFill rotWithShape="0">
                <a:gsLst>
                  <a:gs pos="0">
                    <a:srgbClr val="080808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92760" y="4628880"/>
                <a:ext cx="5187600" cy="52740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216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</a:rPr>
                  <a:t>单击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62400" y="4649040"/>
                <a:ext cx="4895640" cy="32328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835280" y="4365720"/>
              <a:ext cx="895320" cy="923760"/>
              <a:chOff x="1835280" y="4365720"/>
              <a:chExt cx="895320" cy="923760"/>
            </a:xfrm>
          </p:grpSpPr>
          <p:sp>
            <p:nvSpPr>
              <p:cNvPr id="137" name="未知"/>
              <p:cNvSpPr/>
              <p:nvPr/>
            </p:nvSpPr>
            <p:spPr>
              <a:xfrm>
                <a:off x="1835280" y="4365720"/>
                <a:ext cx="895320" cy="923760"/>
              </a:xfrm>
              <a:custGeom>
                <a:avLst/>
                <a:gdLst/>
                <a:ahLst/>
                <a:rect l="l" t="t" r="r" b="b"/>
                <a:pathLst>
                  <a:path w="1752" h="1812">
                    <a:moveTo>
                      <a:pt x="1262" y="1812"/>
                    </a:moveTo>
                    <a:lnTo>
                      <a:pt x="0" y="1356"/>
                    </a:lnTo>
                    <a:lnTo>
                      <a:pt x="491" y="0"/>
                    </a:lnTo>
                    <a:lnTo>
                      <a:pt x="1752" y="458"/>
                    </a:lnTo>
                    <a:lnTo>
                      <a:pt x="1262" y="18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8f8f8"/>
                  </a:gs>
                </a:gsLst>
                <a:lin ang="135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1899000" y="4399200"/>
                <a:ext cx="798120" cy="774000"/>
              </a:xfrm>
              <a:custGeom>
                <a:avLst/>
                <a:gdLst/>
                <a:ahLst/>
                <a:rect l="l" t="t" r="r" b="b"/>
                <a:pathLst>
                  <a:path w="1562" h="1518">
                    <a:moveTo>
                      <a:pt x="1166" y="1518"/>
                    </a:moveTo>
                    <a:lnTo>
                      <a:pt x="0" y="1095"/>
                    </a:lnTo>
                    <a:lnTo>
                      <a:pt x="397" y="0"/>
                    </a:lnTo>
                    <a:lnTo>
                      <a:pt x="1562" y="422"/>
                    </a:lnTo>
                    <a:lnTo>
                      <a:pt x="1166" y="1518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 txBox="1"/>
            <p:nvPr/>
          </p:nvSpPr>
          <p:spPr>
            <a:xfrm>
              <a:off x="2160360" y="4598280"/>
              <a:ext cx="285480" cy="361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感谢您的关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60360" y="3357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署名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27:32Z</dcterms:created>
  <dc:creator/>
  <dc:description/>
  <dc:language>en-US</dc:language>
  <cp:lastModifiedBy/>
  <dcterms:modified xsi:type="dcterms:W3CDTF">2015-01-10T12:53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