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077FC-785D-47D9-992D-35900CFC9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C38C1-210B-4534-BB2D-30766996E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F544B-DC35-478C-B1DB-8B71746D2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6C757-A48F-4C67-BDC2-E55EAA295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4294D-7934-4AC4-AAC1-4F67599D0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1ADC3-093D-49B2-9A38-AE2DF311D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DBF6F-7D10-4F5C-BF04-E3C68DE73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AEF64-2D3C-409F-A8BC-ECE9EE23D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2471C-A66A-48F6-9DE4-63BBDF9A2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A38EA-DCE5-4DFB-ACBC-68C158977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EB425-DFBA-4AD0-9F52-9C3D35F7E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00D0C-50D1-425F-B696-9D3DBD858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40D76-B167-40B7-9E01-666B71E68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A4EA5-8FAC-45BA-8681-76398C877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CCC17-4414-4BD7-AD56-C7CF1122E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6629D-DCA9-475D-A2E0-5531C87D2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A41B6-9542-4DE5-A069-C05A4BF3C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BCC33-2A5E-4942-BF07-5E8919BA0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F9C5C-28F2-4DDA-BA63-11B0D6AAE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86CF6-6ED2-44DC-93FC-BDAD81D4F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49ADB-4F59-48DA-9683-F79A4C585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77479-BE87-44DD-B434-C4A2A68AE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512AA-A471-451D-A5F5-2B740C490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8B51E-13C7-4EED-B8D2-44D5814E3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0" b="5318"/>
          <a:stretch/>
        </p:blipFill>
        <p:spPr>
          <a:xfrm>
            <a:off x="0" y="-60480"/>
            <a:ext cx="9144000" cy="69184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2722B-51BB-4322-B9DD-0398CDDD82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098E1-1A82-4B27-84F8-5BE89C5A8B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0" y="5495760"/>
            <a:ext cx="9144000" cy="1362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92160" y="1371240"/>
            <a:ext cx="723744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085880" y="655308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30T07:02:19Z</dcterms:created>
  <dc:creator/>
  <dc:description/>
  <dc:language>en-US</dc:language>
  <cp:lastModifiedBy>微软用户</cp:lastModifiedBy>
  <dcterms:modified xsi:type="dcterms:W3CDTF">2015-01-10T12:21:15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  <property fmtid="{D5CDD505-2E9C-101B-9397-08002B2CF9AE}" pid="3" name="Version">
    <vt:r8>1</vt:r8>
  </property>
</Properties>
</file>