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8B3-ECB2-4000-9505-7AA2A3FD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65E-F744-4511-B88E-3829F78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12F9-4AB6-49B1-B523-B16860BE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DA6-BE52-41C8-AF3C-A5BA494A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F10-BABF-471D-8F7F-E155FEA8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CD4-362A-4E68-897B-9B8CF20F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EFB-FDAA-4832-8689-590E4CB2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BA2-8ECA-4D72-99FB-859C500A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416-F2D2-4539-BC19-34495E56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2A6-9000-4ED4-8C14-218EEF95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F6F-8457-41A9-B2ED-316C153E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E50-CF01-4F7B-A743-526567F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5281-0E7B-4ADC-9DB5-174F5DF53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47680" y="-22320"/>
            <a:ext cx="9137520" cy="6851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-31680" y="-706320"/>
            <a:ext cx="6475320" cy="485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2532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7:48:07Z</dcterms:created>
  <dc:creator/>
  <dc:description/>
  <dc:language>en-US</dc:language>
  <cp:lastModifiedBy/>
  <dcterms:modified xsi:type="dcterms:W3CDTF">2015-01-10T09:1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