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288588" cy="6951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92581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4017600"/>
            <a:ext cx="92581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816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4280" y="162216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4480" y="162216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401760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4280" y="401760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74480" y="401760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080" y="1622160"/>
            <a:ext cx="925812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9258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14080" y="279000"/>
            <a:ext cx="925812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08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622160"/>
            <a:ext cx="925812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816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4017600"/>
            <a:ext cx="92581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92581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080" y="4017600"/>
            <a:ext cx="92581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08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816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4280" y="162216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4480" y="162216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080" y="401760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4280" y="401760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4480" y="4017600"/>
            <a:ext cx="2980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9258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080" y="279000"/>
            <a:ext cx="925812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8160" y="401760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622160"/>
            <a:ext cx="45176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4017600"/>
            <a:ext cx="92581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97ab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94000"/>
            <a:ext cx="9713880" cy="45720"/>
          </a:xfrm>
          <a:prstGeom prst="rect">
            <a:avLst/>
          </a:prstGeom>
          <a:solidFill>
            <a:srgbClr val="01d3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-360" bIns="-36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417600"/>
            <a:ext cx="2187360" cy="847080"/>
            <a:chOff x="0" y="417600"/>
            <a:chExt cx="2187360" cy="847080"/>
          </a:xfrm>
        </p:grpSpPr>
        <p:sp>
          <p:nvSpPr>
            <p:cNvPr id="2" name=""/>
            <p:cNvSpPr/>
            <p:nvPr/>
          </p:nvSpPr>
          <p:spPr>
            <a:xfrm>
              <a:off x="0" y="1051560"/>
              <a:ext cx="218736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93000" y="417600"/>
              <a:ext cx="816120" cy="5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"/>
          <p:cNvSpPr/>
          <p:nvPr/>
        </p:nvSpPr>
        <p:spPr>
          <a:xfrm>
            <a:off x="9391680" y="6362640"/>
            <a:ext cx="55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4080" y="1622160"/>
            <a:ext cx="9258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spcAft>
                <a:spcPts val="649"/>
              </a:spcAft>
              <a:buClr>
                <a:srgbClr val="01d3ff"/>
              </a:buClr>
              <a:buSzPct val="90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342720">
              <a:spcAft>
                <a:spcPts val="649"/>
              </a:spcAft>
              <a:buClr>
                <a:srgbClr val="01d3ff"/>
              </a:buClr>
              <a:buSzPct val="90000"/>
              <a:buFont typeface="Wingdings" charset="2"/>
              <a:buChar char="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342720">
              <a:spcAft>
                <a:spcPts val="649"/>
              </a:spcAft>
              <a:buClr>
                <a:srgbClr val="01d3ff"/>
              </a:buClr>
              <a:buSzPct val="90000"/>
              <a:buFont typeface="Wingdings" charset="2"/>
              <a:buChar char="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5440" indent="-279360">
              <a:spcAft>
                <a:spcPts val="649"/>
              </a:spcAft>
              <a:buClr>
                <a:srgbClr val="01d3ff"/>
              </a:buClr>
              <a:buSzPct val="90000"/>
              <a:buFont typeface="Wingdings" charset="2"/>
              <a:buChar char="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765440" indent="-279360">
              <a:spcAft>
                <a:spcPts val="649"/>
              </a:spcAft>
              <a:buClr>
                <a:srgbClr val="ffffff"/>
              </a:buClr>
              <a:buSzPct val="90000"/>
              <a:buFont typeface="Wingdings" charset="2"/>
              <a:buChar char="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765440" indent="-279360">
              <a:spcAft>
                <a:spcPts val="649"/>
              </a:spcAft>
              <a:buClr>
                <a:srgbClr val="ffffff"/>
              </a:buClr>
              <a:buSzPct val="90000"/>
              <a:buFont typeface="Wingdings" charset="2"/>
              <a:buChar char="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94000"/>
            <a:ext cx="9713880" cy="45720"/>
          </a:xfrm>
          <a:prstGeom prst="rect">
            <a:avLst/>
          </a:prstGeom>
          <a:solidFill>
            <a:srgbClr val="01d3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-360" bIns="-36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91680" y="6362640"/>
            <a:ext cx="55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2158560"/>
            <a:ext cx="874404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14440" y="1626480"/>
            <a:ext cx="9259560" cy="40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700"/>
              </a:spcAft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71680" algn="ctr">
              <a:spcBef>
                <a:spcPts val="550"/>
              </a:spcBef>
              <a:buClr>
                <a:srgbClr val="01d3ff"/>
              </a:buClr>
              <a:buSzPct val="90000"/>
              <a:buFont typeface="Wingdings" charset="2"/>
              <a:buChar char="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8880" algn="ctr">
              <a:spcBef>
                <a:spcPts val="499"/>
              </a:spcBef>
              <a:buClr>
                <a:srgbClr val="01d3ff"/>
              </a:buClr>
              <a:buSzPct val="90000"/>
              <a:buFont typeface="Wingdings" charset="2"/>
              <a:buChar char=""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6080" algn="ctr">
              <a:spcBef>
                <a:spcPts val="451"/>
              </a:spcBef>
              <a:buClr>
                <a:srgbClr val="01d3ff"/>
              </a:buClr>
              <a:buSzPct val="90000"/>
              <a:buFont typeface="Wingdings" charset="2"/>
              <a:buChar char=""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486080"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486080"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2158560"/>
            <a:ext cx="874404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4000" spc="-1" strike="noStrike">
                <a:solidFill>
                  <a:srgbClr val="fafd00"/>
                </a:solidFill>
                <a:latin typeface="Times New Roman"/>
              </a:rPr>
              <a:t>全球版图商务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afd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2600" y="393840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22560" y="64119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97ab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080" y="279000"/>
            <a:ext cx="92581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080" y="1622160"/>
            <a:ext cx="9258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524880" cy="6950160"/>
            <a:chOff x="0" y="0"/>
            <a:chExt cx="9524880" cy="6950160"/>
          </a:xfrm>
        </p:grpSpPr>
        <p:sp>
          <p:nvSpPr>
            <p:cNvPr id="89" name="矩形 4"/>
            <p:cNvSpPr/>
            <p:nvPr/>
          </p:nvSpPr>
          <p:spPr>
            <a:xfrm>
              <a:off x="10720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37360"/>
              <a:ext cx="9524880" cy="52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2158200" y="3620520"/>
              <a:ext cx="52506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11:28:04Z</dcterms:created>
  <dc:creator/>
  <dc:description/>
  <dc:language>en-US</dc:language>
  <cp:lastModifiedBy>GZB</cp:lastModifiedBy>
  <cp:lastPrinted>2002-11-30T21:05:45Z</cp:lastPrinted>
  <dcterms:modified xsi:type="dcterms:W3CDTF">2015-01-10T09:32:56Z</dcterms:modified>
  <cp:revision>107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