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2601-72E7-4823-A450-655E3CF84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1744-229D-44C4-9757-834C8FDB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C010-D000-44CE-936F-C46B4C3A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C275-B4C1-4162-8D82-163BF47D1F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1F26B-CE00-4D72-9B18-CA7ADF3784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60719-F3A5-41DB-A087-D6318625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58EA2-6A02-4819-92D9-62B4141B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F15F1-AB97-4E4E-85C2-512B7D8C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CB64F-367A-4B83-8A0E-541358A6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4AF96-02F7-4A66-A2A5-D382E320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E493B-0E71-4A44-A94D-B44E9EE7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7493-4945-4730-87DB-FF13FA38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2F825-ED0D-4088-B9C6-64F4B0E4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2AF8E-56EA-4D65-9955-9AFA6B1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17F15-8CB0-46DC-8ACD-EB35A972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C784F-BAC1-4752-9BA2-802FF88F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739FD-9C2F-4843-BE4D-7B7134F4A0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3F07-D6BB-4A81-B138-C11BED9C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CFC7-CEC8-48C9-9DA4-9063F9F3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EC82-8ECA-4B0F-950D-96620FB3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69B0-0BF5-4114-8950-1E60459D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83616-46A9-408C-B590-9F4291F9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0F0A-2204-4702-A65B-4D10ED0A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4261-667E-4391-A485-B493C21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A273-B863-4054-91BD-01221EB96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4397" r="0" b="64259"/>
          <a:stretch/>
        </p:blipFill>
        <p:spPr>
          <a:xfrm>
            <a:off x="28440" y="4930920"/>
            <a:ext cx="9102960" cy="1919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1680" y="4205160"/>
            <a:ext cx="9083880" cy="1892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1400" y="4673520"/>
            <a:ext cx="9032760" cy="1892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9080" y="4824360"/>
            <a:ext cx="9129600" cy="1893960"/>
          </a:xfrm>
          <a:prstGeom prst="rect">
            <a:avLst/>
          </a:prstGeom>
          <a:ln w="0">
            <a:noFill/>
          </a:ln>
        </p:spPr>
      </p:pic>
      <p:pic>
        <p:nvPicPr>
          <p:cNvPr id="8" name="图片 10" descr="1.png"/>
          <p:cNvPicPr/>
          <p:nvPr/>
        </p:nvPicPr>
        <p:blipFill>
          <a:blip r:embed="rId6"/>
          <a:stretch/>
        </p:blipFill>
        <p:spPr>
          <a:xfrm>
            <a:off x="1978200" y="6186600"/>
            <a:ext cx="631800" cy="600120"/>
          </a:xfrm>
          <a:prstGeom prst="rect">
            <a:avLst/>
          </a:prstGeom>
          <a:ln w="0">
            <a:noFill/>
          </a:ln>
        </p:spPr>
      </p:pic>
      <p:pic>
        <p:nvPicPr>
          <p:cNvPr id="9" name="图片 11" descr="1.png"/>
          <p:cNvPicPr/>
          <p:nvPr/>
        </p:nvPicPr>
        <p:blipFill>
          <a:blip r:embed="rId7"/>
          <a:stretch/>
        </p:blipFill>
        <p:spPr>
          <a:xfrm rot="20010600">
            <a:off x="2759040" y="538020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2" descr="1.png"/>
          <p:cNvPicPr/>
          <p:nvPr/>
        </p:nvPicPr>
        <p:blipFill>
          <a:blip r:embed="rId8"/>
          <a:stretch/>
        </p:blipFill>
        <p:spPr>
          <a:xfrm rot="20010600">
            <a:off x="5614920" y="4770000"/>
            <a:ext cx="584280" cy="55260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3" descr="1.png"/>
          <p:cNvPicPr/>
          <p:nvPr/>
        </p:nvPicPr>
        <p:blipFill>
          <a:blip r:embed="rId9"/>
          <a:stretch/>
        </p:blipFill>
        <p:spPr>
          <a:xfrm rot="20010600">
            <a:off x="5690880" y="5719680"/>
            <a:ext cx="912600" cy="860400"/>
          </a:xfrm>
          <a:prstGeom prst="rect">
            <a:avLst/>
          </a:prstGeom>
          <a:ln w="0">
            <a:noFill/>
          </a:ln>
        </p:spPr>
      </p:pic>
      <p:pic>
        <p:nvPicPr>
          <p:cNvPr id="12" name="图片 14" descr="1.png"/>
          <p:cNvPicPr/>
          <p:nvPr/>
        </p:nvPicPr>
        <p:blipFill>
          <a:blip r:embed="rId10"/>
          <a:stretch/>
        </p:blipFill>
        <p:spPr>
          <a:xfrm rot="20010600">
            <a:off x="5032080" y="3952440"/>
            <a:ext cx="438120" cy="412920"/>
          </a:xfrm>
          <a:prstGeom prst="rect">
            <a:avLst/>
          </a:prstGeom>
          <a:ln w="0">
            <a:noFill/>
          </a:ln>
        </p:spPr>
      </p:pic>
      <p:pic>
        <p:nvPicPr>
          <p:cNvPr id="13" name="图片 15" descr="1.png"/>
          <p:cNvPicPr/>
          <p:nvPr/>
        </p:nvPicPr>
        <p:blipFill>
          <a:blip r:embed="rId11"/>
          <a:stretch/>
        </p:blipFill>
        <p:spPr>
          <a:xfrm rot="20010600">
            <a:off x="4609800" y="5543280"/>
            <a:ext cx="374760" cy="352440"/>
          </a:xfrm>
          <a:prstGeom prst="rect">
            <a:avLst/>
          </a:prstGeom>
          <a:ln w="0">
            <a:noFill/>
          </a:ln>
        </p:spPr>
      </p:pic>
      <p:pic>
        <p:nvPicPr>
          <p:cNvPr id="14" name="图片 16" descr="1.png"/>
          <p:cNvPicPr/>
          <p:nvPr/>
        </p:nvPicPr>
        <p:blipFill>
          <a:blip r:embed="rId12"/>
          <a:stretch/>
        </p:blipFill>
        <p:spPr>
          <a:xfrm rot="20010600">
            <a:off x="3841560" y="6401880"/>
            <a:ext cx="27756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600" y="2854440"/>
            <a:ext cx="9122040" cy="189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0" t="0" r="0" b="34275"/>
          <a:stretch/>
        </p:blipFill>
        <p:spPr>
          <a:xfrm>
            <a:off x="12600" y="2827440"/>
            <a:ext cx="9131400" cy="4025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9040" y="628560"/>
            <a:ext cx="6969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4994-1548-432D-B32E-EE977FF00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600" y="2789280"/>
            <a:ext cx="9122040" cy="18921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0" descr="1.png"/>
          <p:cNvPicPr/>
          <p:nvPr/>
        </p:nvPicPr>
        <p:blipFill>
          <a:blip r:embed="rId5"/>
          <a:stretch/>
        </p:blipFill>
        <p:spPr>
          <a:xfrm>
            <a:off x="2311560" y="5489640"/>
            <a:ext cx="63180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1.png"/>
          <p:cNvPicPr/>
          <p:nvPr/>
        </p:nvPicPr>
        <p:blipFill>
          <a:blip r:embed="rId6"/>
          <a:stretch/>
        </p:blipFill>
        <p:spPr>
          <a:xfrm rot="20010600">
            <a:off x="4595760" y="574524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2" descr="1.png"/>
          <p:cNvPicPr/>
          <p:nvPr/>
        </p:nvPicPr>
        <p:blipFill>
          <a:blip r:embed="rId7"/>
          <a:stretch/>
        </p:blipFill>
        <p:spPr>
          <a:xfrm rot="20010600">
            <a:off x="5614920" y="4770000"/>
            <a:ext cx="58428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" descr="1.png"/>
          <p:cNvPicPr/>
          <p:nvPr/>
        </p:nvPicPr>
        <p:blipFill>
          <a:blip r:embed="rId8"/>
          <a:stretch/>
        </p:blipFill>
        <p:spPr>
          <a:xfrm rot="20010600">
            <a:off x="1098720" y="429408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4" descr="1.png"/>
          <p:cNvPicPr/>
          <p:nvPr/>
        </p:nvPicPr>
        <p:blipFill>
          <a:blip r:embed="rId9"/>
          <a:stretch/>
        </p:blipFill>
        <p:spPr>
          <a:xfrm rot="20010600">
            <a:off x="5032080" y="3952440"/>
            <a:ext cx="438120" cy="412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5" descr="1.png"/>
          <p:cNvPicPr/>
          <p:nvPr/>
        </p:nvPicPr>
        <p:blipFill>
          <a:blip r:embed="rId10"/>
          <a:stretch/>
        </p:blipFill>
        <p:spPr>
          <a:xfrm rot="20010600">
            <a:off x="4593960" y="4782600"/>
            <a:ext cx="374400" cy="352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6" descr="1.png"/>
          <p:cNvPicPr/>
          <p:nvPr/>
        </p:nvPicPr>
        <p:blipFill>
          <a:blip r:embed="rId11"/>
          <a:stretch/>
        </p:blipFill>
        <p:spPr>
          <a:xfrm rot="20010600">
            <a:off x="4284360" y="4406760"/>
            <a:ext cx="277920" cy="263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5560" y="2568600"/>
            <a:ext cx="9077040" cy="1892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9400" y="628560"/>
            <a:ext cx="6967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49400" y="2114280"/>
            <a:ext cx="6951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60" y="6456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5560" y="1209600"/>
            <a:ext cx="6413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感谢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6:22:54Z</dcterms:created>
  <dc:creator/>
  <dc:description/>
  <dc:language>en-US</dc:language>
  <cp:lastModifiedBy/>
  <dcterms:modified xsi:type="dcterms:W3CDTF">2015-01-10T12:51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