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22D-05B9-4D3D-A830-23E01542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8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C0B-3ED8-4F0B-BA1F-9D8A7B82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891-791F-4AA4-B337-AA5B7BA0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4F3-72CC-4105-836B-4B4DAB5A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85D0-0552-4481-A4C5-859B3724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C555-FB19-479E-B4CB-57F10F1B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E77D-5317-43FD-A27E-EC1F77A3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C689-F75A-468D-83B9-07C34C7E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8C80-EC92-4FC4-BABF-56DE6113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360" y="-36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31E6-729A-4929-B1B5-C9FDE179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4932-654A-4AF2-ADB2-7DF61571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088-7076-4C01-A299-33CDA5B3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0874-02CD-448B-840B-F8E31CE9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48F9-F047-4ACF-AA75-3957EE9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88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220D-A0D4-42FF-AAD9-F77BBEA2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7179-9538-417E-BEF9-55678537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24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560" y="762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24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7560" y="3588120"/>
            <a:ext cx="277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E3FD-9B94-4915-9EB3-BA2B9959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30E-C8C0-48DD-B74C-1BDDCB83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9B9-A4A0-4A04-8548-232EF92B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8EB-B580-4904-AFBF-E403485B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-36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58E-E912-4D09-83C8-06BB6F6C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809-C980-4DD1-8573-99D66E12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88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275-AD91-4606-A27C-DD62547F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-9000"/>
            <a:ext cx="6629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762120"/>
            <a:ext cx="4201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8120"/>
            <a:ext cx="8610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8CC-767E-47A5-8F51-FAC6D55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305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318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9049-6034-4A12-BBDA-75E49A700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1080"/>
            <a:ext cx="6858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5905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638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33F1-A942-4597-833C-870B1EE92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Unbenannt-2"/>
          <p:cNvPicPr/>
          <p:nvPr/>
        </p:nvPicPr>
        <p:blipFill>
          <a:blip r:embed="rId2"/>
          <a:stretch/>
        </p:blipFill>
        <p:spPr>
          <a:xfrm>
            <a:off x="5943600" y="3429000"/>
            <a:ext cx="279360" cy="431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6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4520" y="2631960"/>
            <a:ext cx="487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色花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759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标题 1"/>
          <p:cNvSpPr/>
          <p:nvPr/>
        </p:nvSpPr>
        <p:spPr>
          <a:xfrm>
            <a:off x="3995640" y="2571840"/>
            <a:ext cx="431028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3480" y="632448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9:46:30Z</dcterms:created>
  <dc:creator/>
  <dc:description/>
  <dc:language>en-US</dc:language>
  <cp:lastModifiedBy>keke</cp:lastModifiedBy>
  <dcterms:modified xsi:type="dcterms:W3CDTF">2015-01-10T08:20:39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