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D08-FB83-4E63-8E70-97071D00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9ED-F365-497B-8F7D-8908A014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38E-309C-4F0D-BB6A-FDEB6F95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54A-C39E-4AAC-9078-A0BAC811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67BD-2F05-4EB6-9B18-0486257A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8D2A-C9EA-470E-B169-40C3B03C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E1CE-F500-4AD1-BCF7-26EA312A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73BE-151F-45DB-B666-21A7BAD2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82C8-E11B-46B9-9883-8B07A1C4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1052-BA2F-44B5-AFA1-49D71501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72EC-DDBE-4F27-8D0A-0074063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557-76DC-4ECC-83C5-951DFE3D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B648-83E7-4763-9AA2-A03A296C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F210-5455-486C-A2DC-535B1262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DF5C-D147-49C2-9114-861F489C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1B33-F113-4EA8-B4AA-81ABFBA9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3067-5EC7-4230-8CB3-5EB48C2D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30D-2DBF-40CD-8CCD-2B0DAEB4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12B-0A7B-485C-961E-D061E329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AFC-4729-457D-9C97-950596CC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1FE-FCCE-4033-B786-F51CF62F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1AE-A07B-4EE0-9A96-CE8F8D37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A2D-A16F-444E-90BC-76FD8073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7F2-2EE7-4E61-B6AE-94EBC1C4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5E2B-4B07-4FD9-96A0-1F1F2CF4A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7760" r="0" b="29351"/>
          <a:stretch/>
        </p:blipFill>
        <p:spPr>
          <a:xfrm>
            <a:off x="0" y="0"/>
            <a:ext cx="9145440" cy="220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66A8-9F45-4692-814C-9046E4383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1640" y="620280"/>
            <a:ext cx="4321080" cy="1800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姚体"/>
              </a:rPr>
              <a:t>倾世皇妃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74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6360" y="2276280"/>
            <a:ext cx="9072720" cy="4537080"/>
          </a:xfrm>
          <a:prstGeom prst="rect">
            <a:avLst/>
          </a:prstGeom>
          <a:gradFill rotWithShape="0">
            <a:gsLst>
              <a:gs pos="0">
                <a:srgbClr val="ff6600">
                  <a:alpha val="13333"/>
                </a:srgbClr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北方有佳人，绝世而独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顾倾人城，再顾倾人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宁不知倾城与倾国？佳人难再得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4:20:45Z</dcterms:created>
  <dc:creator>Administrator</dc:creator>
  <dc:description/>
  <dc:language>en-US</dc:language>
  <cp:lastModifiedBy/>
  <dcterms:modified xsi:type="dcterms:W3CDTF">2015-01-10T08:41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