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8D7-C565-4DBB-A74E-F6C89924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380-52BB-40AC-AAA9-A0C479EE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7D1-FB39-467D-A9EC-E00C57CB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012-369A-4EFA-9FB6-83CDDA8F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AE62-A397-4C6F-9544-9E97BAE5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5FF3-B5E5-4029-8572-CBAEEC61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8878-186E-4250-BC01-E31A7CDD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CFD5-315E-44A1-8FC5-E6D31008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2173-2897-4157-A710-B9C1AA73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45600"/>
            <a:ext cx="8229600" cy="43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7850-5C27-469E-A73F-67647775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8C74-1B03-4337-8A24-9DF91845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5FC-E768-4560-A9E6-E1CD480C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9F17-B3D2-4BD2-AAF2-6E10A17C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FAED-ABF3-44B5-8514-3DF6B757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C305-708E-45BB-91EF-2D40F293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0664-68EC-400B-B6E6-515B2A90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B80D-7F78-41A3-BDD3-BA88F60B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F59-10A9-4809-8D11-7D8E5E1F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C16-CC68-41DA-8FC1-45AC17C4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79B6-BAC3-4916-9B9F-0359B442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45600"/>
            <a:ext cx="8229600" cy="43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66B-330D-4548-8ED1-EA7EAA84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D58-4D36-4574-9362-6DAEBD97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506-F772-4E46-8DFB-F7972D1A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5E2-07AC-4578-8977-290D5037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鱼不愚\桌面\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汉仪秀英体简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8103-E6D1-4682-8FA0-16EECA55F2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鱼不愚\桌面\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鱼不愚\桌面\1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汉仪秀英体简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D585-4220-4683-A71A-A68B730087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1360" y="5160600"/>
            <a:ext cx="70722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清新环保</a:t>
            </a: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PPT</a:t>
            </a: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模板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86" name=""/>
          <p:cNvSpPr/>
          <p:nvPr/>
        </p:nvSpPr>
        <p:spPr>
          <a:xfrm>
            <a:off x="723636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14840" y="774360"/>
            <a:ext cx="1928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汉仪秀英体简"/>
              </a:rPr>
              <a:t>目  录</a:t>
            </a:r>
            <a:endParaRPr b="0" lang="en-US" sz="44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88" name="圆角矩形 19"/>
          <p:cNvSpPr/>
          <p:nvPr/>
        </p:nvSpPr>
        <p:spPr>
          <a:xfrm>
            <a:off x="2571840" y="1906560"/>
            <a:ext cx="4929120" cy="741240"/>
          </a:xfrm>
          <a:prstGeom prst="roundRect">
            <a:avLst>
              <a:gd name="adj" fmla="val 20787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38183" dir="2700000" blurRad="0" rotWithShape="0">
              <a:srgbClr val="000000">
                <a:alpha val="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071800" y="1741320"/>
            <a:ext cx="1041120" cy="1116360"/>
            <a:chOff x="2071800" y="1741320"/>
            <a:chExt cx="1041120" cy="1116360"/>
          </a:xfrm>
        </p:grpSpPr>
        <p:pic>
          <p:nvPicPr>
            <p:cNvPr id="90" name="Picture 3" descr="C:\Documents and Settings\鱼不愚\桌面\000.png"/>
            <p:cNvPicPr/>
            <p:nvPr/>
          </p:nvPicPr>
          <p:blipFill>
            <a:blip r:embed="rId1"/>
            <a:stretch/>
          </p:blipFill>
          <p:spPr>
            <a:xfrm>
              <a:off x="2071800" y="1741320"/>
              <a:ext cx="1001160" cy="11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10"/>
            <p:cNvSpPr/>
            <p:nvPr/>
          </p:nvSpPr>
          <p:spPr>
            <a:xfrm>
              <a:off x="2184480" y="1865160"/>
              <a:ext cx="92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21"/>
          <p:cNvSpPr/>
          <p:nvPr/>
        </p:nvSpPr>
        <p:spPr>
          <a:xfrm>
            <a:off x="3071880" y="201600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071800" y="3129120"/>
            <a:ext cx="5429160" cy="1116000"/>
            <a:chOff x="2071800" y="3129120"/>
            <a:chExt cx="5429160" cy="1116000"/>
          </a:xfrm>
        </p:grpSpPr>
        <p:grpSp>
          <p:nvGrpSpPr>
            <p:cNvPr id="94" name=""/>
            <p:cNvGrpSpPr/>
            <p:nvPr/>
          </p:nvGrpSpPr>
          <p:grpSpPr>
            <a:xfrm>
              <a:off x="2071800" y="3129120"/>
              <a:ext cx="5429160" cy="1116000"/>
              <a:chOff x="2071800" y="3129120"/>
              <a:chExt cx="5429160" cy="1116000"/>
            </a:xfrm>
          </p:grpSpPr>
          <p:sp>
            <p:nvSpPr>
              <p:cNvPr id="95" name="圆角矩形 26"/>
              <p:cNvSpPr/>
              <p:nvPr/>
            </p:nvSpPr>
            <p:spPr>
              <a:xfrm>
                <a:off x="2571840" y="3294000"/>
                <a:ext cx="4929120" cy="741240"/>
              </a:xfrm>
              <a:prstGeom prst="roundRect">
                <a:avLst>
                  <a:gd name="adj" fmla="val 20787"/>
                </a:avLst>
              </a:prstGeom>
              <a:noFill/>
              <a:ln w="38160">
                <a:solidFill>
                  <a:srgbClr val="009900"/>
                </a:solidFill>
                <a:miter/>
              </a:ln>
              <a:effectLst>
                <a:outerShdw dist="38183" dir="2700000" blurRad="0" rotWithShape="0">
                  <a:srgbClr val="000000">
                    <a:alpha val="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2071800" y="3129120"/>
                <a:ext cx="1041120" cy="1116000"/>
                <a:chOff x="2071800" y="3129120"/>
                <a:chExt cx="1041120" cy="1116000"/>
              </a:xfrm>
            </p:grpSpPr>
            <p:pic>
              <p:nvPicPr>
                <p:cNvPr id="97" name="Picture 3" descr="C:\Documents and Settings\鱼不愚\桌面\000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71800" y="3129120"/>
                  <a:ext cx="1000800" cy="111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TextBox 29"/>
                <p:cNvSpPr/>
                <p:nvPr/>
              </p:nvSpPr>
              <p:spPr>
                <a:xfrm>
                  <a:off x="2184480" y="3252960"/>
                  <a:ext cx="928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2f2f2"/>
                      </a:solidFill>
                      <a:latin typeface="微软雅黑"/>
                      <a:ea typeface="微软雅黑"/>
                    </a:rPr>
                    <a:t>0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" name="TextBox 25"/>
            <p:cNvSpPr/>
            <p:nvPr/>
          </p:nvSpPr>
          <p:spPr>
            <a:xfrm>
              <a:off x="3071880" y="3402360"/>
              <a:ext cx="400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目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071800" y="4484520"/>
            <a:ext cx="5429160" cy="1116360"/>
            <a:chOff x="2071800" y="4484520"/>
            <a:chExt cx="5429160" cy="1116360"/>
          </a:xfrm>
        </p:grpSpPr>
        <p:grpSp>
          <p:nvGrpSpPr>
            <p:cNvPr id="101" name=""/>
            <p:cNvGrpSpPr/>
            <p:nvPr/>
          </p:nvGrpSpPr>
          <p:grpSpPr>
            <a:xfrm>
              <a:off x="2071800" y="4484520"/>
              <a:ext cx="5429160" cy="1116360"/>
              <a:chOff x="2071800" y="4484520"/>
              <a:chExt cx="5429160" cy="1116360"/>
            </a:xfrm>
          </p:grpSpPr>
          <p:sp>
            <p:nvSpPr>
              <p:cNvPr id="102" name="圆角矩形 33"/>
              <p:cNvSpPr/>
              <p:nvPr/>
            </p:nvSpPr>
            <p:spPr>
              <a:xfrm>
                <a:off x="2571840" y="4649400"/>
                <a:ext cx="4929120" cy="741600"/>
              </a:xfrm>
              <a:prstGeom prst="roundRect">
                <a:avLst>
                  <a:gd name="adj" fmla="val 20787"/>
                </a:avLst>
              </a:prstGeom>
              <a:noFill/>
              <a:ln w="38160">
                <a:solidFill>
                  <a:srgbClr val="009900"/>
                </a:solidFill>
                <a:miter/>
              </a:ln>
              <a:effectLst>
                <a:outerShdw dist="38183" dir="2700000" blurRad="0" rotWithShape="0">
                  <a:srgbClr val="000000">
                    <a:alpha val="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2071800" y="4484520"/>
                <a:ext cx="1041120" cy="1116360"/>
                <a:chOff x="2071800" y="4484520"/>
                <a:chExt cx="1041120" cy="1116360"/>
              </a:xfrm>
            </p:grpSpPr>
            <p:pic>
              <p:nvPicPr>
                <p:cNvPr id="104" name="Picture 3" descr="C:\Documents and Settings\鱼不愚\桌面\000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71800" y="4484520"/>
                  <a:ext cx="1000800" cy="111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TextBox 36"/>
                <p:cNvSpPr/>
                <p:nvPr/>
              </p:nvSpPr>
              <p:spPr>
                <a:xfrm>
                  <a:off x="2184480" y="4608360"/>
                  <a:ext cx="928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2f2f2"/>
                      </a:solidFill>
                      <a:latin typeface="微软雅黑"/>
                      <a:ea typeface="微软雅黑"/>
                    </a:rPr>
                    <a:t>0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" name="TextBox 32"/>
            <p:cNvSpPr/>
            <p:nvPr/>
          </p:nvSpPr>
          <p:spPr>
            <a:xfrm>
              <a:off x="3071880" y="4757760"/>
              <a:ext cx="400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目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C:\Documents and Settings\鱼不愚\桌面\001.png"/>
          <p:cNvPicPr/>
          <p:nvPr/>
        </p:nvPicPr>
        <p:blipFill>
          <a:blip r:embed="rId1"/>
          <a:stretch/>
        </p:blipFill>
        <p:spPr>
          <a:xfrm>
            <a:off x="841320" y="1657440"/>
            <a:ext cx="3121200" cy="5121360"/>
          </a:xfrm>
          <a:prstGeom prst="rect">
            <a:avLst/>
          </a:prstGeom>
          <a:ln w="0">
            <a:noFill/>
          </a:ln>
        </p:spPr>
      </p:pic>
      <p:pic>
        <p:nvPicPr>
          <p:cNvPr id="108" name="圆角矩形 38" descr=""/>
          <p:cNvPicPr/>
          <p:nvPr/>
        </p:nvPicPr>
        <p:blipFill>
          <a:blip r:embed="rId2"/>
          <a:stretch/>
        </p:blipFill>
        <p:spPr>
          <a:xfrm>
            <a:off x="4675320" y="1706400"/>
            <a:ext cx="3627360" cy="5462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0"/>
          <p:cNvSpPr/>
          <p:nvPr/>
        </p:nvSpPr>
        <p:spPr>
          <a:xfrm>
            <a:off x="4797360" y="2855880"/>
            <a:ext cx="33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说明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2"/>
          <p:cNvSpPr/>
          <p:nvPr/>
        </p:nvSpPr>
        <p:spPr>
          <a:xfrm>
            <a:off x="297000" y="2855880"/>
            <a:ext cx="33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说明关系图表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112" name="燕尾形箭头 13"/>
          <p:cNvSpPr/>
          <p:nvPr/>
        </p:nvSpPr>
        <p:spPr>
          <a:xfrm>
            <a:off x="3341520" y="2928960"/>
            <a:ext cx="1143000" cy="57132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ccff33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分类关系图表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25400" y="1170000"/>
            <a:ext cx="7620120" cy="907920"/>
            <a:chOff x="725400" y="1170000"/>
            <a:chExt cx="7620120" cy="907920"/>
          </a:xfrm>
        </p:grpSpPr>
        <p:pic>
          <p:nvPicPr>
            <p:cNvPr id="115" name="圆角矩形 7" descr=""/>
            <p:cNvPicPr/>
            <p:nvPr/>
          </p:nvPicPr>
          <p:blipFill>
            <a:blip r:embed="rId1"/>
            <a:stretch/>
          </p:blipFill>
          <p:spPr>
            <a:xfrm>
              <a:off x="725400" y="1170000"/>
              <a:ext cx="76201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23680" y="1305000"/>
              <a:ext cx="742500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19"/>
          <p:cNvSpPr/>
          <p:nvPr/>
        </p:nvSpPr>
        <p:spPr>
          <a:xfrm>
            <a:off x="2892600" y="1447920"/>
            <a:ext cx="33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文 本 内 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560" y="1955160"/>
            <a:ext cx="3357360" cy="3810600"/>
            <a:chOff x="25560" y="1955160"/>
            <a:chExt cx="3357360" cy="3810600"/>
          </a:xfrm>
        </p:grpSpPr>
        <p:pic>
          <p:nvPicPr>
            <p:cNvPr id="119" name="Picture 2" descr="C:\Documents and Settings\鱼不愚\桌面\Nature cards [转换].png"/>
            <p:cNvPicPr/>
            <p:nvPr/>
          </p:nvPicPr>
          <p:blipFill>
            <a:blip r:embed="rId2"/>
            <a:stretch/>
          </p:blipFill>
          <p:spPr>
            <a:xfrm rot="6198000">
              <a:off x="205200" y="2874240"/>
              <a:ext cx="2997360" cy="14014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</p:pic>
        <p:sp>
          <p:nvSpPr>
            <p:cNvPr id="120" name="圆角矩形 8"/>
            <p:cNvSpPr/>
            <p:nvPr/>
          </p:nvSpPr>
          <p:spPr>
            <a:xfrm>
              <a:off x="919080" y="5051520"/>
              <a:ext cx="1571400" cy="7142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9900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20"/>
            <p:cNvSpPr/>
            <p:nvPr/>
          </p:nvSpPr>
          <p:spPr>
            <a:xfrm>
              <a:off x="25560" y="5202360"/>
              <a:ext cx="33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862600" y="1955520"/>
            <a:ext cx="3357720" cy="3810240"/>
            <a:chOff x="5862600" y="1955520"/>
            <a:chExt cx="3357720" cy="3810240"/>
          </a:xfrm>
        </p:grpSpPr>
        <p:pic>
          <p:nvPicPr>
            <p:cNvPr id="123" name="Picture 2" descr="C:\Documents and Settings\鱼不愚\桌面\Nature cards [转换].png"/>
            <p:cNvPicPr/>
            <p:nvPr/>
          </p:nvPicPr>
          <p:blipFill>
            <a:blip r:embed="rId3"/>
            <a:stretch/>
          </p:blipFill>
          <p:spPr>
            <a:xfrm rot="6198000">
              <a:off x="6042240" y="2874240"/>
              <a:ext cx="2997360" cy="14018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</p:pic>
        <p:sp>
          <p:nvSpPr>
            <p:cNvPr id="124" name="圆角矩形 24"/>
            <p:cNvSpPr/>
            <p:nvPr/>
          </p:nvSpPr>
          <p:spPr>
            <a:xfrm>
              <a:off x="6756480" y="5051520"/>
              <a:ext cx="1571760" cy="7142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9900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25"/>
            <p:cNvSpPr/>
            <p:nvPr/>
          </p:nvSpPr>
          <p:spPr>
            <a:xfrm>
              <a:off x="5862600" y="5202360"/>
              <a:ext cx="33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936880" y="1955520"/>
            <a:ext cx="3357720" cy="3810240"/>
            <a:chOff x="2936880" y="1955520"/>
            <a:chExt cx="3357720" cy="3810240"/>
          </a:xfrm>
        </p:grpSpPr>
        <p:pic>
          <p:nvPicPr>
            <p:cNvPr id="127" name="Picture 2" descr="C:\Documents and Settings\鱼不愚\桌面\Nature cards [转换].png"/>
            <p:cNvPicPr/>
            <p:nvPr/>
          </p:nvPicPr>
          <p:blipFill>
            <a:blip r:embed="rId4"/>
            <a:stretch/>
          </p:blipFill>
          <p:spPr>
            <a:xfrm rot="6198000">
              <a:off x="3116520" y="2874240"/>
              <a:ext cx="2997360" cy="14018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</p:pic>
        <p:sp>
          <p:nvSpPr>
            <p:cNvPr id="128" name="圆角矩形 28"/>
            <p:cNvSpPr/>
            <p:nvPr/>
          </p:nvSpPr>
          <p:spPr>
            <a:xfrm>
              <a:off x="3830760" y="5051520"/>
              <a:ext cx="1571760" cy="7142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9900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29"/>
            <p:cNvSpPr/>
            <p:nvPr/>
          </p:nvSpPr>
          <p:spPr>
            <a:xfrm>
              <a:off x="2936880" y="5202360"/>
              <a:ext cx="33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0800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循环关系图表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pic>
        <p:nvPicPr>
          <p:cNvPr id="132" name="组合 8" descr=""/>
          <p:cNvPicPr/>
          <p:nvPr/>
        </p:nvPicPr>
        <p:blipFill>
          <a:blip r:embed="rId1"/>
          <a:stretch/>
        </p:blipFill>
        <p:spPr>
          <a:xfrm>
            <a:off x="2120760" y="1395360"/>
            <a:ext cx="499932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标题 1"/>
          <p:cNvSpPr/>
          <p:nvPr/>
        </p:nvSpPr>
        <p:spPr>
          <a:xfrm>
            <a:off x="785880" y="5302080"/>
            <a:ext cx="77724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6600"/>
                </a:solidFill>
                <a:latin typeface="微软雅黑"/>
                <a:ea typeface="微软雅黑"/>
              </a:rPr>
              <a:t>THANKS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使用规范说明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1:28:12Z</dcterms:created>
  <dc:creator/>
  <dc:description/>
  <dc:language>en-US</dc:language>
  <cp:lastModifiedBy>guoyan</cp:lastModifiedBy>
  <dcterms:modified xsi:type="dcterms:W3CDTF">2015-01-10T08:18:54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