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1280" y="36331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0840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476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824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128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476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824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22200" y="40464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0840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36331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0840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8476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8240" y="16999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8476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8240" y="3633120"/>
            <a:ext cx="22600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22200" y="40464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8400" y="36331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8400" y="1699920"/>
            <a:ext cx="342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3633120"/>
            <a:ext cx="70200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Z:\newtek\_backgrounds_1.02\Tim\powerpoint templates\81-100\everything_geeky\elements\circle.png"/>
          <p:cNvPicPr/>
          <p:nvPr/>
        </p:nvPicPr>
        <p:blipFill>
          <a:blip r:embed="rId3"/>
          <a:stretch/>
        </p:blipFill>
        <p:spPr>
          <a:xfrm>
            <a:off x="0" y="444816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康海报体W12(P)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華康寶風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6" descr="Z:\newtek\_backgrounds_1.02\Tim\powerpoint templates\81-100\everything_geeky\elements\circle.png"/>
          <p:cNvPicPr/>
          <p:nvPr/>
        </p:nvPicPr>
        <p:blipFill>
          <a:blip r:embed="rId3"/>
          <a:stretch/>
        </p:blipFill>
        <p:spPr>
          <a:xfrm>
            <a:off x="0" y="444816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2200" y="404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康海报体W12(P)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1280" y="1699920"/>
            <a:ext cx="7020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華康寶風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華康寶風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"/>
          <p:cNvPicPr/>
          <p:nvPr/>
        </p:nvPicPr>
        <p:blipFill>
          <a:blip r:embed="rId2"/>
          <a:stretch/>
        </p:blipFill>
        <p:spPr>
          <a:xfrm>
            <a:off x="88920" y="4748040"/>
            <a:ext cx="2081160" cy="17701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62080" y="298440"/>
            <a:ext cx="6992640" cy="646200"/>
            <a:chOff x="262080" y="298440"/>
            <a:chExt cx="6992640" cy="646200"/>
          </a:xfrm>
        </p:grpSpPr>
        <p:pic>
          <p:nvPicPr>
            <p:cNvPr id="80" name="圆角矩形 4" descr=""/>
            <p:cNvPicPr/>
            <p:nvPr/>
          </p:nvPicPr>
          <p:blipFill>
            <a:blip r:embed="rId3"/>
            <a:stretch/>
          </p:blipFill>
          <p:spPr>
            <a:xfrm>
              <a:off x="262080" y="298440"/>
              <a:ext cx="6992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49200" y="358920"/>
              <a:ext cx="68227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00240" y="1109520"/>
            <a:ext cx="6237360" cy="433440"/>
            <a:chOff x="1200240" y="1109520"/>
            <a:chExt cx="6237360" cy="433440"/>
          </a:xfrm>
        </p:grpSpPr>
        <p:pic>
          <p:nvPicPr>
            <p:cNvPr id="83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1200240" y="1109520"/>
              <a:ext cx="623736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74760" y="1163520"/>
              <a:ext cx="6089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Picture 8" descr=""/>
          <p:cNvPicPr/>
          <p:nvPr/>
        </p:nvPicPr>
        <p:blipFill>
          <a:blip r:embed="rId5"/>
          <a:stretch/>
        </p:blipFill>
        <p:spPr>
          <a:xfrm>
            <a:off x="5638680" y="128520"/>
            <a:ext cx="3419640" cy="341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19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新可爱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Subtitle Goes Her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/>
          <p:nvPr/>
        </p:nvSpPr>
        <p:spPr>
          <a:xfrm>
            <a:off x="6858720" y="63817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36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6000" y="1484280"/>
            <a:ext cx="7667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2"/>
          <a:stretch/>
        </p:blipFill>
        <p:spPr>
          <a:xfrm>
            <a:off x="23760" y="4486320"/>
            <a:ext cx="2347920" cy="23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Z:\newtek\_backgrounds_1.02\Tim\powerpoint templates\81-100\everything_geeky\elements\circle.png"/>
          <p:cNvPicPr/>
          <p:nvPr/>
        </p:nvPicPr>
        <p:blipFill>
          <a:blip r:embed="rId2"/>
          <a:stretch/>
        </p:blipFill>
        <p:spPr>
          <a:xfrm>
            <a:off x="609480" y="3301920"/>
            <a:ext cx="2362320" cy="233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596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480" y="4572000"/>
            <a:ext cx="5997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Your Subtitle Goes Her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768240" y="3432240"/>
            <a:ext cx="2041560" cy="20476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" descr=""/>
          <p:cNvPicPr/>
          <p:nvPr/>
        </p:nvPicPr>
        <p:blipFill>
          <a:blip r:embed="rId4"/>
          <a:stretch/>
        </p:blipFill>
        <p:spPr>
          <a:xfrm>
            <a:off x="92160" y="4627440"/>
            <a:ext cx="2327040" cy="223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036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76000" y="1484280"/>
            <a:ext cx="7667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68360" y="4941720"/>
            <a:ext cx="1471680" cy="15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720" y="63817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1" descr="Z:\newtek\_backgrounds_1.02\Tim\powerpoint templates\81-100\everything_geeky\elements\circle.png"/>
          <p:cNvPicPr/>
          <p:nvPr/>
        </p:nvPicPr>
        <p:blipFill>
          <a:blip r:embed="rId2"/>
          <a:stretch/>
        </p:blipFill>
        <p:spPr>
          <a:xfrm>
            <a:off x="4067280" y="4633920"/>
            <a:ext cx="1904760" cy="18842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3"/>
          <a:stretch/>
        </p:blipFill>
        <p:spPr>
          <a:xfrm>
            <a:off x="237960" y="4718160"/>
            <a:ext cx="2028960" cy="2023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4"/>
          <a:stretch/>
        </p:blipFill>
        <p:spPr>
          <a:xfrm>
            <a:off x="6303960" y="158760"/>
            <a:ext cx="2900520" cy="29019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"/>
          <p:cNvPicPr/>
          <p:nvPr/>
        </p:nvPicPr>
        <p:blipFill>
          <a:blip r:embed="rId5"/>
          <a:stretch/>
        </p:blipFill>
        <p:spPr>
          <a:xfrm>
            <a:off x="6426360" y="3041640"/>
            <a:ext cx="2792160" cy="279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  <p:pic>
        <p:nvPicPr>
          <p:cNvPr id="105" name="图片 5" descr=""/>
          <p:cNvPicPr/>
          <p:nvPr/>
        </p:nvPicPr>
        <p:blipFill>
          <a:blip r:embed="rId6"/>
          <a:stretch/>
        </p:blipFill>
        <p:spPr>
          <a:xfrm>
            <a:off x="2381400" y="223920"/>
            <a:ext cx="1892160" cy="198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9000"/>
              </a:srgbClr>
            </a:outerShdw>
          </a:effectLst>
        </p:spPr>
      </p:pic>
      <p:pic>
        <p:nvPicPr>
          <p:cNvPr id="106" name="图片 6" descr=""/>
          <p:cNvPicPr/>
          <p:nvPr/>
        </p:nvPicPr>
        <p:blipFill>
          <a:blip r:embed="rId7"/>
          <a:stretch/>
        </p:blipFill>
        <p:spPr>
          <a:xfrm>
            <a:off x="231840" y="2427120"/>
            <a:ext cx="2592360" cy="237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9000"/>
              </a:srgbClr>
            </a:outerShdw>
          </a:effectLst>
        </p:spPr>
      </p:pic>
      <p:pic>
        <p:nvPicPr>
          <p:cNvPr id="107" name="图片 8" descr=""/>
          <p:cNvPicPr/>
          <p:nvPr/>
        </p:nvPicPr>
        <p:blipFill>
          <a:blip r:embed="rId8"/>
          <a:stretch/>
        </p:blipFill>
        <p:spPr>
          <a:xfrm>
            <a:off x="-106200" y="42840"/>
            <a:ext cx="2514600" cy="2517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16000" y="2568240"/>
            <a:ext cx="5849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华康海报体W12(P)"/>
            </a:endParaRPr>
          </a:p>
        </p:txBody>
      </p:sp>
      <p:pic>
        <p:nvPicPr>
          <p:cNvPr id="109" name="图片 1" descr=""/>
          <p:cNvPicPr/>
          <p:nvPr/>
        </p:nvPicPr>
        <p:blipFill>
          <a:blip r:embed="rId9"/>
          <a:stretch/>
        </p:blipFill>
        <p:spPr>
          <a:xfrm>
            <a:off x="3908520" y="4414680"/>
            <a:ext cx="2458800" cy="209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1:14:47Z</dcterms:created>
  <dc:creator/>
  <dc:description/>
  <dc:language>en-US</dc:language>
  <cp:lastModifiedBy>user</cp:lastModifiedBy>
  <dcterms:modified xsi:type="dcterms:W3CDTF">2015-01-10T08:03:0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