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492-8497-4B6E-8B38-668A11D4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382-CCBE-4DC7-862D-6EA6DA04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B96-DE81-48DD-9C0B-2150914D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076-B06B-432D-803E-AB102E52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14AF-8992-4D64-982E-FD7B629E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A982-B231-491E-A537-6C13E54A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D64-7382-4021-AB3C-167E4DE5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4F56-48A3-4B66-9D31-95C9A33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19DE-C6B8-4243-BED8-E0148469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4720-E1C9-49CD-A4E6-78EDC4DD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077D-2B28-4642-927E-1AA9F44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1B-F550-4447-B3A8-2BD9EB2F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90A4-FB92-4CE9-B05B-FE744CD4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742F-293E-475F-A855-2EC57B5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82AF-376F-4659-A969-452A915D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CDA0-AE06-481C-8485-E3E3EF12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10C1-2848-4D00-BBD7-33D81290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2CC-BAF7-4230-9D12-E4EA5B4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88B-A708-4306-8FC2-412469AB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B32-3673-4CAB-ABB1-38D30A26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8FA-D989-4CFD-936D-5AAED637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109-6AA7-4E35-8099-5D8B70E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9C2-FCEC-4232-AFB2-F9EFEF3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A29-4A6B-45D7-845B-BB0BF56F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1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86D-EF63-470A-A034-49A26851A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53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2076-B6D9-41D5-BE76-29E56BFFF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638172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50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50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50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3:59Z</dcterms:created>
  <dc:creator/>
  <dc:description/>
  <dc:language>en-US</dc:language>
  <cp:lastModifiedBy/>
  <dcterms:modified xsi:type="dcterms:W3CDTF">2015-01-11T11:47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