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512-9C5F-4FC9-AA23-80905BB6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FE1-1118-4ACE-87B7-AD976759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4E8-683C-46E9-B74C-56B36BA7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110-A814-452B-B9C5-10AA238A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7DD-98B2-4DFB-A379-290D25B8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FC2-72E7-4F57-8E70-15766384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3D4-FAEF-442A-8906-A56BB70B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CBE-1E72-4155-B1DA-CB88CA25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EB5-018A-4EBA-9136-B3D38A0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357-04E9-4314-8E86-4529CCF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BFF-4D52-49F3-B0C4-998A0E6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DA7-CF7D-4D30-95B0-1D0C0019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82B4-371C-440A-8C51-90E08B295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29628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74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7600" y="0"/>
            <a:ext cx="9291600" cy="697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1828800"/>
            <a:ext cx="443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7432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37339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82880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22640" y="624852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7:21:01Z</dcterms:created>
  <dc:creator/>
  <dc:description/>
  <dc:language>en-US</dc:language>
  <cp:lastModifiedBy>sjzri</cp:lastModifiedBy>
  <dcterms:modified xsi:type="dcterms:W3CDTF">2015-01-11T12:11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