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8AE-4B87-4351-AF2D-7CE0B04D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2E0-4583-4D97-921C-6DEE3D10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D25-B74B-4766-9326-1D9F34C2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3792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3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548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3792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3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025-320C-46A1-A5F4-0B84A37E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15880" y="14292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8B3-F365-428E-A405-BF44B720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3792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3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548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3792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3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8D2-69B5-4EDE-9B83-879CAF19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6B4-5F17-4AB7-9878-055228DD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C71-93BE-4B01-8CD8-DC57B4AF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5880" y="14292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3DC-BC82-45AC-9A2A-3A3C1FD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9FC-A96F-42A3-ABAE-27A38E2F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252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C82-A96C-4DA3-8F39-BB025420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252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548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175-DCEB-4DB7-AC10-805100A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24446" r="0" b="37780"/>
          <a:stretch/>
        </p:blipFill>
        <p:spPr>
          <a:xfrm>
            <a:off x="9360" y="107316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CFC37226-3DF7-491C-8D74-78F5CDE88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5b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0" y="91440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 flipV="1">
            <a:off x="0" y="909720"/>
            <a:ext cx="9151920" cy="2768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flipV="1">
            <a:off x="0" y="999360"/>
            <a:ext cx="9142560" cy="2678040"/>
          </a:xfrm>
          <a:prstGeom prst="rect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5960" y="524628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5960" y="524628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剪影商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6063840"/>
            <a:ext cx="6400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9920" y="644040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en-US" sz="2400" spc="-1" strike="sng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5880" y="14292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548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3680"/>
            <a:ext cx="9144000" cy="1251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4720" y="37944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79600" y="1196640"/>
            <a:ext cx="6400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400" spc="-1" strike="sng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4:51:00Z</dcterms:created>
  <dc:creator/>
  <dc:description/>
  <dc:language>en-US</dc:language>
  <cp:lastModifiedBy>chinakui</cp:lastModifiedBy>
  <dcterms:modified xsi:type="dcterms:W3CDTF">2015-01-10T09:11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300088049990</vt:lpwstr>
  </property>
</Properties>
</file>