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F31A-A9AB-42A1-BFB0-F2FDA9C29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6529-B2B5-43A8-9E8E-BD0FADAAF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F9AE-B57A-4AB6-A119-66F9256BD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91D9-1213-4EB2-AC9C-338F6A0F4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D19B-4643-4CFA-837E-C5CFFBFB7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17D7-C844-4576-ADE7-B28BD82D50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0C39-51D3-45BD-AE0D-1BE543327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26F9-426A-4776-B42E-DB77D9C89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AFE7-E458-429D-AB60-0D0FD931A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7004-ECE8-4A89-BBA3-20C0797F0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8B4F-7A01-43A4-9DF9-A2B1DACC8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2C20-28B9-4D14-BC5F-8A0CC07A4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A1470DE-44C9-41A6-99C8-2AD067386413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3553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>
            <a:hlinkClick r:id="rId5"/>
          </p:cNvPr>
          <p:cNvSpPr/>
          <p:nvPr/>
        </p:nvSpPr>
        <p:spPr>
          <a:xfrm>
            <a:off x="2368800" y="422028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9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76360" y="20908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圣诞快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完整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4800" y="6248520"/>
            <a:ext cx="228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AEF0-A796-41D1-ABF0-223CE72E30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68360" y="3673440"/>
            <a:ext cx="46591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6F0B-6EE6-48CC-A333-DCDC1E887F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BA53-26EA-45B4-9DB0-4E3ADC1F0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09:12:51Z</dcterms:modified>
  <cp:revision>1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