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22F-967B-4145-8EF2-EAF5AA00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048-8E5E-47E7-9529-0AB931C2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349-139F-4ED4-982A-8DE6AEA1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F9D-981D-4A0E-975C-AD72BAC6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4A1-1E52-4F89-9B6C-929FFF25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53E-3EC6-4743-A9FC-B890DF3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A69-888D-4222-BCAE-05DDC7F7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E45-ADBE-49EB-B8CD-A4EEBF7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674-7986-4D92-B3B6-A7139023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0B4-A354-4728-9929-238C5EC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223-CA23-4B31-BDBA-1CF05AF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54F-FA8F-439F-9306-6A2B53F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B935-179A-4EB6-B41A-D5DF3D3046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502-EE69-435D-A302-8D9C6718BF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28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圣诞老人卡通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78592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41320" y="64548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7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28:00Z</dcterms:created>
  <dc:creator>Moyea Software</dc:creator>
  <dc:description>Made by Moyea Software. To find more free PowerPoint templates, please visit http://www.dvd-ppt-slideshow.com/powerpoint-knowledge/powerpoint-templates.html</dc:description>
  <cp:keywords>Christmas free PowerPoint template download PPT template PowerPoint templates slideshow template POT POTX Power Point template slide show template</cp:keywords>
  <dc:language>en-US</dc:language>
  <cp:lastModifiedBy>Administrator</cp:lastModifiedBy>
  <dcterms:modified xsi:type="dcterms:W3CDTF">2015-01-10T08:48:22Z</dcterms:modified>
  <cp:revision>1</cp:revision>
  <dc:subject>Christmas PowerPoint Template</dc:subject>
  <dc:title>Moyea Free Christmas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