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2179-35A2-4C6C-BE47-EC91A003F0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FE69-73C8-483E-BE5E-CEF9BEF3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49FA-6001-48F6-9C7E-81E24C67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282B-1724-46DB-91F0-33AF351D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E2BF-AD48-4DC1-8C2E-8164D59D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B1C3-2D45-495C-8EFD-167C09F0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ACB9-2EAE-49FB-936F-26C7CA44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F644-45A9-44A2-8806-E79BC701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4868-C9D5-4AE6-851C-5BAEBB2F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EE01-9F22-4BC1-9DE2-38D4E4E5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EB24-2D17-4306-ACD5-342F7289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0849-29E8-4B36-8C59-53A87CA572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2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166760" cy="1292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 rot="3915000">
            <a:off x="8210880" y="366480"/>
            <a:ext cx="771480" cy="7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511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9960" y="2060280"/>
            <a:ext cx="59720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9667-3BC8-4CEB-A2DE-EA3112B01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9960" y="2060280"/>
            <a:ext cx="59720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圣诞礼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06880" y="2852640"/>
            <a:ext cx="496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2680" y="6021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88920" y="6381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/>
  <dc:description/>
  <dc:language>en-US</dc:language>
  <cp:lastModifiedBy>小田</cp:lastModifiedBy>
  <dcterms:modified xsi:type="dcterms:W3CDTF">2015-01-10T08:54:12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