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F6A-C5A3-4A0E-AD2A-296DBD4A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9E8E-1133-49E9-B78F-9353066D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8E6-1C4A-4257-BB92-B13A6F20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FB4B-9064-4A69-AFA8-1E300C9D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887A-BDF0-447B-8430-9588FEE7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3592-CE7E-454C-A007-B386CE5E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4BE1-7B4B-4F07-A90A-C5AA27B3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503A-8453-4B24-8760-0904658E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E1C9-C9F7-4E67-AD7D-4E000947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B317-68E6-4090-B808-A8C54DD2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3A77-F877-4992-9C19-5151E272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3A19-DF42-4B4A-8AE5-DCC92281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A60A-05F5-44DB-BA1B-BFDED7F8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DDD4-5D71-4DFE-A1FE-AEF48707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4C4E-A441-4A86-A27B-843C2E30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11C3-FBFF-4A0F-8BA9-AB291690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C9CF-88F8-4BE0-A3F1-A0E0E61B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186-E9DF-450B-AE3E-21CD4F87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ABE-F9EE-41C0-A31C-1C449933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FC9-20E9-4349-ABAD-EC7196B3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689-A05B-4508-B9AD-10A01D51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9A8-F78C-4068-BD10-33AE29AE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7AAD-2291-43FB-AF13-74C642D3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89F-61D4-4304-91C6-CD60FCD5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D74C-3ACD-4B80-AD6D-1427956ABD13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0791-C189-4630-BBEC-6B187493823F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十二生肖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生肖解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64480" y="6165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猴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九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猴——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onkey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onkey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作动词时指胡闹、瞎弄、捣蛋。如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top monkeying about with the TV set !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不 要瞎弄电视机！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与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onkey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一词搭配的词组、习语和俚语很多非常有趣。如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t sb’s monkey up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使某人 生气，激怒某人；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Your last word has really put his monkey up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你最后一句话实在使 他大为生气；又如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ke a monkey of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愚弄；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a monkey with a long tail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抵押；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get the monkey off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戒除吸毒恶习；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ave a monkey on one’s back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毒瘾很深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猴：即兴，领导力，机智，聪慧，稳定，忠心，狡诈，自信，用计，愚蠢，饶舌，投机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猴——猴姜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骨碎补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：有强筋活络、行瘀止血之功效。可适用于关节风湿病、蛀牙痛、小儿疳积、跌打损伤等症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176720" cy="388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64480" y="6165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鸡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十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鸡——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Cock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　　指首领，头目，神气十足的人，与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cock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组成的词组多姿多彩，如：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Cock of the walk / school.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支配别人的人；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a cock of the loft / dunghill.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在小天地中称王称霸的人；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Live like fighting cocke.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生活很好，尤指吃得好；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Cock - and - bull story.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荒诞的故事， 无稽之谈。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　　用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cock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表达的谚语：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It is a sad house where the hen crows louder than the cock.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牝 鸡司晨，家之不祥（意指：丈夫软弱而一切由妻子作主的家庭是不会幸福的，当然这是一 种夫权思想）。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鸡：弹性，保守，热心，漂亮，坦诚，幽默，傲慢，自炫，夸耀，盲目崇拜，放荡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鸡——鸡血藤：有补血活血、舒筋活络、强筋健骨等功效。适用于血虚衰弱、筋骨疼痛、月经不调、经闭不通等症。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410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狗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十一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狗——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Dog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汉语中常用“狗”比喻人，如“忠实走狗”、“看家狗”，成语“狗苟蝇营”、“狗彘不 若”等。在英语中除了喻人外，还有丰富多彩的词组、谚语等。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dog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作名词时指无赖汉，坏蛋、废物，不受喜爱（或欢迎）的人。有时加形容词修饰可指各 种人，如：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You dirty dog !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你这个坏小子！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a lucky dog.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幸运儿；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a dumb dog.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沉默不语 的人，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a sly dog.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暗中寻欢的人和暗地里偷鸡摸狗的人；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a dog in the manger.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占着茅坑 不拉屎的人。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用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dog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表达的谚语：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  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1. Barking dogs seldom bite.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吠犬不咬人（意指：对于高声发出恐吓，或惯于大声吼叫 的人，勿须当真）。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2. Every dog has his day.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凡人皆有得意日（意指：大家都有走运的一天）。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3. Dog does not eat dog.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同类不相残；同室不操戈。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       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狗：持久，责任，英雄气息，聪颖，可敬，道德感，不安，嘲讽，批评，不善，社交，自以为是，圆滑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狗——狗肾：有补肝肾、强筋骨及祛风湿等功效。可适用腰疼背痛、风湿痛等症。 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10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猪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　十二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猪——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oar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　　在英语中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oar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一词指未阉割的公猪和公野猪，涉及猪的词语有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ig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（猪、小猪、野猪），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o g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（食用猪）、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ow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（牝猪），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wine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（猪：旧用法）。十二生肖用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oar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，比喻贪婪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　猪：审慎，逸乐，勇敢，文化，真挚，诚实，轻信，重物质，愤怒，犹豫，愚顽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猪——猪犄耳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鱼腥草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：有清热利湿之效。适用于肺痈、肺结核、痢疾、风热感冒等症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4176720" cy="3816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22960" y="60930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鼠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一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鼠——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at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　　英语中用以比喻讨厌鬼，可耻的人，告密者，密探，破坏罢工的人；美国俚语指新学生、下流女人。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　　当看到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mell a rat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这一词组时，是指人们怀疑在做错某事。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a rat race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则表示激烈的竞争 。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ats desert a sinking ship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（船沉鼠先逃，这一谚语意指那些一遇到危险就争先寻求 安全或一看见困难便躲得老远的人。）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鼠：吸引力，社交能力，影响力，智力，俭省，魅力，紧张，权力欲，赘言 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　鼠——鼠曲草：有补脾益气，祛风化痰之效。适用于风寒咳嗽、脾虚浮肿、慢性支气管炎等症。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0" y="1987560"/>
            <a:ext cx="40971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牛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二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牛——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Ox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　　涉及“牛”的汉语成语很多，如“对牛弹琴”、“牛蹄之涔”等。英语中涉及“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Ox”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的表 达方式则不多。用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Ox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－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eyed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形容眼睛大的人；用短语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The black Ox has trod on sb’s foot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表示灾祸已降临到某人头上。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牛：正直，创新，有目的，勤勉，稳定，善言，固执，冷漠，偏见，缓慢，报复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牛——牛膝：有活血、祛瘀、强筋骨及利尿等功效。适用于经闭不通、难产、腰膝疼痛、下肢风湿痛、尿血、尿道涩痛等症。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40305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三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虎——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iger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　指凶恶的人，虎狼之徒；英国人指穿制服的马夫；口语中常指比赛的劲敌。中国和东南亚 国家常以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Paper tiger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比喻貌似强大而实质虚弱的敌人。词组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ride the tiger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表示以非常不 确定或危险的方式生活。虎：热诚，好运，勇敢，慈善，魅力，权威，冲动，吹嘘，易怒，放纵，不服从，飘荡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虎——虎杖：有活血行气、祛风除湿之功效。适用于慢性阑尾炎、关节风湿痛、湿疹等症。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兔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四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兔——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are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在英国俚语中，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are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指坐车不买票的人。与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are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组成的词组有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make a hare of sb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愚弄 某人。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tart a hare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。在讨论中提出枝节问题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例如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You start a hare ever time at the meeting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每次讨论你都提出与题无关的问题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英语中有许多关于兔的谚语，如：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1. First catch your hare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勿谋之过早（意指：不要过于乐观）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. You cannot run with the hare and hunt with hounde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不能两面讨好（意指：不要耍 两面派）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兔：机智，谨慎，技巧，长寿，德行，，秘密，业余，过于拘谨，忧郁，自炫，复杂 ，善良，希望，温柔，爱心，美丽，可爱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兔——菟丝子：有补肾固精、养肝明目等功效。可用于肾亏遗精、阳痿、小便频数及两眼昏花等症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4103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龙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五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龙——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ragon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　　龙在中国人民的心目中占有崇高的位置，有关龙的成语非常多，且含有褒义。如“龙跃凤 鸣”、“龙骧虎步”等。在外国语言中，赞扬龙的词语非常之少，且含有贬义。如“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ragon”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指凶暴的人，严厉的人，凶恶严格的监护人，凶恶的老妇人（尤指很少给在其看管下姑 娘自由的老妇人）等。为了区别于中国具有吉祥意义的中国龙与恶龙，特将中国龙译为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loong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，发音亦发汉语“龙”之纯正之音。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　龙：力量，热心，成功，胆量，健康，多情，僵直，迷惑，不信任，自夸，不满多言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龙——龙胆草：有解热、清火、解毒、清湿热等功效。适用于急性热病的高热、手足抽搐痉挛及黄疸、胆石症、风火赤眼等症。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105440" cy="3816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6448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蛇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六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蛇——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nake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指冷酷阴险的人，虚伪的人，卑鄙的人；美国俚语指追求和欺骗少女的男子或男阿飞。由 此看到，在英语中，“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nake”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往往含有贬义。如：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John’s behavior should him to be a snake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约翰的行为表明他是一个冷酷阴险的人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与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snake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组成的成语习语、谚语有许多，简举几例：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a snake in the grass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潜伏的敌人或危险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to warm a snake in one’s bosom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养虎贻患，姑息坏人。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Takd heed of the snake in the grass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草里防蛇。蛇：直觉，睿智，吸引力，机敏，谨慎，同情，掩饰，贪得，奢侈，傲慢，懒惰，孤芳自赏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蛇——蛇莓：有清热凉血之功效。可适用于血热崩漏、乳痈、带状疱疹、毒蛇咬伤等症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4103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马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七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马——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orse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英美国家的人很喜欢马，因此，用“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orse”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这个词组成的词组、成语、谚语非常之多，此举几例：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1. get on the high horse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摆架子，目空一切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. work like a horse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辛苦的干活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3. horse doctor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兽医、庸医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4. dark horse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竞争中出人意料的获胜者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如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The voters were surprised when the dark horse won the nomination.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那个无名小 卒在竞争中获胜时，投票者无不大吃一惊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　马：说服力，时尚，自治力，灵敏，受人欢迎，成就，自私，急促，狂妄， 急躁，反抗，自负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　   马——马齿苋：有清热解毒、止痢之功效。适用于细菌性痢疾、疮疡热毒、丹毒等症。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羊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0840" y="198072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八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羊——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Sheep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英语中指害羞而忸怩的人，胆小鬼，驯服的人。有关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sheep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的谚语不少。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1. As well be hanged for a sheep as a lamb.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偷羊偷羔都是绞（死）；偷大偷小统是贼 （意指：一不做，二不休）。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2. There’s a black sheep in every flock.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每一羊群里都会有一只黑羊，丑儿子家家有 （意指：每个家里都会有个败家子。）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3. He that makes himself a sheep shall be eaten by the wolf.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甘心做绵羊，早晚喂 豹狼（人弱受人欺）。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4. The sheep who tallks peace with a wolf will soon be mutton.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羊向狼乞求和平， 很快就会变成羊肉（意指，切勿向敌人乞求和平）。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monkey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作名词时指顽童、淘气鬼，猴子似的人，易受欺的人。如：</a:t>
            </a: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What are you doing, you young monkey !</a:t>
            </a: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你在干什么呀，小捣蛋鬼！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羊：发明，奇想，敏感，有礼，毅力，品味，依附，悲观，缺乏远见，不实际，迟缓，担忧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cc"/>
                </a:solidFill>
                <a:latin typeface="Arial"/>
              </a:rPr>
              <a:t>　羊——羊蹄草：有解毒杀虫之效。可适用于癣、汗斑、口疮、跌打损伤等症。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410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6:41:21Z</dcterms:created>
  <dc:creator/>
  <dc:description/>
  <dc:language>en-US</dc:language>
  <cp:lastModifiedBy>微软用户</cp:lastModifiedBy>
  <dcterms:modified xsi:type="dcterms:W3CDTF">2015-01-10T09:23:57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