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E0E-8839-4929-9A81-ABBF540C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7E2B-53CE-4BA0-AECB-93DC9816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64D-021F-45B1-BFE1-89245154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EDB7-C81B-4AA3-90CB-C941BC49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686B-45E3-4077-BC06-5A3D6CA6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11E6-9EF0-4642-A3CA-AD3630A4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7267-F278-4D5B-95DD-D00B52DE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C092-D7DC-4A7D-9318-34A6743F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E9F6-73FB-4E2C-B7F1-05030B8A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F671-4730-4E9A-A094-95A60D3A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950D-5FA5-4508-88F6-6234B465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58B-91AE-473D-85C5-AA3912E4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B10A-C1F4-4473-AF2F-968BAC52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9653-CA41-4142-975D-F1D6F95A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4105-9FD0-4803-86DD-27224F46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04E8-B435-4DD1-9230-E6B1B8B3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47EE-B88F-4C05-90C3-2D25D5CA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E94-370C-41AB-BA33-9BFBBAAD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4BC-9392-41C2-85FE-0BC66418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2CD-2E13-4433-A096-B281DC9A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092-1C89-4AC1-9EC2-AFCDEFCF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B25-E99B-4DB8-80FF-C986488A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529-FA1E-40F9-97FE-9B515C84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137-25D9-48CF-A167-E2B49CDC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4162-A095-4E0A-A9FC-DB753F0B79DE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A235-1B84-4B30-8B56-FC55E8BB1020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9137520" cy="6278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96840" y="55897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105520" y="1600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1148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84200" y="4114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0" t="0" r="0" b="13035"/>
          <a:stretch/>
        </p:blipFill>
        <p:spPr>
          <a:xfrm>
            <a:off x="0" y="476280"/>
            <a:ext cx="4284720" cy="3429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356000" y="260280"/>
            <a:ext cx="4788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臣本布衣，躬耕于南阳，苟全性命于乱世，不求闻达于诸侯。先帝不以臣卑鄙，猥自枉屈，三顾臣于草庐之中，咨臣以当世之事，由是感激，遂许先帝以驱驰。后值倾覆，受任于败军之际，奉命于危难之间：尔来二十有一年矣。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     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选自《出师表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84480" y="5877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90792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他们来到隆中，只见</a:t>
            </a:r>
            <a:r>
              <a:rPr b="1" lang="zh-CN" sz="4000" spc="-1" strike="noStrike">
                <a:solidFill>
                  <a:srgbClr val="c80000"/>
                </a:solidFill>
                <a:latin typeface="Arial"/>
              </a:rPr>
              <a:t>那里的山冈蜿蜒起伏，好像一条等待时机腾飞的卧龙。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冈前几片松林疏疏朗朗，潺潺的溪流清澈见底，茂密的竹林青翠欲滴，景色秀丽宜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890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010"/>
                </a:solidFill>
                <a:latin typeface="Arial"/>
                <a:ea typeface="黑体"/>
              </a:rPr>
              <a:t>读一读，完成练习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422100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这段话中的比喻句是把什么比做什么？“卧龙”在这里还喻指谁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用“来到……只见……”句式写一处景色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932360" y="213372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44720" y="2709720"/>
            <a:ext cx="23428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latin typeface="华文中宋"/>
              </a:rPr>
              <a:t>推荐书目</a:t>
            </a:r>
            <a:endParaRPr b="0" lang="en-US" sz="3200" spc="-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latin typeface="华文中宋"/>
              <a:ea typeface="华文中宋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24360" y="692280"/>
            <a:ext cx="4064040" cy="5514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56920" y="6453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12536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让我们交流一下自主学习的收获吧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989000"/>
            <a:ext cx="8064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读一读，说说重点字的意思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顾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茅庐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蜿蜒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起伏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青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欲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秀丽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宜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人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群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纷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争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茅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塞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顿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开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65040"/>
            <a:ext cx="9144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学习要求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、自由朗读课文，读准字音，读通句子，读懂每一个自然段的段意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、思考</a:t>
            </a: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刘备为什么要三顾茅庐请诸葛亮出山呢？刘备三顾茅庐请诸葛亮出山，让你从中体会到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（找出文中相关的语句，画一画，读一读，然后把你的收获在小组中交流交流。</a:t>
            </a: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692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Arial"/>
                <a:ea typeface="黑体"/>
              </a:rPr>
              <a:t>自读课文，按一下顺序说说在刘备第三次去隆中请诸葛亮出山前后的过程中，哪些地方具体表现了他是诚心诚意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0828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  <a:ea typeface="楷体_GB2312"/>
              </a:rPr>
              <a:t>出发前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789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  <a:ea typeface="楷体_GB2312"/>
              </a:rPr>
              <a:t>将到时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869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  <a:ea typeface="楷体_GB2312"/>
              </a:rPr>
              <a:t>到达后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580536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  <a:ea typeface="楷体_GB2312"/>
              </a:rPr>
              <a:t>出山后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924280"/>
            <a:ext cx="289080" cy="217440"/>
          </a:xfrm>
          <a:custGeom>
            <a:avLst/>
            <a:gdLst>
              <a:gd name="textAreaLeft" fmla="*/ 13320 w 289080"/>
              <a:gd name="textAreaRight" fmla="*/ 275760 w 289080"/>
              <a:gd name="textAreaTop" fmla="*/ 13320 h 217440"/>
              <a:gd name="textAreaBottom" fmla="*/ 204120 h 217440"/>
            </a:gdLst>
            <a:ahLst/>
            <a:rect l="textAreaLeft" t="textAreaTop" r="textAreaRight" b="textAreaBottom"/>
            <a:pathLst>
              <a:path w="28705" h="21600">
                <a:moveTo>
                  <a:pt x="0" y="0"/>
                </a:moveTo>
                <a:lnTo>
                  <a:pt x="28705" y="0"/>
                </a:lnTo>
                <a:lnTo>
                  <a:pt x="28705" y="21600"/>
                </a:lnTo>
                <a:lnTo>
                  <a:pt x="0" y="21600"/>
                </a:lnTo>
                <a:close/>
              </a:path>
              <a:path fill="lightenLess" w="28705" h="21600">
                <a:moveTo>
                  <a:pt x="0" y="0"/>
                </a:moveTo>
                <a:lnTo>
                  <a:pt x="28705" y="0"/>
                </a:lnTo>
                <a:lnTo>
                  <a:pt x="27355" y="1350"/>
                </a:lnTo>
                <a:lnTo>
                  <a:pt x="1350" y="1350"/>
                </a:lnTo>
                <a:close/>
              </a:path>
              <a:path fill="darken" w="28705" h="21600">
                <a:moveTo>
                  <a:pt x="28705" y="0"/>
                </a:moveTo>
                <a:lnTo>
                  <a:pt x="28705" y="21600"/>
                </a:lnTo>
                <a:lnTo>
                  <a:pt x="27355" y="20250"/>
                </a:lnTo>
                <a:lnTo>
                  <a:pt x="27355" y="1350"/>
                </a:lnTo>
                <a:close/>
              </a:path>
              <a:path fill="darkenLess" w="28705" h="21600">
                <a:moveTo>
                  <a:pt x="2870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355" y="20250"/>
                </a:lnTo>
                <a:close/>
              </a:path>
              <a:path fill="lighten" w="2870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705" h="21600">
                <a:moveTo>
                  <a:pt x="7309" y="10800"/>
                </a:moveTo>
                <a:lnTo>
                  <a:pt x="21396" y="3756"/>
                </a:lnTo>
                <a:lnTo>
                  <a:pt x="21396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5084640"/>
            <a:ext cx="288720" cy="216000"/>
          </a:xfrm>
          <a:custGeom>
            <a:avLst/>
            <a:gdLst>
              <a:gd name="textAreaLeft" fmla="*/ 13320 w 288720"/>
              <a:gd name="textAreaRight" fmla="*/ 275400 w 28872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510" y="1350"/>
                </a:lnTo>
                <a:lnTo>
                  <a:pt x="1350" y="135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510" y="20250"/>
                </a:lnTo>
                <a:lnTo>
                  <a:pt x="27510" y="135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510" y="2025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60" h="21600">
                <a:moveTo>
                  <a:pt x="7386" y="10800"/>
                </a:moveTo>
                <a:lnTo>
                  <a:pt x="21474" y="3756"/>
                </a:lnTo>
                <a:lnTo>
                  <a:pt x="21474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6093000"/>
            <a:ext cx="288720" cy="215640"/>
          </a:xfrm>
          <a:custGeom>
            <a:avLst/>
            <a:gdLst>
              <a:gd name="textAreaLeft" fmla="*/ 13320 w 288720"/>
              <a:gd name="textAreaRight" fmla="*/ 275400 w 288720"/>
              <a:gd name="textAreaTop" fmla="*/ 13320 h 215640"/>
              <a:gd name="textAreaBottom" fmla="*/ 20232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58" y="1350"/>
                </a:lnTo>
                <a:lnTo>
                  <a:pt x="1350" y="135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58" y="20250"/>
                </a:lnTo>
                <a:lnTo>
                  <a:pt x="27558" y="135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558" y="2025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908" h="21600">
                <a:moveTo>
                  <a:pt x="7410" y="10800"/>
                </a:moveTo>
                <a:lnTo>
                  <a:pt x="21498" y="3756"/>
                </a:lnTo>
                <a:lnTo>
                  <a:pt x="21498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4076640"/>
            <a:ext cx="360360" cy="216000"/>
          </a:xfrm>
          <a:custGeom>
            <a:avLst/>
            <a:gdLst>
              <a:gd name="textAreaLeft" fmla="*/ 13320 w 360360"/>
              <a:gd name="textAreaRight" fmla="*/ 347040 w 36036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62" y="1350"/>
                </a:lnTo>
                <a:lnTo>
                  <a:pt x="1350" y="135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62" y="20250"/>
                </a:lnTo>
                <a:lnTo>
                  <a:pt x="34662" y="135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662" y="2025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6012" h="21600">
                <a:moveTo>
                  <a:pt x="10962" y="10800"/>
                </a:moveTo>
                <a:lnTo>
                  <a:pt x="25050" y="3756"/>
                </a:lnTo>
                <a:lnTo>
                  <a:pt x="25050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00000" y="54936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ˎ̥"/>
              </a:rPr>
              <a:t>          </a:t>
            </a:r>
            <a:r>
              <a:rPr b="1" lang="zh-CN" sz="4400" spc="-1" strike="noStrike">
                <a:solidFill>
                  <a:srgbClr val="007a77"/>
                </a:solidFill>
                <a:latin typeface="ˎ̥"/>
              </a:rPr>
              <a:t>张飞嚷道：</a:t>
            </a:r>
            <a:r>
              <a:rPr b="1" lang="en-US" sz="4400" spc="-1" strike="noStrike">
                <a:solidFill>
                  <a:srgbClr val="cc0000"/>
                </a:solidFill>
                <a:latin typeface="ˎ̥"/>
              </a:rPr>
              <a:t>“这次用不着大哥亲自去。他如果不来，我只要用一根麻绳就把他捆来了！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3573360"/>
            <a:ext cx="756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ˎ̥"/>
              </a:rPr>
              <a:t>     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刘备生气地说</a:t>
            </a:r>
            <a:r>
              <a:rPr b="1" lang="zh-CN" sz="4400" spc="-1" strike="noStrike">
                <a:solidFill>
                  <a:srgbClr val="c80000"/>
                </a:solidFill>
                <a:latin typeface="Arial"/>
              </a:rPr>
              <a:t>：</a:t>
            </a:r>
            <a:r>
              <a:rPr b="1" lang="en-US" sz="4400" spc="-1" strike="noStrike">
                <a:solidFill>
                  <a:srgbClr val="c80000"/>
                </a:solidFill>
                <a:latin typeface="ˎ̥"/>
              </a:rPr>
              <a:t>“你一点儿也不懂尊重人才，这次你就不要去了！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6381720"/>
            <a:ext cx="1079640" cy="476280"/>
          </a:xfrm>
          <a:prstGeom prst="irregularSeal1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268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1010"/>
                </a:solidFill>
                <a:latin typeface="Arial"/>
                <a:ea typeface="楷体_GB2312"/>
              </a:rPr>
              <a:t>       </a:t>
            </a:r>
            <a:r>
              <a:rPr b="1" lang="zh-CN" sz="7200" spc="-1" strike="noStrike">
                <a:solidFill>
                  <a:srgbClr val="001010"/>
                </a:solidFill>
                <a:latin typeface="Arial"/>
                <a:ea typeface="楷体_GB2312"/>
              </a:rPr>
              <a:t>离诸葛亮的住处还有半里多路，刘备就下马步行。 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85080" y="6381720"/>
            <a:ext cx="1079640" cy="476280"/>
          </a:xfrm>
          <a:prstGeom prst="irregularSeal1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84480" y="5877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2349360"/>
            <a:ext cx="83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ˎ̥"/>
              </a:rPr>
              <a:t>        </a:t>
            </a:r>
            <a:r>
              <a:rPr b="1" lang="zh-CN" sz="4000" spc="-1" strike="noStrike">
                <a:solidFill>
                  <a:srgbClr val="001010"/>
                </a:solidFill>
                <a:latin typeface="ˎ̥"/>
                <a:ea typeface="黑体"/>
              </a:rPr>
              <a:t>刘备让童子不要惊醒先生，吩咐关羽、张飞在门口休息，自己轻轻地走进去，恭恭敬敬地站在草堂的台阶下等候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6453360"/>
            <a:ext cx="1187280" cy="404640"/>
          </a:xfrm>
          <a:prstGeom prst="irregularSeal1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76500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010"/>
                </a:solidFill>
                <a:latin typeface="Arial"/>
                <a:ea typeface="黑体"/>
              </a:rPr>
              <a:t>到了诸葛亮家，刘备上前轻轻敲门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11970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  <a:ea typeface="黑体"/>
              </a:rPr>
              <a:t>诸葛亮出山后，刘备把他当做自己的老师，两人同桌吃饭，同榻睡觉，一起讨论天下大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2781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76500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458136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404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404"/>
                </a:solidFill>
                <a:latin typeface="Arial"/>
              </a:rPr>
              <a:t>刘备高兴地对关羽、张飞说</a:t>
            </a:r>
            <a:r>
              <a:rPr b="1" lang="zh-CN" sz="4000" spc="-1" strike="noStrike">
                <a:solidFill>
                  <a:srgbClr val="c80000"/>
                </a:solidFill>
                <a:latin typeface="Arial"/>
              </a:rPr>
              <a:t>：“我得到诸葛先生，就像鱼儿得到水一样啊！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06064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诸葛亮分析了群雄纷争的形势，提出了三分天下，最后取胜的策略。</a:t>
            </a:r>
            <a:r>
              <a:rPr b="1" lang="zh-CN" sz="4000" spc="-1" strike="noStrike">
                <a:solidFill>
                  <a:srgbClr val="c80000"/>
                </a:solidFill>
                <a:latin typeface="Arial"/>
              </a:rPr>
              <a:t>刘备听了茅塞顿开，像拨开了云雾见到了青天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333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01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1010"/>
                </a:solidFill>
                <a:latin typeface="Arial"/>
                <a:ea typeface="黑体"/>
              </a:rPr>
              <a:t>再读课文，思考：刘备三顾茅庐请出了诸葛亮，他得到诸葛亮的辅助了吗？你从文中哪些地方看出来的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9-12-31T18:40:56Z</dcterms:created>
  <dc:creator>APOLLO [TEL6306068]</dc:creator>
  <dc:description/>
  <dc:language>en-US</dc:language>
  <cp:lastModifiedBy>hp</cp:lastModifiedBy>
  <dcterms:modified xsi:type="dcterms:W3CDTF">2015-01-10T08:31:02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