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7BF5-4681-4E9D-8595-BC00B14B2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8214-878E-423A-83E0-DACC319E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6E2A-4A2B-4624-B8F1-FCC30DAB8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97AC-8C20-4ED1-BF11-77E0F5C0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5218-FA51-4F80-B871-02CCD250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05DC-2151-45E4-9CDD-1FA8786C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9DF3-69A2-44E1-8C85-68B131A1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101B-0666-4E18-B7D4-9EFAB2C7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5DBE-9127-45AE-9CC1-770C3626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A096-EF31-413B-9141-3C68C642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8461-5899-4B29-8E91-C7C1A1F6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2414-D177-4E82-B615-2AB9F151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BD10-7BA4-4687-A6BB-262B3B05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8095-B6DB-48BD-8F5B-88AF7FE7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306F-020B-4545-A7E3-78139C01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82CA-FD69-4E22-B030-B97A2100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685D-B5E9-41F7-A5C0-BCEDEA6F2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2C3F-66E1-4B64-8163-FFB3CCCA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B869-0B8A-4C53-A7AB-6EE4A3B1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CC3C-919B-4E3B-AD14-47CB246C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A555-C4B8-4544-8D93-A5E2EC34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DDFA-F263-4E0B-8F31-004258ED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FF48-F0BB-4335-9CC0-0BEA68AA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27AA-4083-4635-ACFF-4D8EC278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CE59-94C5-48F6-87B6-BAB39D1A1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B7A5-402B-496D-B5D7-85342ACB2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342880"/>
            <a:ext cx="723888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3" name=""/>
          <p:cNvSpPr/>
          <p:nvPr/>
        </p:nvSpPr>
        <p:spPr>
          <a:xfrm>
            <a:off x="6727320" y="447660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内页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首页直接选择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3"/>
          <p:cNvSpPr/>
          <p:nvPr/>
        </p:nvSpPr>
        <p:spPr>
          <a:xfrm>
            <a:off x="3198960" y="2457360"/>
            <a:ext cx="32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谢谢观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71200" y="4705200"/>
            <a:ext cx="16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岁寒三友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-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梅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8466120" cy="5143680"/>
            <a:chOff x="0" y="0"/>
            <a:chExt cx="8466120" cy="5143680"/>
          </a:xfrm>
        </p:grpSpPr>
        <p:sp>
          <p:nvSpPr>
            <p:cNvPr id="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285920"/>
              <a:ext cx="846612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46880" y="26762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6T07:22:43Z</dcterms:created>
  <dc:creator/>
  <dc:description/>
  <dc:language>en-US</dc:language>
  <cp:lastModifiedBy>微软用户</cp:lastModifiedBy>
  <dcterms:modified xsi:type="dcterms:W3CDTF">2015-01-10T12:04:23Z</dcterms:modified>
  <cp:revision>15</cp:revision>
  <dc:subject/>
  <dc:title>中国风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