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45CB-4950-4FFC-BBF9-D542F81F1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8B4F-629E-44A1-AFA2-A76F56B8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8F9A-6347-470D-A294-B58E08EA7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83F0-D232-4B4C-8A98-F7FD3A5F7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6FF7-C4BF-4AB2-AE46-6237CBC7E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C2FC1-E128-4645-B576-5DCA23C8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FA36A-06C6-44B9-807B-E20E0E40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2428-4C89-413F-A811-380FB744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4BB0-900C-4016-BF23-8629C69C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FA1D-EA24-40D1-937F-B6F14D5C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C6E7-0FA7-45E8-9DF8-6C8E19E8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E3EC-0C0A-4EC7-AB35-16F928C2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DEB0-7AC5-4823-9F38-9FE7306C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665E-632B-4E22-AE18-0BCB5F75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39609-9913-4C8F-B894-52DC5D44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4B3E-9989-42BD-8A92-F03F8A95D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ACEF-D965-49B9-BDEB-1B0632C7C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F940-24C7-421C-BA35-CEB9F998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ECA0-6231-4758-A07A-F5F7055D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C1A3-4F5A-4DD3-88A3-54F790EA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068E-417B-4E07-84D2-279AF308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8233-8941-4A34-81A1-B2441EC4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4C19-A503-4C6E-BA22-FBB300EA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62D6-0D8A-41A0-9B27-2E6C6934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98756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A006-E6D0-4B25-AA49-C452448B4F9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968640" y="6284880"/>
            <a:ext cx="2743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864120" y="6284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C07C-CCF6-4335-8008-2AD647FF8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29527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EF9F-971F-405F-9949-FA1A9CFB9FD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49338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72957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3953-09D7-4485-8F6A-72FD87E09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270828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920" y="177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时间的齿轮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PPT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626920" y="3644640"/>
            <a:ext cx="5969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者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27360" y="645336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26920" y="177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感谢您的关注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26920" y="3644640"/>
            <a:ext cx="5969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作者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76800" y="6308640"/>
            <a:ext cx="44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楷体"/>
                <a:ea typeface="楷体"/>
              </a:rPr>
              <a:t>更多免费</a:t>
            </a:r>
            <a:r>
              <a:rPr b="1" lang="zh-CN" sz="16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6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600" spc="-1" strike="noStrike">
                <a:solidFill>
                  <a:srgbClr val="1c1c1c"/>
                </a:solidFill>
                <a:latin typeface="楷体"/>
                <a:ea typeface="楷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zh-TW" sz="18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----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EEPPT.COM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TW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TW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TW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TW" sz="16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TW" sz="1600" spc="-1" strike="noStrike">
                <a:solidFill>
                  <a:srgbClr val="e8eff7"/>
                </a:solidFill>
                <a:latin typeface="Times New Roman"/>
              </a:rPr>
              <a:t>WWW.EEPPT.COM-</a:t>
            </a:r>
            <a:r>
              <a:rPr b="1" lang="zh-TW" sz="1600" spc="-1" strike="noStrike">
                <a:solidFill>
                  <a:srgbClr val="e8eff7"/>
                </a:solidFill>
                <a:latin typeface="Times New Roman"/>
              </a:rPr>
              <a:t>让您轻松制作出精美</a:t>
            </a:r>
            <a:r>
              <a:rPr b="1" lang="zh-TW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TW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zh-TW" sz="16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zh-TW" sz="18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3T08:58:36Z</dcterms:created>
  <dc:creator/>
  <dc:description/>
  <dc:language>en-US</dc:language>
  <cp:lastModifiedBy>keke</cp:lastModifiedBy>
  <dcterms:modified xsi:type="dcterms:W3CDTF">2015-01-10T12:23:38Z</dcterms:modified>
  <cp:revision>2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