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671-2DCC-480B-8D51-83754504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A7C-49B0-4678-8545-DD063C60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9CE-BC51-41F9-A88A-9EDB2603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0B6-60EA-4299-B17F-4B5D1D3E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5C41-C387-4230-9382-3F003F4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A57-3BA9-4B1F-9C6F-844C53D9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9322-C047-4190-BC50-D10C12B8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E3BC-921B-4C3E-9051-9C34527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AE8C-67EA-403F-BD16-DFEA085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F39C-05E0-4D93-A3D9-622054A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07EA-5FFF-48C0-A8ED-7A443E0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577-02C1-43E5-9CAB-BD08F243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79A-2E51-46F5-ADE9-0A5C591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16BA-A7B5-4106-A0E7-FCA7486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931-B1D0-4FE3-B8C2-43DDBC9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F97-89D1-41CC-A9CC-9C290014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E8B1-7CE2-45A0-ACEC-7DBBD2A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16E-CF94-45C9-973A-96649559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1B3-1D99-4AE7-BB7C-20126CF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0FD-2048-4259-A39E-85D627E7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645-E5BC-4917-AAB2-B3BE9526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6BC-168E-44D1-A7DA-F5899E7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EA9-7A43-4B9A-A9D1-76A46FF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675-4B0E-46E6-9A14-DC849D4A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58C-192C-4FA9-BE9D-522933CD8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533-27DD-4C24-A733-C1967E887A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25440" y="3522240"/>
            <a:ext cx="6400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1Z</dcterms:created>
  <dc:creator/>
  <dc:description/>
  <dc:language>en-US</dc:language>
  <cp:lastModifiedBy/>
  <dcterms:modified xsi:type="dcterms:W3CDTF">2015-01-10T12:18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