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D71-20A3-45CD-AE24-C40E3EF8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17AE-79D6-4236-9408-A807E25F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BDA0-96A7-4503-BD77-0B7BD1A1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C325-EF06-4099-8D44-39B59D4D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1519-7E36-4144-931E-5ED54C6A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C5C4-47A7-4A9A-8C58-5D710069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7570-E394-4F78-8F3D-9262A0D8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9BC5-71EF-4327-AC12-D83B32EF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EB30-0FFC-48E6-ABAA-853AC533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CCF7-3489-409E-AB28-F82D52C6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D196-76CB-4421-ABEB-A4861ACC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B820-90F2-448E-8EF9-32D38168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CF26-ABF2-4838-AADD-0B96D738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E853-4BB8-4F46-B9C8-C2DC4766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887C-FBF1-45C7-8B81-D7152801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B318-A378-44C2-ACA0-4C51B99B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514D-F5B8-45C3-B932-40C655F6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955E-66E0-4E63-B7D0-8646F1B9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364-CA0C-42D2-8575-8D4FF9EE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738F-6C34-4703-B303-2703740F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63DF-68F7-422D-BE21-E157555F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EA4-BD75-4C19-A10B-CAC03F63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9583-D83E-45BF-8803-5BDCB886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A79-E557-4285-8FC0-3E62D85A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3EA4-061D-4BAB-BCCA-003C19948A0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BE7D-EE20-4A9C-A7F6-846AE59932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3FE8-E376-4CE0-B342-C919EC202AC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561D-6293-47F2-9ADE-A0E4A534399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7" descr=""/>
          <p:cNvPicPr/>
          <p:nvPr/>
        </p:nvPicPr>
        <p:blipFill>
          <a:blip r:embed="rId1"/>
          <a:stretch/>
        </p:blipFill>
        <p:spPr>
          <a:xfrm>
            <a:off x="1187280" y="1339920"/>
            <a:ext cx="6840720" cy="468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246360" y="595008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7" name="图片 3" descr=""/>
          <p:cNvPicPr/>
          <p:nvPr/>
        </p:nvPicPr>
        <p:blipFill>
          <a:blip r:embed="rId1"/>
          <a:srcRect l="8265" t="14653" r="11411" b="68212"/>
          <a:stretch/>
        </p:blipFill>
        <p:spPr>
          <a:xfrm>
            <a:off x="1187280" y="1339920"/>
            <a:ext cx="6840720" cy="1062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4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6840720" cy="3672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466560" y="18900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原画欣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3" descr=""/>
          <p:cNvPicPr/>
          <p:nvPr/>
        </p:nvPicPr>
        <p:blipFill>
          <a:blip r:embed="rId1"/>
          <a:srcRect l="9049" t="84275" r="13776" b="1802"/>
          <a:stretch/>
        </p:blipFill>
        <p:spPr>
          <a:xfrm>
            <a:off x="1184400" y="5113440"/>
            <a:ext cx="6821280" cy="904680"/>
          </a:xfrm>
          <a:prstGeom prst="rect">
            <a:avLst/>
          </a:prstGeom>
          <a:ln w="0">
            <a:noFill/>
          </a:ln>
        </p:spPr>
      </p:pic>
      <p:sp>
        <p:nvSpPr>
          <p:cNvPr id="91" name="矩形 10"/>
          <p:cNvSpPr/>
          <p:nvPr/>
        </p:nvSpPr>
        <p:spPr>
          <a:xfrm>
            <a:off x="3492360" y="1628640"/>
            <a:ext cx="2374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黑体"/>
                <a:ea typeface="黑体"/>
              </a:rPr>
              <a:t>书剑恩仇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1"/>
          <p:cNvSpPr/>
          <p:nvPr/>
        </p:nvSpPr>
        <p:spPr>
          <a:xfrm>
            <a:off x="1979640" y="2349360"/>
            <a:ext cx="525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书剑恩仇录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改编自同名武侠文学名著的大型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DMMORPG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金庸武侠开山之作。在研发过程中，主创团队凭借全球领先的自主研发引擎，细腻刻画了陈家洛与香香公主的爱恨情仇，以及快意江湖的红花会群雄，成功打造出中国首款奇情武侠网游巨作，为传统武侠网游市场带来一股清新之气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466560" y="18900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46360" y="609444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3"/>
          <p:cNvSpPr/>
          <p:nvPr/>
        </p:nvSpPr>
        <p:spPr>
          <a:xfrm>
            <a:off x="1547640" y="1592280"/>
            <a:ext cx="1260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403280" y="3909960"/>
            <a:ext cx="636912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entagon 12"/>
          <p:cNvSpPr/>
          <p:nvPr/>
        </p:nvSpPr>
        <p:spPr>
          <a:xfrm>
            <a:off x="1652760" y="3594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entagon 12"/>
          <p:cNvSpPr/>
          <p:nvPr/>
        </p:nvSpPr>
        <p:spPr>
          <a:xfrm>
            <a:off x="2529000" y="3594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entagon 12"/>
          <p:cNvSpPr/>
          <p:nvPr/>
        </p:nvSpPr>
        <p:spPr>
          <a:xfrm>
            <a:off x="3406680" y="3594240"/>
            <a:ext cx="927360" cy="287280"/>
          </a:xfrm>
          <a:custGeom>
            <a:avLst/>
            <a:gdLst>
              <a:gd name="textAreaLeft" fmla="*/ 0 w 927360"/>
              <a:gd name="textAreaRight" fmla="*/ 927720 w 927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entagon 12"/>
          <p:cNvSpPr/>
          <p:nvPr/>
        </p:nvSpPr>
        <p:spPr>
          <a:xfrm>
            <a:off x="4334040" y="3594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entagon 12"/>
          <p:cNvSpPr/>
          <p:nvPr/>
        </p:nvSpPr>
        <p:spPr>
          <a:xfrm>
            <a:off x="5226120" y="3594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entagon 12"/>
          <p:cNvSpPr/>
          <p:nvPr/>
        </p:nvSpPr>
        <p:spPr>
          <a:xfrm>
            <a:off x="6119640" y="3594240"/>
            <a:ext cx="900360" cy="287280"/>
          </a:xfrm>
          <a:custGeom>
            <a:avLst/>
            <a:gdLst>
              <a:gd name="textAreaLeft" fmla="*/ 0 w 900360"/>
              <a:gd name="textAreaRight" fmla="*/ 900720 w 900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entagon 12"/>
          <p:cNvSpPr/>
          <p:nvPr/>
        </p:nvSpPr>
        <p:spPr>
          <a:xfrm>
            <a:off x="7016760" y="3594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08" y="0"/>
                </a:lnTo>
                <a:lnTo>
                  <a:pt x="21600" y="10800"/>
                </a:lnTo>
                <a:lnTo>
                  <a:pt x="187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548080" y="3603600"/>
            <a:ext cx="1440" cy="216000"/>
            <a:chOff x="2548080" y="3603600"/>
            <a:chExt cx="1440" cy="216000"/>
          </a:xfrm>
        </p:grpSpPr>
        <p:sp>
          <p:nvSpPr>
            <p:cNvPr id="105" name="Line 19"/>
            <p:cNvSpPr/>
            <p:nvPr/>
          </p:nvSpPr>
          <p:spPr>
            <a:xfrm>
              <a:off x="2548080" y="3603600"/>
              <a:ext cx="1440" cy="216000"/>
            </a:xfrm>
            <a:prstGeom prst="line">
              <a:avLst/>
            </a:prstGeom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2548080" y="360360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441600" y="3603600"/>
            <a:ext cx="1800" cy="216000"/>
            <a:chOff x="3441600" y="3603600"/>
            <a:chExt cx="1800" cy="216000"/>
          </a:xfrm>
        </p:grpSpPr>
        <p:sp>
          <p:nvSpPr>
            <p:cNvPr id="108" name="Line 20"/>
            <p:cNvSpPr/>
            <p:nvPr/>
          </p:nvSpPr>
          <p:spPr>
            <a:xfrm>
              <a:off x="3441600" y="3603600"/>
              <a:ext cx="1800" cy="216000"/>
            </a:xfrm>
            <a:prstGeom prst="line">
              <a:avLst/>
            </a:prstGeom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3441600" y="3603600"/>
              <a:ext cx="180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335480" y="3603600"/>
            <a:ext cx="1440" cy="216000"/>
            <a:chOff x="4335480" y="3603600"/>
            <a:chExt cx="1440" cy="216000"/>
          </a:xfrm>
        </p:grpSpPr>
        <p:sp>
          <p:nvSpPr>
            <p:cNvPr id="111" name="Line 21"/>
            <p:cNvSpPr/>
            <p:nvPr/>
          </p:nvSpPr>
          <p:spPr>
            <a:xfrm>
              <a:off x="4335480" y="3603600"/>
              <a:ext cx="1440" cy="216000"/>
            </a:xfrm>
            <a:prstGeom prst="line">
              <a:avLst/>
            </a:prstGeom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4335480" y="360360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124680" y="3603600"/>
            <a:ext cx="1440" cy="216000"/>
            <a:chOff x="6124680" y="3603600"/>
            <a:chExt cx="1440" cy="216000"/>
          </a:xfrm>
        </p:grpSpPr>
        <p:sp>
          <p:nvSpPr>
            <p:cNvPr id="114" name="Line 22"/>
            <p:cNvSpPr/>
            <p:nvPr/>
          </p:nvSpPr>
          <p:spPr>
            <a:xfrm>
              <a:off x="6124680" y="3603600"/>
              <a:ext cx="1440" cy="216000"/>
            </a:xfrm>
            <a:prstGeom prst="line">
              <a:avLst/>
            </a:prstGeom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6124680" y="360360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229360" y="3603600"/>
            <a:ext cx="1440" cy="216000"/>
            <a:chOff x="5229360" y="3603600"/>
            <a:chExt cx="1440" cy="216000"/>
          </a:xfrm>
        </p:grpSpPr>
        <p:sp>
          <p:nvSpPr>
            <p:cNvPr id="117" name="Line 23"/>
            <p:cNvSpPr/>
            <p:nvPr/>
          </p:nvSpPr>
          <p:spPr>
            <a:xfrm>
              <a:off x="5229360" y="3603600"/>
              <a:ext cx="1440" cy="216000"/>
            </a:xfrm>
            <a:prstGeom prst="line">
              <a:avLst/>
            </a:prstGeom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5229360" y="360360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Pentagon 12"/>
          <p:cNvSpPr/>
          <p:nvPr/>
        </p:nvSpPr>
        <p:spPr>
          <a:xfrm>
            <a:off x="1403280" y="3595680"/>
            <a:ext cx="5508720" cy="287280"/>
          </a:xfrm>
          <a:custGeom>
            <a:avLst/>
            <a:gdLst>
              <a:gd name="textAreaLeft" fmla="*/ 0 w 5508720"/>
              <a:gd name="textAreaRight" fmla="*/ 5508720 w 5508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8"/>
          <p:cNvSpPr/>
          <p:nvPr/>
        </p:nvSpPr>
        <p:spPr>
          <a:xfrm>
            <a:off x="2836800" y="35942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9"/>
          <p:cNvSpPr/>
          <p:nvPr/>
        </p:nvSpPr>
        <p:spPr>
          <a:xfrm>
            <a:off x="3705120" y="3594240"/>
            <a:ext cx="7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0"/>
          <p:cNvSpPr/>
          <p:nvPr/>
        </p:nvSpPr>
        <p:spPr>
          <a:xfrm>
            <a:off x="4564800" y="35942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1"/>
          <p:cNvSpPr/>
          <p:nvPr/>
        </p:nvSpPr>
        <p:spPr>
          <a:xfrm>
            <a:off x="5361840" y="35942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3"/>
          <p:cNvSpPr/>
          <p:nvPr/>
        </p:nvSpPr>
        <p:spPr>
          <a:xfrm>
            <a:off x="6912000" y="3594240"/>
            <a:ext cx="860400" cy="276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201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4"/>
          <p:cNvSpPr/>
          <p:nvPr/>
        </p:nvSpPr>
        <p:spPr>
          <a:xfrm>
            <a:off x="1972440" y="35942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654200" y="1968120"/>
            <a:ext cx="73080" cy="1810080"/>
            <a:chOff x="1654200" y="1968120"/>
            <a:chExt cx="73080" cy="1810080"/>
          </a:xfrm>
        </p:grpSpPr>
        <p:sp>
          <p:nvSpPr>
            <p:cNvPr id="127" name="直接连接符 28"/>
            <p:cNvSpPr/>
            <p:nvPr/>
          </p:nvSpPr>
          <p:spPr>
            <a:xfrm flipV="1">
              <a:off x="1690920" y="1968120"/>
              <a:ext cx="0" cy="180972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流程图: 联系 29"/>
            <p:cNvSpPr/>
            <p:nvPr/>
          </p:nvSpPr>
          <p:spPr>
            <a:xfrm>
              <a:off x="1654200" y="3706200"/>
              <a:ext cx="73080" cy="72000"/>
            </a:xfrm>
            <a:prstGeom prst="flowChartConnector">
              <a:avLst/>
            </a:prstGeom>
            <a:solidFill>
              <a:srgbClr val="7f7f7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73"/>
          <p:cNvSpPr/>
          <p:nvPr/>
        </p:nvSpPr>
        <p:spPr>
          <a:xfrm>
            <a:off x="6056280" y="3594240"/>
            <a:ext cx="855720" cy="27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590920" y="2257200"/>
            <a:ext cx="73080" cy="1541520"/>
            <a:chOff x="2590920" y="2257200"/>
            <a:chExt cx="73080" cy="1541520"/>
          </a:xfrm>
        </p:grpSpPr>
        <p:sp>
          <p:nvSpPr>
            <p:cNvPr id="131" name="直接连接符 32"/>
            <p:cNvSpPr/>
            <p:nvPr/>
          </p:nvSpPr>
          <p:spPr>
            <a:xfrm flipV="1">
              <a:off x="2627640" y="2257200"/>
              <a:ext cx="0" cy="154116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流程图: 联系 33"/>
            <p:cNvSpPr/>
            <p:nvPr/>
          </p:nvSpPr>
          <p:spPr>
            <a:xfrm>
              <a:off x="2590920" y="3727080"/>
              <a:ext cx="73080" cy="71640"/>
            </a:xfrm>
            <a:prstGeom prst="flowChartConnector">
              <a:avLst/>
            </a:prstGeom>
            <a:solidFill>
              <a:srgbClr val="7f7f7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454560" y="2565000"/>
            <a:ext cx="72720" cy="1219680"/>
            <a:chOff x="3454560" y="2565000"/>
            <a:chExt cx="72720" cy="1219680"/>
          </a:xfrm>
        </p:grpSpPr>
        <p:sp>
          <p:nvSpPr>
            <p:cNvPr id="134" name="直接连接符 36"/>
            <p:cNvSpPr/>
            <p:nvPr/>
          </p:nvSpPr>
          <p:spPr>
            <a:xfrm flipV="1">
              <a:off x="3490920" y="2565000"/>
              <a:ext cx="0" cy="121932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流程图: 联系 37"/>
            <p:cNvSpPr/>
            <p:nvPr/>
          </p:nvSpPr>
          <p:spPr>
            <a:xfrm>
              <a:off x="3454560" y="3712680"/>
              <a:ext cx="72720" cy="72000"/>
            </a:xfrm>
            <a:prstGeom prst="flowChartConnector">
              <a:avLst/>
            </a:prstGeom>
            <a:solidFill>
              <a:srgbClr val="7f7f7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319640" y="2873160"/>
            <a:ext cx="71280" cy="911520"/>
            <a:chOff x="4319640" y="2873160"/>
            <a:chExt cx="71280" cy="911520"/>
          </a:xfrm>
        </p:grpSpPr>
        <p:sp>
          <p:nvSpPr>
            <p:cNvPr id="137" name="直接连接符 40"/>
            <p:cNvSpPr/>
            <p:nvPr/>
          </p:nvSpPr>
          <p:spPr>
            <a:xfrm flipV="1">
              <a:off x="4355280" y="2873160"/>
              <a:ext cx="0" cy="91116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流程图: 联系 41"/>
            <p:cNvSpPr/>
            <p:nvPr/>
          </p:nvSpPr>
          <p:spPr>
            <a:xfrm>
              <a:off x="4319640" y="3712680"/>
              <a:ext cx="71280" cy="72000"/>
            </a:xfrm>
            <a:prstGeom prst="flowChartConnector">
              <a:avLst/>
            </a:prstGeom>
            <a:solidFill>
              <a:srgbClr val="7f7f7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183280" y="3174480"/>
            <a:ext cx="71280" cy="614880"/>
            <a:chOff x="5183280" y="3174480"/>
            <a:chExt cx="71280" cy="614880"/>
          </a:xfrm>
        </p:grpSpPr>
        <p:sp>
          <p:nvSpPr>
            <p:cNvPr id="140" name="直接连接符 44"/>
            <p:cNvSpPr/>
            <p:nvPr/>
          </p:nvSpPr>
          <p:spPr>
            <a:xfrm flipV="1">
              <a:off x="5218920" y="3174480"/>
              <a:ext cx="0" cy="61452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流程图: 联系 45"/>
            <p:cNvSpPr/>
            <p:nvPr/>
          </p:nvSpPr>
          <p:spPr>
            <a:xfrm>
              <a:off x="5183280" y="3717360"/>
              <a:ext cx="71280" cy="72000"/>
            </a:xfrm>
            <a:prstGeom prst="flowChartConnector">
              <a:avLst/>
            </a:prstGeom>
            <a:solidFill>
              <a:srgbClr val="7f7f7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904000" y="3717720"/>
            <a:ext cx="71280" cy="648000"/>
            <a:chOff x="5904000" y="3717720"/>
            <a:chExt cx="71280" cy="648000"/>
          </a:xfrm>
        </p:grpSpPr>
        <p:sp>
          <p:nvSpPr>
            <p:cNvPr id="143" name="直接连接符 48"/>
            <p:cNvSpPr/>
            <p:nvPr/>
          </p:nvSpPr>
          <p:spPr>
            <a:xfrm>
              <a:off x="5939640" y="3718080"/>
              <a:ext cx="0" cy="64764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流程图: 联系 49"/>
            <p:cNvSpPr/>
            <p:nvPr/>
          </p:nvSpPr>
          <p:spPr>
            <a:xfrm flipV="1">
              <a:off x="5904000" y="3717360"/>
              <a:ext cx="71280" cy="70920"/>
            </a:xfrm>
            <a:prstGeom prst="flowChartConnector">
              <a:avLst/>
            </a:prstGeom>
            <a:solidFill>
              <a:srgbClr val="7f7f7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767640" y="3718080"/>
            <a:ext cx="71280" cy="1008000"/>
            <a:chOff x="6767640" y="3718080"/>
            <a:chExt cx="71280" cy="1008000"/>
          </a:xfrm>
        </p:grpSpPr>
        <p:sp>
          <p:nvSpPr>
            <p:cNvPr id="146" name="直接连接符 52"/>
            <p:cNvSpPr/>
            <p:nvPr/>
          </p:nvSpPr>
          <p:spPr>
            <a:xfrm>
              <a:off x="6803280" y="3718080"/>
              <a:ext cx="0" cy="1008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流程图: 联系 53"/>
            <p:cNvSpPr/>
            <p:nvPr/>
          </p:nvSpPr>
          <p:spPr>
            <a:xfrm flipV="1">
              <a:off x="6767640" y="3717720"/>
              <a:ext cx="71280" cy="70920"/>
            </a:xfrm>
            <a:prstGeom prst="flowChartConnector">
              <a:avLst/>
            </a:prstGeom>
            <a:solidFill>
              <a:srgbClr val="7f7f7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559640" y="3717720"/>
            <a:ext cx="71640" cy="1440000"/>
            <a:chOff x="7559640" y="3717720"/>
            <a:chExt cx="71640" cy="1440000"/>
          </a:xfrm>
        </p:grpSpPr>
        <p:sp>
          <p:nvSpPr>
            <p:cNvPr id="149" name="直接连接符 56"/>
            <p:cNvSpPr/>
            <p:nvPr/>
          </p:nvSpPr>
          <p:spPr>
            <a:xfrm>
              <a:off x="7595640" y="3718080"/>
              <a:ext cx="0" cy="143964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流程图: 联系 57"/>
            <p:cNvSpPr/>
            <p:nvPr/>
          </p:nvSpPr>
          <p:spPr>
            <a:xfrm flipV="1">
              <a:off x="7559640" y="3717720"/>
              <a:ext cx="71640" cy="68400"/>
            </a:xfrm>
            <a:prstGeom prst="flowChartConnector">
              <a:avLst/>
            </a:prstGeom>
            <a:solidFill>
              <a:srgbClr val="7f7f7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Box 59"/>
          <p:cNvSpPr/>
          <p:nvPr/>
        </p:nvSpPr>
        <p:spPr>
          <a:xfrm>
            <a:off x="2482920" y="1879560"/>
            <a:ext cx="1262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0"/>
          <p:cNvSpPr/>
          <p:nvPr/>
        </p:nvSpPr>
        <p:spPr>
          <a:xfrm>
            <a:off x="3348000" y="2239920"/>
            <a:ext cx="1260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1"/>
          <p:cNvSpPr/>
          <p:nvPr/>
        </p:nvSpPr>
        <p:spPr>
          <a:xfrm>
            <a:off x="5796000" y="4076640"/>
            <a:ext cx="1262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2"/>
          <p:cNvSpPr/>
          <p:nvPr/>
        </p:nvSpPr>
        <p:spPr>
          <a:xfrm>
            <a:off x="4211640" y="2492280"/>
            <a:ext cx="1262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3"/>
          <p:cNvSpPr/>
          <p:nvPr/>
        </p:nvSpPr>
        <p:spPr>
          <a:xfrm>
            <a:off x="5076720" y="2819520"/>
            <a:ext cx="1260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4"/>
          <p:cNvSpPr/>
          <p:nvPr/>
        </p:nvSpPr>
        <p:spPr>
          <a:xfrm>
            <a:off x="6661080" y="4437000"/>
            <a:ext cx="1260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65"/>
          <p:cNvSpPr/>
          <p:nvPr/>
        </p:nvSpPr>
        <p:spPr>
          <a:xfrm>
            <a:off x="6983280" y="4940280"/>
            <a:ext cx="1262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6"/>
          <p:cNvSpPr/>
          <p:nvPr/>
        </p:nvSpPr>
        <p:spPr>
          <a:xfrm>
            <a:off x="466560" y="18900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荣誉殿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67" descr=""/>
          <p:cNvPicPr/>
          <p:nvPr/>
        </p:nvPicPr>
        <p:blipFill>
          <a:blip r:embed="rId1"/>
          <a:srcRect l="17639" t="15349" r="17639" b="64700"/>
          <a:stretch/>
        </p:blipFill>
        <p:spPr>
          <a:xfrm>
            <a:off x="1187280" y="4653000"/>
            <a:ext cx="3456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6"/>
          <p:cNvSpPr/>
          <p:nvPr/>
        </p:nvSpPr>
        <p:spPr>
          <a:xfrm>
            <a:off x="1403280" y="2205000"/>
            <a:ext cx="1935360" cy="395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4a7d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 6"/>
          <p:cNvSpPr/>
          <p:nvPr/>
        </p:nvSpPr>
        <p:spPr>
          <a:xfrm>
            <a:off x="1285920" y="2603520"/>
            <a:ext cx="2071800" cy="2225520"/>
          </a:xfrm>
          <a:custGeom>
            <a:avLst/>
            <a:gdLst>
              <a:gd name="textAreaLeft" fmla="*/ 43560 w 2071800"/>
              <a:gd name="textAreaRight" fmla="*/ 2028240 w 2071800"/>
              <a:gd name="textAreaTop" fmla="*/ 43560 h 2225520"/>
              <a:gd name="textAreaBottom" fmla="*/ 2181960 h 2225520"/>
            </a:gdLst>
            <a:ahLst/>
            <a:rect l="textAreaLeft" t="textAreaTop" r="textAreaRight" b="textAreaBottom"/>
            <a:pathLst>
              <a:path w="21600" h="23202">
                <a:moveTo>
                  <a:pt x="1557" y="0"/>
                </a:moveTo>
                <a:arcTo wR="1557" hR="1557" stAng="16200000" swAng="-5400000"/>
                <a:lnTo>
                  <a:pt x="0" y="21645"/>
                </a:lnTo>
                <a:arcTo wR="1557" hR="1557" stAng="10800000" swAng="-5400000"/>
                <a:lnTo>
                  <a:pt x="20043" y="23202"/>
                </a:lnTo>
                <a:arcTo wR="1557" hR="1557" stAng="5400000" swAng="-5400000"/>
                <a:lnTo>
                  <a:pt x="21600" y="1557"/>
                </a:lnTo>
                <a:arcTo wR="1557" hR="155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圆角矩形 7"/>
          <p:cNvSpPr/>
          <p:nvPr/>
        </p:nvSpPr>
        <p:spPr>
          <a:xfrm>
            <a:off x="3579840" y="2603520"/>
            <a:ext cx="2071800" cy="2225520"/>
          </a:xfrm>
          <a:custGeom>
            <a:avLst/>
            <a:gdLst>
              <a:gd name="textAreaLeft" fmla="*/ 43560 w 2071800"/>
              <a:gd name="textAreaRight" fmla="*/ 2028240 w 2071800"/>
              <a:gd name="textAreaTop" fmla="*/ 43560 h 2225520"/>
              <a:gd name="textAreaBottom" fmla="*/ 2181960 h 2225520"/>
            </a:gdLst>
            <a:ahLst/>
            <a:rect l="textAreaLeft" t="textAreaTop" r="textAreaRight" b="textAreaBottom"/>
            <a:pathLst>
              <a:path w="21600" h="23202">
                <a:moveTo>
                  <a:pt x="1557" y="0"/>
                </a:moveTo>
                <a:arcTo wR="1557" hR="1557" stAng="16200000" swAng="-5400000"/>
                <a:lnTo>
                  <a:pt x="0" y="21645"/>
                </a:lnTo>
                <a:arcTo wR="1557" hR="1557" stAng="10800000" swAng="-5400000"/>
                <a:lnTo>
                  <a:pt x="20043" y="23202"/>
                </a:lnTo>
                <a:arcTo wR="1557" hR="1557" stAng="5400000" swAng="-5400000"/>
                <a:lnTo>
                  <a:pt x="21600" y="1557"/>
                </a:lnTo>
                <a:arcTo wR="1557" hR="155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8"/>
          <p:cNvSpPr/>
          <p:nvPr/>
        </p:nvSpPr>
        <p:spPr>
          <a:xfrm>
            <a:off x="5821200" y="2603520"/>
            <a:ext cx="2071800" cy="2225520"/>
          </a:xfrm>
          <a:custGeom>
            <a:avLst/>
            <a:gdLst>
              <a:gd name="textAreaLeft" fmla="*/ 43560 w 2071800"/>
              <a:gd name="textAreaRight" fmla="*/ 2028240 w 2071800"/>
              <a:gd name="textAreaTop" fmla="*/ 43560 h 2225520"/>
              <a:gd name="textAreaBottom" fmla="*/ 2181960 h 2225520"/>
            </a:gdLst>
            <a:ahLst/>
            <a:rect l="textAreaLeft" t="textAreaTop" r="textAreaRight" b="textAreaBottom"/>
            <a:pathLst>
              <a:path w="21600" h="23202">
                <a:moveTo>
                  <a:pt x="1557" y="0"/>
                </a:moveTo>
                <a:arcTo wR="1557" hR="1557" stAng="16200000" swAng="-5400000"/>
                <a:lnTo>
                  <a:pt x="0" y="21645"/>
                </a:lnTo>
                <a:arcTo wR="1557" hR="1557" stAng="10800000" swAng="-5400000"/>
                <a:lnTo>
                  <a:pt x="20043" y="23202"/>
                </a:lnTo>
                <a:arcTo wR="1557" hR="1557" stAng="5400000" swAng="-5400000"/>
                <a:lnTo>
                  <a:pt x="21600" y="1557"/>
                </a:lnTo>
                <a:arcTo wR="1557" hR="155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3635280" y="2205000"/>
            <a:ext cx="1935360" cy="395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4a7d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867280" y="2205000"/>
            <a:ext cx="1935360" cy="395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4a7d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13" descr=""/>
          <p:cNvPicPr/>
          <p:nvPr/>
        </p:nvPicPr>
        <p:blipFill>
          <a:blip r:embed="rId1"/>
          <a:srcRect l="11413" t="82178" r="29526" b="14374"/>
          <a:stretch/>
        </p:blipFill>
        <p:spPr>
          <a:xfrm>
            <a:off x="1116000" y="5805360"/>
            <a:ext cx="6912000" cy="276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246360" y="609444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9" name="图片 3" descr=""/>
          <p:cNvPicPr/>
          <p:nvPr/>
        </p:nvPicPr>
        <p:blipFill>
          <a:blip r:embed="rId1"/>
          <a:srcRect l="16222" t="19553" r="14533" b="18503"/>
          <a:stretch/>
        </p:blipFill>
        <p:spPr>
          <a:xfrm>
            <a:off x="1187280" y="1339920"/>
            <a:ext cx="684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5580000" y="4437000"/>
            <a:ext cx="208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4788000" y="364500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28120" y="6165720"/>
            <a:ext cx="44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4:51:24Z</dcterms:created>
  <dc:creator/>
  <dc:description/>
  <dc:language>en-US</dc:language>
  <cp:lastModifiedBy>ecma</cp:lastModifiedBy>
  <dcterms:modified xsi:type="dcterms:W3CDTF">2015-01-10T08:55:51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