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05D-0786-4BCB-BA76-62300C78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472-32E0-410C-8798-E05E18F9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F26-2EB2-4C40-925E-A434D52A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186-E96B-440D-987C-8AF57A49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8BBA-2132-4132-B533-8CC83D28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E29A-B9AB-45A7-8E3B-1D34F3BF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CCE2-022C-4759-AFBC-4AC815A8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BC1D-D1FE-4AFB-9FAF-0CCD0811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BE42-BEAC-4FF2-8CC2-81E50687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D417-D005-4E5C-A5B4-648E9DFA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94D0-5246-4E52-A316-66B85759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AD4-A355-4E9B-8518-40295A1D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6C84-E1C1-413A-9C46-9F9B12D9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EC41-0C8E-4890-95B7-345222DF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499E-FB72-434A-81CA-084A6044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F583-22D7-43F5-86CB-6F5E475B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8696-2BB6-434F-B0AF-DD3D4238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544BF-6AAD-4FDB-92D7-062DB4AA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555E3-CCC4-4182-9512-7D70F066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B98FF-627E-47D6-981E-761C1122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E05BD-191D-4CDB-ACF0-05139ED3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E8512-47CE-4168-8110-4A7D9C25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01D4-6E57-4B59-AF6E-7B3D17A5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29428-30D6-49E6-B774-46D6CF0C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FF90E-A882-4A20-8A79-0FA2D72F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118DB-E68E-42C6-8C1B-CCC81BD0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75B1A-A20D-4B47-B9BD-B42C72B1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82FCC-C3D5-46CC-8280-22FAFC8F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A3E5A-D5BF-45DF-9997-D8599C6F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BEE38-5550-4C0F-965A-7595E444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D4897-ECDB-4DE5-9CE7-9D0AF5C2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C69CA-C46F-410D-AB25-2F6E4309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97928-D9DB-473A-86F0-CF559F14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055-6807-487A-BE0B-2B13520A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A153D-C7C1-44B9-BE15-8392367E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7AB67-F5ED-4710-987C-59096D9A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DA7AB-3ACE-402A-93ED-F93ABF54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DCA07-D967-4ACD-9DD8-A5565544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54AFF-5F43-41BC-8F97-10FE861D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B4066-DF92-4045-AE8A-1D611827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C50BB-D483-495F-A6F2-D43CE469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09558-7D42-41F1-A48E-8FA06187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F53E5-E3DF-4129-AE23-D8978539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C233-DEB7-4596-BBA3-CE5E4B97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146-1E76-4CE1-8FBF-DF1974AC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D91-67C3-4544-B0CB-D5256E0C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69A-8E03-4E60-ADCB-56B488B0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C18-D58B-4B8C-8EEC-5FECD18D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91A8-326D-4757-AD94-E141E4BC33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2CA6-B10A-45BC-A20A-F05B02B1D9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1568-9971-4B75-847B-311F0DD208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A794-912F-4E37-A29C-9B97894C5C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668520" y="46767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设计及相关企业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1629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7111440" y="4653000"/>
            <a:ext cx="121716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945120" y="51498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0:36:25Z</dcterms:created>
  <dc:creator>锐普</dc:creator>
  <dc:description/>
  <dc:language>en-US</dc:language>
  <cp:lastModifiedBy>User</cp:lastModifiedBy>
  <dcterms:modified xsi:type="dcterms:W3CDTF">2015-01-10T12:36:59Z</dcterms:modified>
  <cp:revision>10</cp:revision>
  <dc:subject/>
  <dc:title>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