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37A-6CB6-4881-960C-73AF64D0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56A-FCEF-4E0C-8EDA-616584D4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9F0-FAC2-4555-9AD9-A6A6E0EC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969-8E92-45C9-88EB-7D7315C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AB96-5F7A-45DB-A4BC-9B2CDDEB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CCA3-85E6-4B22-AA21-4690D34E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ECD-E60E-43F9-B178-C300A61F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83D2-0A23-4C69-9F7F-54ECA28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2D7-04F0-4FCD-A8EC-0E49B745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FF61-68C3-4F27-BDDC-8338D72F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58CD-43E6-4C12-97E7-163EC0F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517-0447-4886-A3C3-51E78472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771B-ED70-40F5-8330-2A61A53D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CEA5-9237-4E36-ACC4-D1FB0CC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8E6-3CA4-4F77-8870-BFE184A8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9740-43AF-4AC0-8CAE-B3686B62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996A-21F8-457C-A6FD-1D3CD727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2C4-1C80-4DC7-8CEF-7F55AACA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99C-AE3F-49C5-AC4E-B856C3F8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904-FE8B-4787-85CD-5D80131A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D1E-B3CD-42D9-ACA0-5E6A7206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4BC-46CD-48C8-846D-17DB5F2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B0D-C4AF-45F4-80D2-2A9E189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0AA-D045-4A78-AFDB-E67BBA8B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a99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99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99e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E134-3FED-4C1E-8489-9F1255FF11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DC70-6EE1-4853-AE81-E03FD00E543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a99e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a99e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a99e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深蓝工作报告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d5f4"/>
                </a:solidFill>
                <a:latin typeface="Arial"/>
              </a:rPr>
              <a:t>单击此处添加副标题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日程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8954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8098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7242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 </a:t>
            </a: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循环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1" name="未知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beacf"/>
              </a:gs>
              <a:gs pos="100000">
                <a:srgbClr val="70b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d8b3"/>
              </a:gs>
              <a:gs pos="100000">
                <a:srgbClr val="be993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ae5f9"/>
              </a:gs>
              <a:gs pos="100000">
                <a:srgbClr val="2a99e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cd5f4"/>
              </a:gs>
              <a:gs pos="100000">
                <a:srgbClr val="678da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ae2f3"/>
              </a:gs>
              <a:gs pos="100000">
                <a:srgbClr val="6b8ed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40160" y="350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180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3640" y="218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73720" y="449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2760" y="5119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循环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1014840" y="1295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流程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6668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8616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框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120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134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9804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05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07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356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45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700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948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623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表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025720"/>
          <a:ext cx="7620120" cy="34002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三维饼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01600">
            <a:off x="1382400" y="19209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01600">
            <a:off x="1434960" y="188856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rot="20602200">
            <a:off x="1438200" y="1902960"/>
            <a:ext cx="575244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01600">
            <a:off x="1440000" y="19008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20602200">
            <a:off x="1423440" y="19080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9560" y="1222560"/>
            <a:ext cx="6918480" cy="4356720"/>
            <a:chOff x="529560" y="1222560"/>
            <a:chExt cx="6918480" cy="4356720"/>
          </a:xfrm>
        </p:grpSpPr>
        <p:sp>
          <p:nvSpPr>
            <p:cNvPr id="162" name=""/>
            <p:cNvSpPr/>
            <p:nvPr/>
          </p:nvSpPr>
          <p:spPr>
            <a:xfrm rot="20712600">
              <a:off x="782280" y="19940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rot="20712600">
              <a:off x="4186080" y="31921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 rot="20712600">
              <a:off x="5562000" y="33602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03680" y="925200"/>
            <a:ext cx="6957360" cy="4863240"/>
            <a:chOff x="1003680" y="925200"/>
            <a:chExt cx="6957360" cy="4863240"/>
          </a:xfrm>
        </p:grpSpPr>
        <p:sp>
          <p:nvSpPr>
            <p:cNvPr id="166" name="未知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17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539200">
              <a:off x="1323720" y="18111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 rot="20601600">
              <a:off x="4757760" y="309348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152a83"/>
              </a:gs>
              <a:gs pos="100000">
                <a:srgbClr val="060d2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71600" y="243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71400" y="1981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42600" y="27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1400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6480" y="42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792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870120" y="4103640"/>
            <a:ext cx="1512720" cy="1511280"/>
            <a:chOff x="870120" y="4103640"/>
            <a:chExt cx="1512720" cy="1511280"/>
          </a:xfrm>
        </p:grpSpPr>
        <p:sp>
          <p:nvSpPr>
            <p:cNvPr id="178" name=""/>
            <p:cNvSpPr/>
            <p:nvPr/>
          </p:nvSpPr>
          <p:spPr>
            <a:xfrm>
              <a:off x="870120" y="4103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cd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0120" y="4103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cd5f4"/>
                </a:gs>
                <a:gs pos="100000">
                  <a:srgbClr val="b9e0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69120" y="4202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47283"/>
                </a:gs>
                <a:gs pos="50000">
                  <a:srgbClr val="9cd5f4"/>
                </a:gs>
                <a:gs pos="100000">
                  <a:srgbClr val="5472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69120" y="4202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b6776"/>
                </a:gs>
                <a:gs pos="100000">
                  <a:srgbClr val="9cd5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5000" y="4268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476270"/>
                </a:gs>
                <a:gs pos="100000">
                  <a:srgbClr val="9cd5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市场分析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463760" y="23274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cd5f4"/>
              </a:gs>
              <a:gs pos="100000">
                <a:srgbClr val="ddf0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86320" y="4051440"/>
            <a:ext cx="1512720" cy="1511280"/>
            <a:chOff x="4486320" y="4051440"/>
            <a:chExt cx="1512720" cy="1511280"/>
          </a:xfrm>
        </p:grpSpPr>
        <p:sp>
          <p:nvSpPr>
            <p:cNvPr id="186" name=""/>
            <p:cNvSpPr/>
            <p:nvPr/>
          </p:nvSpPr>
          <p:spPr>
            <a:xfrm>
              <a:off x="448632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8632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8532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8532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51200" y="42159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59400" y="4051440"/>
            <a:ext cx="1513080" cy="1511280"/>
            <a:chOff x="6359400" y="4051440"/>
            <a:chExt cx="1513080" cy="1511280"/>
          </a:xfrm>
        </p:grpSpPr>
        <p:sp>
          <p:nvSpPr>
            <p:cNvPr id="192" name=""/>
            <p:cNvSpPr/>
            <p:nvPr/>
          </p:nvSpPr>
          <p:spPr>
            <a:xfrm>
              <a:off x="6359400" y="40514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e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9400" y="40514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9bb2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58400" y="41500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58400" y="41500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4466"/>
                </a:gs>
                <a:gs pos="100000">
                  <a:srgbClr val="6b8e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4280" y="42159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14161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687760" y="4051440"/>
            <a:ext cx="1512720" cy="1511280"/>
            <a:chOff x="2687760" y="4051440"/>
            <a:chExt cx="1512720" cy="1511280"/>
          </a:xfrm>
        </p:grpSpPr>
        <p:sp>
          <p:nvSpPr>
            <p:cNvPr id="198" name=""/>
            <p:cNvSpPr/>
            <p:nvPr/>
          </p:nvSpPr>
          <p:spPr>
            <a:xfrm>
              <a:off x="268776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8776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8676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8676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52640" y="42159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905120" y="16891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5920" y="467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3520" y="467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4720" y="467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8280" y="466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9336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0b04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使用规范说明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7:59:14Z</dcterms:created>
  <dc:creator/>
  <dc:description/>
  <dc:language>en-US</dc:language>
  <cp:lastModifiedBy/>
  <dcterms:modified xsi:type="dcterms:W3CDTF">2015-01-10T11:36:51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367952052</vt:lpwstr>
  </property>
</Properties>
</file>