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673-7EE6-4E07-AB3C-A49EC76D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E4A-7541-467E-B515-05C1C375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B6F-EC02-47E5-B3A7-AE79B0AD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47D-1329-43F8-8B90-83E00994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C97-E0BB-480B-8DBB-BF027D7C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2E3-8511-4EB9-861C-22998FC6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40F-F7E4-43A7-8D44-BEA460CA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2D2C-92F8-4C39-BECF-C4FED09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3EF4-9579-41F8-9F1D-4A1A5307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EA4B-D863-4488-8811-0DAC1005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5E18-C4D4-45FA-9097-4677070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22F-EA86-4E9B-8BC0-A0AD1151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1BA8-F37C-4904-8D13-68BF1C6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60E-5FB5-4BDE-9B18-D569719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632-7204-441A-824D-D943585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4C89-F08E-4131-B8D5-430ACDC9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9952-AC0E-4D71-95F6-CD95AC3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D59-9762-4254-BB95-45923A0E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AEE-FFDC-4AD5-9F46-928C32D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B07-51E6-4095-B25A-742981A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1E3-D173-4C2F-B9CA-ACE7E9D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9A2-72C8-45CA-9B60-62F80EC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561-5240-4818-A6FF-BC146E2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A8F-46FF-479E-8820-4C576F0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DAE-74A3-4440-BBC0-C18F37F31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7D4-5CC5-411E-9DEF-3C22C4409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11:56Z</dcterms:created>
  <dc:creator/>
  <dc:description/>
  <dc:language>en-US</dc:language>
  <cp:lastModifiedBy/>
  <dcterms:modified xsi:type="dcterms:W3CDTF">2015-01-10T12:22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