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81D7-D1DC-42B4-AA5B-878FA79BC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0382-5EFE-4DAB-A6F6-A73EEEEE5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D4EF-8B80-4F2A-810B-C55B07128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F2CD-7B05-4DE0-AE4D-B26E6B8E5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4140-830B-4555-820D-0BFFA9862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DD26-B91C-48DB-9CFA-4F3D2D115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BF37-014E-4C3F-BE40-21DBF26F0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892D-9754-4B7B-AB03-92140E3A3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F9CC-28BC-466B-B501-70142B7D8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CC04-7E9A-4BF0-917A-87CDBC23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2353-05C9-458B-91F7-7B78FB93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390E-0812-431D-881D-CE954E1C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4440E-7007-41FE-A2BA-AC0BB54152DD}" type="slidenum">
              <a:rPr b="0" lang="fr-CA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800" spc="-1" strike="noStrike">
                <a:solidFill>
                  <a:srgbClr val="262626"/>
                </a:solidFill>
                <a:latin typeface="Calibri"/>
              </a:rPr>
              <a:t>深绿色</a:t>
            </a:r>
            <a:r>
              <a:rPr b="0" lang="zh-CN" sz="3800" spc="-1" strike="noStrike">
                <a:solidFill>
                  <a:srgbClr val="262626"/>
                </a:solidFill>
                <a:latin typeface="Calibri"/>
                <a:ea typeface="宋体"/>
              </a:rPr>
              <a:t>PPT</a:t>
            </a:r>
            <a:r>
              <a:rPr b="0" lang="fr-CA" sz="3800" spc="-1" strike="noStrike">
                <a:solidFill>
                  <a:srgbClr val="262626"/>
                </a:solidFill>
                <a:latin typeface="Calibri"/>
              </a:rPr>
              <a:t>模板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798360"/>
            <a:ext cx="6400800" cy="5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alibri"/>
              </a:rPr>
              <a:t>Company Na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6950160" y="6237360"/>
            <a:ext cx="19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1"/>
          <p:cNvSpPr/>
          <p:nvPr/>
        </p:nvSpPr>
        <p:spPr>
          <a:xfrm>
            <a:off x="1403280" y="0"/>
            <a:ext cx="7740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4272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14272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3"/>
          <p:cNvSpPr/>
          <p:nvPr/>
        </p:nvSpPr>
        <p:spPr>
          <a:xfrm>
            <a:off x="0" y="1197000"/>
            <a:ext cx="9144000" cy="566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785960"/>
            <a:ext cx="822960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1748880" y="640404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21:40:49Z</dcterms:created>
  <dc:creator>我爱PPT官方网 - 中文演示设计平台 www.iloveppt.org; Admin</dc:creator>
  <dc:description>我爱PPT官方网 - 中文演示设计平台 www.iloveppt.org</dc:description>
  <cp:keywords>我爱PPT官方网 - 中文演示设计平台 www.iloveppt.org</cp:keywords>
  <dc:language>en-US</dc:language>
  <cp:lastModifiedBy>ilovePPT.ORG</cp:lastModifiedBy>
  <dcterms:modified xsi:type="dcterms:W3CDTF">2015-01-11T09:29:24Z</dcterms:modified>
  <cp:revision>14</cp:revision>
  <dc:subject>通用纹理</dc:subject>
  <dc:title>我爱PPT官方网 - 中文演示设计平台 www.iloveppt.or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