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E59-FD02-48EF-AEE1-AC100A28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B44-D3CF-4D35-BDA3-08F3E408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840-9D8D-48F5-9179-F75AA2AF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E8D-AF6A-4F8A-AF2C-D3FC7C90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972-82E5-4632-A4F6-18196D1B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971-08C4-4433-8A5E-CA90ED29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E9E-CB12-4EC2-9CC9-92D3C2C1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2A1-976E-4DF0-B51D-8155C8FB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693-1F0F-46D0-89D8-6983F65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F57-FF75-4219-B16C-9CFA4228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140-B2BA-4D33-AE63-8E8F3E4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F15-42D2-4AE3-AB4E-0432B149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FC76-B8D0-4113-B4C2-0965DBE76A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4581360" y="330840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蓝时尚报告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16"/>
          <p:cNvSpPr/>
          <p:nvPr/>
        </p:nvSpPr>
        <p:spPr>
          <a:xfrm>
            <a:off x="4579920" y="3821040"/>
            <a:ext cx="338292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18"/>
          <p:cNvSpPr/>
          <p:nvPr/>
        </p:nvSpPr>
        <p:spPr>
          <a:xfrm>
            <a:off x="4794120" y="38815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re adds your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971960" y="1630440"/>
            <a:ext cx="2544840" cy="1469880"/>
            <a:chOff x="4971960" y="1630440"/>
            <a:chExt cx="2544840" cy="1469880"/>
          </a:xfrm>
        </p:grpSpPr>
        <p:sp>
          <p:nvSpPr>
            <p:cNvPr id="45" name="Rectangle 9"/>
            <p:cNvSpPr/>
            <p:nvPr/>
          </p:nvSpPr>
          <p:spPr>
            <a:xfrm>
              <a:off x="5109120" y="2378160"/>
              <a:ext cx="297360" cy="718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Line 13"/>
            <p:cNvSpPr/>
            <p:nvPr/>
          </p:nvSpPr>
          <p:spPr>
            <a:xfrm>
              <a:off x="4971960" y="3099600"/>
              <a:ext cx="2544840" cy="720"/>
            </a:xfrm>
            <a:prstGeom prst="line">
              <a:avLst/>
            </a:prstGeom>
            <a:ln w="28440">
              <a:solidFill>
                <a:srgbClr val="dc7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5088240" y="1630440"/>
              <a:ext cx="2406240" cy="68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8716" y="16145"/>
                  </a:lnTo>
                  <a:lnTo>
                    <a:pt x="11906" y="6850"/>
                  </a:lnTo>
                  <a:lnTo>
                    <a:pt x="21600" y="0"/>
                  </a:lnTo>
                </a:path>
              </a:pathLst>
            </a:custGeom>
            <a:noFill/>
            <a:ln w="19080">
              <a:solidFill>
                <a:srgbClr val="ffc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590800" y="2315160"/>
              <a:ext cx="297360" cy="78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6072120" y="2202840"/>
              <a:ext cx="297360" cy="8938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6553440" y="1967040"/>
              <a:ext cx="297360" cy="11300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7034760" y="1809720"/>
              <a:ext cx="297360" cy="12870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文本框 26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7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F33D-FFA5-4D91-BB48-DCEAA79FE26E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0341000" y="60008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4"/>
          <p:cNvSpPr/>
          <p:nvPr/>
        </p:nvSpPr>
        <p:spPr>
          <a:xfrm>
            <a:off x="1533600" y="123984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16"/>
          <p:cNvSpPr/>
          <p:nvPr/>
        </p:nvSpPr>
        <p:spPr>
          <a:xfrm>
            <a:off x="1687680" y="1922400"/>
            <a:ext cx="338292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18"/>
          <p:cNvSpPr/>
          <p:nvPr/>
        </p:nvSpPr>
        <p:spPr>
          <a:xfrm>
            <a:off x="2319480" y="268272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"/>
          <p:cNvSpPr/>
          <p:nvPr/>
        </p:nvSpPr>
        <p:spPr>
          <a:xfrm flipH="1">
            <a:off x="1971720" y="2719440"/>
            <a:ext cx="347760" cy="4474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1687680" y="2614680"/>
            <a:ext cx="3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7"/>
          <p:cNvSpPr/>
          <p:nvPr/>
        </p:nvSpPr>
        <p:spPr>
          <a:xfrm>
            <a:off x="2319480" y="356724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19"/>
          <p:cNvSpPr/>
          <p:nvPr/>
        </p:nvSpPr>
        <p:spPr>
          <a:xfrm flipH="1">
            <a:off x="1971720" y="3605040"/>
            <a:ext cx="347760" cy="44784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25"/>
          <p:cNvSpPr/>
          <p:nvPr/>
        </p:nvSpPr>
        <p:spPr>
          <a:xfrm>
            <a:off x="1687680" y="3498840"/>
            <a:ext cx="3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26"/>
          <p:cNvSpPr/>
          <p:nvPr/>
        </p:nvSpPr>
        <p:spPr>
          <a:xfrm>
            <a:off x="2319480" y="445140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27"/>
          <p:cNvSpPr/>
          <p:nvPr/>
        </p:nvSpPr>
        <p:spPr>
          <a:xfrm flipH="1">
            <a:off x="1971720" y="4489560"/>
            <a:ext cx="347760" cy="4474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8"/>
          <p:cNvSpPr/>
          <p:nvPr/>
        </p:nvSpPr>
        <p:spPr>
          <a:xfrm>
            <a:off x="1687680" y="4383000"/>
            <a:ext cx="3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9"/>
          <p:cNvSpPr/>
          <p:nvPr/>
        </p:nvSpPr>
        <p:spPr>
          <a:xfrm>
            <a:off x="7209000" y="268272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0"/>
          <p:cNvSpPr/>
          <p:nvPr/>
        </p:nvSpPr>
        <p:spPr>
          <a:xfrm flipH="1">
            <a:off x="6861240" y="2719440"/>
            <a:ext cx="347760" cy="4474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31"/>
          <p:cNvSpPr/>
          <p:nvPr/>
        </p:nvSpPr>
        <p:spPr>
          <a:xfrm>
            <a:off x="6578640" y="261468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32"/>
          <p:cNvSpPr/>
          <p:nvPr/>
        </p:nvSpPr>
        <p:spPr>
          <a:xfrm>
            <a:off x="7209000" y="356724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3"/>
          <p:cNvSpPr/>
          <p:nvPr/>
        </p:nvSpPr>
        <p:spPr>
          <a:xfrm flipH="1">
            <a:off x="6861240" y="3605040"/>
            <a:ext cx="347760" cy="44784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34"/>
          <p:cNvSpPr/>
          <p:nvPr/>
        </p:nvSpPr>
        <p:spPr>
          <a:xfrm>
            <a:off x="6578640" y="349884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35"/>
          <p:cNvSpPr/>
          <p:nvPr/>
        </p:nvSpPr>
        <p:spPr>
          <a:xfrm>
            <a:off x="7209000" y="445140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6"/>
          <p:cNvSpPr/>
          <p:nvPr/>
        </p:nvSpPr>
        <p:spPr>
          <a:xfrm flipH="1">
            <a:off x="6861240" y="4489560"/>
            <a:ext cx="347760" cy="4474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7"/>
          <p:cNvSpPr/>
          <p:nvPr/>
        </p:nvSpPr>
        <p:spPr>
          <a:xfrm>
            <a:off x="6578640" y="438300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93A2-9E6A-4C47-A82E-2FC03ADF5835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直接连接符 16"/>
          <p:cNvSpPr/>
          <p:nvPr/>
        </p:nvSpPr>
        <p:spPr>
          <a:xfrm>
            <a:off x="1617840" y="1922400"/>
            <a:ext cx="338436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18"/>
          <p:cNvSpPr/>
          <p:nvPr/>
        </p:nvSpPr>
        <p:spPr>
          <a:xfrm>
            <a:off x="1523880" y="139860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1617840" y="2066760"/>
            <a:ext cx="8708760" cy="242604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3"/>
          <p:cNvSpPr/>
          <p:nvPr/>
        </p:nvSpPr>
        <p:spPr>
          <a:xfrm>
            <a:off x="2255760" y="2103480"/>
            <a:ext cx="73771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D63B-ADBA-4C8E-9855-D9D26DE1A112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直接连接符 16"/>
          <p:cNvSpPr/>
          <p:nvPr/>
        </p:nvSpPr>
        <p:spPr>
          <a:xfrm>
            <a:off x="1617840" y="1922400"/>
            <a:ext cx="338436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18"/>
          <p:cNvSpPr/>
          <p:nvPr/>
        </p:nvSpPr>
        <p:spPr>
          <a:xfrm>
            <a:off x="1523880" y="139860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EA94-C165-4C20-8794-EE792A8432BD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41720" y="2387520"/>
            <a:ext cx="1823040" cy="1823040"/>
            <a:chOff x="1341720" y="2387520"/>
            <a:chExt cx="1823040" cy="1823040"/>
          </a:xfrm>
        </p:grpSpPr>
        <p:sp>
          <p:nvSpPr>
            <p:cNvPr id="88" name="同心圆 2"/>
            <p:cNvSpPr/>
            <p:nvPr/>
          </p:nvSpPr>
          <p:spPr>
            <a:xfrm>
              <a:off x="1523880" y="256392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空心弧 3"/>
            <p:cNvSpPr/>
            <p:nvPr/>
          </p:nvSpPr>
          <p:spPr>
            <a:xfrm rot="12246000">
              <a:off x="1563120" y="260892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0" y="689824"/>
                  </a:moveTo>
                  <a:cubicBezTo>
                    <a:pt x="0" y="390829"/>
                    <a:pt x="192617" y="125873"/>
                    <a:pt x="477031" y="33641"/>
                  </a:cubicBezTo>
                  <a:cubicBezTo>
                    <a:pt x="761445" y="-58591"/>
                    <a:pt x="1072897" y="42902"/>
                    <a:pt x="1248365" y="284995"/>
                  </a:cubicBezTo>
                  <a:cubicBezTo>
                    <a:pt x="1423832" y="527088"/>
                    <a:pt x="1423364" y="854659"/>
                    <a:pt x="1247205" y="1096249"/>
                  </a:cubicBezTo>
                  <a:lnTo>
                    <a:pt x="1093624" y="984263"/>
                  </a:lnTo>
                  <a:cubicBezTo>
                    <a:pt x="1221244" y="809241"/>
                    <a:pt x="1221584" y="571928"/>
                    <a:pt x="1094465" y="396542"/>
                  </a:cubicBezTo>
                  <a:cubicBezTo>
                    <a:pt x="967346" y="221155"/>
                    <a:pt x="741711" y="147627"/>
                    <a:pt x="535664" y="214446"/>
                  </a:cubicBezTo>
                  <a:cubicBezTo>
                    <a:pt x="329618" y="281264"/>
                    <a:pt x="190074" y="473215"/>
                    <a:pt x="190074" y="689825"/>
                  </a:cubicBezTo>
                  <a:lnTo>
                    <a:pt x="0" y="689824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977720" y="2387520"/>
            <a:ext cx="1822680" cy="1823040"/>
            <a:chOff x="4977720" y="2387520"/>
            <a:chExt cx="1822680" cy="1823040"/>
          </a:xfrm>
        </p:grpSpPr>
        <p:sp>
          <p:nvSpPr>
            <p:cNvPr id="91" name="同心圆 11"/>
            <p:cNvSpPr/>
            <p:nvPr/>
          </p:nvSpPr>
          <p:spPr>
            <a:xfrm>
              <a:off x="5159520" y="2563920"/>
              <a:ext cx="147132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空心弧 12"/>
            <p:cNvSpPr/>
            <p:nvPr/>
          </p:nvSpPr>
          <p:spPr>
            <a:xfrm rot="12246000">
              <a:off x="5199120" y="2608920"/>
              <a:ext cx="137952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149057" y="1118109"/>
                  </a:moveTo>
                  <a:cubicBezTo>
                    <a:pt x="-72511" y="838350"/>
                    <a:pt x="-44122" y="435781"/>
                    <a:pt x="214515" y="189885"/>
                  </a:cubicBezTo>
                  <a:cubicBezTo>
                    <a:pt x="473152" y="-56011"/>
                    <a:pt x="876641" y="-64043"/>
                    <a:pt x="1144860" y="171366"/>
                  </a:cubicBezTo>
                  <a:cubicBezTo>
                    <a:pt x="1413078" y="406774"/>
                    <a:pt x="1457465" y="807894"/>
                    <a:pt x="1247206" y="1096249"/>
                  </a:cubicBezTo>
                  <a:lnTo>
                    <a:pt x="1093624" y="984263"/>
                  </a:lnTo>
                  <a:cubicBezTo>
                    <a:pt x="1245948" y="775361"/>
                    <a:pt x="1213791" y="484766"/>
                    <a:pt x="1019479" y="314222"/>
                  </a:cubicBezTo>
                  <a:cubicBezTo>
                    <a:pt x="825166" y="143678"/>
                    <a:pt x="532854" y="149497"/>
                    <a:pt x="345482" y="327639"/>
                  </a:cubicBezTo>
                  <a:cubicBezTo>
                    <a:pt x="158110" y="505780"/>
                    <a:pt x="137543" y="797425"/>
                    <a:pt x="298060" y="1000100"/>
                  </a:cubicBezTo>
                  <a:lnTo>
                    <a:pt x="149057" y="111810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612640" y="2387520"/>
            <a:ext cx="1823040" cy="1823040"/>
            <a:chOff x="8612640" y="2387520"/>
            <a:chExt cx="1823040" cy="1823040"/>
          </a:xfrm>
        </p:grpSpPr>
        <p:sp>
          <p:nvSpPr>
            <p:cNvPr id="94" name="同心圆 14"/>
            <p:cNvSpPr/>
            <p:nvPr/>
          </p:nvSpPr>
          <p:spPr>
            <a:xfrm>
              <a:off x="8794800" y="256392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空心弧 15"/>
            <p:cNvSpPr/>
            <p:nvPr/>
          </p:nvSpPr>
          <p:spPr>
            <a:xfrm rot="12246000">
              <a:off x="8834040" y="260892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580497" y="8718"/>
                  </a:moveTo>
                  <a:cubicBezTo>
                    <a:pt x="856448" y="-35576"/>
                    <a:pt x="1131857" y="91014"/>
                    <a:pt x="1277929" y="329287"/>
                  </a:cubicBezTo>
                  <a:cubicBezTo>
                    <a:pt x="1424001" y="567560"/>
                    <a:pt x="1411868" y="870425"/>
                    <a:pt x="1247204" y="1096249"/>
                  </a:cubicBezTo>
                  <a:lnTo>
                    <a:pt x="1093624" y="984263"/>
                  </a:lnTo>
                  <a:cubicBezTo>
                    <a:pt x="1212916" y="820662"/>
                    <a:pt x="1221706" y="601249"/>
                    <a:pt x="1115883" y="428630"/>
                  </a:cubicBezTo>
                  <a:cubicBezTo>
                    <a:pt x="1010059" y="256010"/>
                    <a:pt x="810537" y="164302"/>
                    <a:pt x="610621" y="196391"/>
                  </a:cubicBezTo>
                  <a:lnTo>
                    <a:pt x="580497" y="8718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文本框 5"/>
          <p:cNvSpPr/>
          <p:nvPr/>
        </p:nvSpPr>
        <p:spPr>
          <a:xfrm>
            <a:off x="1849320" y="297648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17"/>
          <p:cNvSpPr/>
          <p:nvPr/>
        </p:nvSpPr>
        <p:spPr>
          <a:xfrm>
            <a:off x="5398920" y="297648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9"/>
          <p:cNvSpPr/>
          <p:nvPr/>
        </p:nvSpPr>
        <p:spPr>
          <a:xfrm>
            <a:off x="9034560" y="2976480"/>
            <a:ext cx="9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1468440" y="424800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2"/>
          <p:cNvSpPr/>
          <p:nvPr/>
        </p:nvSpPr>
        <p:spPr>
          <a:xfrm>
            <a:off x="5159520" y="424800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12"/>
          <p:cNvSpPr/>
          <p:nvPr/>
        </p:nvSpPr>
        <p:spPr>
          <a:xfrm>
            <a:off x="8794800" y="424800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接连接符 16"/>
          <p:cNvSpPr/>
          <p:nvPr/>
        </p:nvSpPr>
        <p:spPr>
          <a:xfrm>
            <a:off x="1617840" y="1922400"/>
            <a:ext cx="338436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18"/>
          <p:cNvSpPr/>
          <p:nvPr/>
        </p:nvSpPr>
        <p:spPr>
          <a:xfrm>
            <a:off x="1523880" y="139860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1BFB-FC6A-4255-9300-9F428385CEF1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1419120" y="4378320"/>
            <a:ext cx="28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573200" y="3049560"/>
            <a:ext cx="1219320" cy="824040"/>
            <a:chOff x="1573200" y="3049560"/>
            <a:chExt cx="1219320" cy="824040"/>
          </a:xfrm>
        </p:grpSpPr>
        <p:sp>
          <p:nvSpPr>
            <p:cNvPr id="108" name="任意多边形 1"/>
            <p:cNvSpPr/>
            <p:nvPr/>
          </p:nvSpPr>
          <p:spPr>
            <a:xfrm>
              <a:off x="1573200" y="3049560"/>
              <a:ext cx="460440" cy="822600"/>
            </a:xfrm>
            <a:custGeom>
              <a:avLst/>
              <a:gdLst/>
              <a:ahLst/>
              <a:rect l="l" t="t" r="r" b="b"/>
              <a:pathLst>
                <a:path w="682995" h="1221233">
                  <a:moveTo>
                    <a:pt x="682995" y="0"/>
                  </a:moveTo>
                  <a:lnTo>
                    <a:pt x="0" y="829277"/>
                  </a:lnTo>
                  <a:lnTo>
                    <a:pt x="653178" y="1221233"/>
                  </a:lnTo>
                  <a:lnTo>
                    <a:pt x="682995" y="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任意多边形 6"/>
            <p:cNvSpPr/>
            <p:nvPr/>
          </p:nvSpPr>
          <p:spPr>
            <a:xfrm>
              <a:off x="2008080" y="3051000"/>
              <a:ext cx="784440" cy="822600"/>
            </a:xfrm>
            <a:custGeom>
              <a:avLst/>
              <a:gdLst/>
              <a:ahLst/>
              <a:rect l="l" t="t" r="r" b="b"/>
              <a:pathLst>
                <a:path w="1164159" h="1219709">
                  <a:moveTo>
                    <a:pt x="36951" y="0"/>
                  </a:moveTo>
                  <a:lnTo>
                    <a:pt x="1164159" y="836412"/>
                  </a:lnTo>
                  <a:lnTo>
                    <a:pt x="0" y="1219709"/>
                  </a:lnTo>
                  <a:lnTo>
                    <a:pt x="3695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70320" y="2835360"/>
            <a:ext cx="1536840" cy="1038240"/>
            <a:chOff x="5170320" y="2835360"/>
            <a:chExt cx="1536840" cy="1038240"/>
          </a:xfrm>
        </p:grpSpPr>
        <p:sp>
          <p:nvSpPr>
            <p:cNvPr id="111" name="任意多边形 24"/>
            <p:cNvSpPr/>
            <p:nvPr/>
          </p:nvSpPr>
          <p:spPr>
            <a:xfrm>
              <a:off x="5170320" y="2835360"/>
              <a:ext cx="579600" cy="1036800"/>
            </a:xfrm>
            <a:custGeom>
              <a:avLst/>
              <a:gdLst/>
              <a:ahLst/>
              <a:rect l="l" t="t" r="r" b="b"/>
              <a:pathLst>
                <a:path w="682995" h="1221233">
                  <a:moveTo>
                    <a:pt x="682995" y="0"/>
                  </a:moveTo>
                  <a:lnTo>
                    <a:pt x="0" y="829277"/>
                  </a:lnTo>
                  <a:lnTo>
                    <a:pt x="653178" y="1221233"/>
                  </a:lnTo>
                  <a:lnTo>
                    <a:pt x="682995" y="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任意多边形 25"/>
            <p:cNvSpPr/>
            <p:nvPr/>
          </p:nvSpPr>
          <p:spPr>
            <a:xfrm>
              <a:off x="5717880" y="2838240"/>
              <a:ext cx="989280" cy="1035360"/>
            </a:xfrm>
            <a:custGeom>
              <a:avLst/>
              <a:gdLst/>
              <a:ahLst/>
              <a:rect l="l" t="t" r="r" b="b"/>
              <a:pathLst>
                <a:path w="1164159" h="1219709">
                  <a:moveTo>
                    <a:pt x="36951" y="0"/>
                  </a:moveTo>
                  <a:lnTo>
                    <a:pt x="1164159" y="836412"/>
                  </a:lnTo>
                  <a:lnTo>
                    <a:pt x="0" y="1219709"/>
                  </a:lnTo>
                  <a:lnTo>
                    <a:pt x="3695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8988480" y="2651040"/>
            <a:ext cx="1809720" cy="1222560"/>
            <a:chOff x="8988480" y="2651040"/>
            <a:chExt cx="1809720" cy="1222560"/>
          </a:xfrm>
        </p:grpSpPr>
        <p:sp>
          <p:nvSpPr>
            <p:cNvPr id="114" name="任意多边形 27"/>
            <p:cNvSpPr/>
            <p:nvPr/>
          </p:nvSpPr>
          <p:spPr>
            <a:xfrm>
              <a:off x="8988480" y="2651040"/>
              <a:ext cx="682560" cy="1221120"/>
            </a:xfrm>
            <a:custGeom>
              <a:avLst/>
              <a:gdLst/>
              <a:ahLst/>
              <a:rect l="l" t="t" r="r" b="b"/>
              <a:pathLst>
                <a:path w="682995" h="1221233">
                  <a:moveTo>
                    <a:pt x="682995" y="0"/>
                  </a:moveTo>
                  <a:lnTo>
                    <a:pt x="0" y="829277"/>
                  </a:lnTo>
                  <a:lnTo>
                    <a:pt x="653178" y="1221233"/>
                  </a:lnTo>
                  <a:lnTo>
                    <a:pt x="682995" y="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28"/>
            <p:cNvSpPr/>
            <p:nvPr/>
          </p:nvSpPr>
          <p:spPr>
            <a:xfrm>
              <a:off x="9634680" y="2653920"/>
              <a:ext cx="1163520" cy="1219680"/>
            </a:xfrm>
            <a:custGeom>
              <a:avLst/>
              <a:gdLst/>
              <a:ahLst/>
              <a:rect l="l" t="t" r="r" b="b"/>
              <a:pathLst>
                <a:path w="1164159" h="1219709">
                  <a:moveTo>
                    <a:pt x="36951" y="0"/>
                  </a:moveTo>
                  <a:lnTo>
                    <a:pt x="1164159" y="836412"/>
                  </a:lnTo>
                  <a:lnTo>
                    <a:pt x="0" y="1219709"/>
                  </a:lnTo>
                  <a:lnTo>
                    <a:pt x="3695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右箭头 8"/>
          <p:cNvSpPr/>
          <p:nvPr/>
        </p:nvSpPr>
        <p:spPr>
          <a:xfrm>
            <a:off x="3929040" y="3430440"/>
            <a:ext cx="263520" cy="250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右箭头 30"/>
          <p:cNvSpPr/>
          <p:nvPr/>
        </p:nvSpPr>
        <p:spPr>
          <a:xfrm>
            <a:off x="7829640" y="3430440"/>
            <a:ext cx="263520" cy="250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372280" y="3108240"/>
            <a:ext cx="9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7"/>
          <p:cNvSpPr/>
          <p:nvPr/>
        </p:nvSpPr>
        <p:spPr>
          <a:xfrm>
            <a:off x="9339120" y="3046320"/>
            <a:ext cx="11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7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19"/>
          <p:cNvSpPr/>
          <p:nvPr/>
        </p:nvSpPr>
        <p:spPr>
          <a:xfrm>
            <a:off x="1747800" y="3260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9"/>
          <p:cNvSpPr/>
          <p:nvPr/>
        </p:nvSpPr>
        <p:spPr>
          <a:xfrm>
            <a:off x="1747800" y="3909960"/>
            <a:ext cx="6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32"/>
          <p:cNvSpPr/>
          <p:nvPr/>
        </p:nvSpPr>
        <p:spPr>
          <a:xfrm>
            <a:off x="5433840" y="3909960"/>
            <a:ext cx="6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3"/>
          <p:cNvSpPr/>
          <p:nvPr/>
        </p:nvSpPr>
        <p:spPr>
          <a:xfrm>
            <a:off x="9354960" y="3909960"/>
            <a:ext cx="6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2"/>
          <p:cNvSpPr/>
          <p:nvPr/>
        </p:nvSpPr>
        <p:spPr>
          <a:xfrm>
            <a:off x="5110200" y="4378320"/>
            <a:ext cx="28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2"/>
          <p:cNvSpPr/>
          <p:nvPr/>
        </p:nvSpPr>
        <p:spPr>
          <a:xfrm>
            <a:off x="8912160" y="4378320"/>
            <a:ext cx="28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0341000" y="60609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8"/>
          <p:cNvSpPr/>
          <p:nvPr/>
        </p:nvSpPr>
        <p:spPr>
          <a:xfrm>
            <a:off x="5192640" y="2911320"/>
            <a:ext cx="18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7145-F6CE-4375-9D4C-F9FA5446AE6A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83240" y="2813040"/>
            <a:ext cx="1312560" cy="108000"/>
            <a:chOff x="4683240" y="2813040"/>
            <a:chExt cx="1312560" cy="108000"/>
          </a:xfrm>
        </p:grpSpPr>
        <p:sp>
          <p:nvSpPr>
            <p:cNvPr id="131" name="直接连接符 34"/>
            <p:cNvSpPr/>
            <p:nvPr/>
          </p:nvSpPr>
          <p:spPr>
            <a:xfrm flipH="1">
              <a:off x="4683240" y="2867040"/>
              <a:ext cx="1205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椭圆 35"/>
            <p:cNvSpPr/>
            <p:nvPr/>
          </p:nvSpPr>
          <p:spPr>
            <a:xfrm flipH="1">
              <a:off x="5887800" y="2813040"/>
              <a:ext cx="10764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57880" y="3551400"/>
            <a:ext cx="1311120" cy="107640"/>
            <a:chOff x="6257880" y="3551400"/>
            <a:chExt cx="1311120" cy="107640"/>
          </a:xfrm>
        </p:grpSpPr>
        <p:sp>
          <p:nvSpPr>
            <p:cNvPr id="134" name="直接连接符 37"/>
            <p:cNvSpPr/>
            <p:nvPr/>
          </p:nvSpPr>
          <p:spPr>
            <a:xfrm>
              <a:off x="6365160" y="3605400"/>
              <a:ext cx="1203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40"/>
            <p:cNvSpPr/>
            <p:nvPr/>
          </p:nvSpPr>
          <p:spPr>
            <a:xfrm>
              <a:off x="6257880" y="35514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37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9:03:42Z</dcterms:created>
  <dc:creator>D13001</dc:creator>
  <dc:description/>
  <dc:language>en-US</dc:language>
  <cp:lastModifiedBy>D13001</cp:lastModifiedBy>
  <dcterms:modified xsi:type="dcterms:W3CDTF">2015-01-10T12:36:22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