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5866-8FD3-413F-BDE1-CFA264579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3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4AC0-670A-44B8-8C1D-9E35693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9927-8656-4057-8D5D-93DD7E7D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D40E-697C-495D-8881-90C680F00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83D4D-CAAE-43CE-9D38-C87C6D2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7013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FF83-B8A5-4845-BA82-BA834E89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48311-25FC-4D41-84B4-35C058B7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03FC0-987B-47C4-8A6F-2B0E420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AD4B-D0F6-4DB3-AF45-C4E40AF3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96720" y="18864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CDD7E-201F-437D-A42B-2861570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6357-F220-441C-A20B-F93DEB6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013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189F-155B-4FBE-9D89-635110B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E1220-8D6B-4852-A558-C69919D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103B-C78E-400D-BE49-2626D41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3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92141-103A-4C21-8908-67089A5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7086-9B58-4CF4-A1A2-F65FF039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70136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3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750E6-DC51-439E-84B0-33651572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2B80-2F60-470F-A07D-CB5A7043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425A-733A-4001-A1E2-5D3B51D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8365-4B28-4CE1-9A14-F25D6559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96720" y="18864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35C6-E677-4A92-8927-C93F3BF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909C-A621-4CD2-BB5C-8F4264D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3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F217-6CCE-4852-BB00-774591A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136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3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44AB-CBF0-4777-AE52-093264C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9360" y="6222960"/>
            <a:ext cx="9164520" cy="662040"/>
          </a:xfrm>
          <a:custGeom>
            <a:avLst/>
            <a:gdLst/>
            <a:ahLst/>
            <a:rect l="l" t="t" r="r" b="b"/>
            <a:pathLst>
              <a:path w="5778" h="417">
                <a:moveTo>
                  <a:pt x="5771" y="403"/>
                </a:moveTo>
                <a:lnTo>
                  <a:pt x="4" y="417"/>
                </a:lnTo>
                <a:lnTo>
                  <a:pt x="0" y="24"/>
                </a:lnTo>
                <a:cubicBezTo>
                  <a:pt x="369" y="0"/>
                  <a:pt x="1255" y="261"/>
                  <a:pt x="2218" y="272"/>
                </a:cubicBezTo>
                <a:cubicBezTo>
                  <a:pt x="3181" y="283"/>
                  <a:pt x="5186" y="69"/>
                  <a:pt x="5778" y="91"/>
                </a:cubicBezTo>
                <a:lnTo>
                  <a:pt x="5771" y="403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-25560" y="-36360"/>
            <a:ext cx="9572760" cy="2165040"/>
          </a:xfrm>
          <a:custGeom>
            <a:avLst/>
            <a:gdLst/>
            <a:ahLst/>
            <a:rect l="l" t="t" r="r" b="b"/>
            <a:pathLst>
              <a:path w="6035" h="1369">
                <a:moveTo>
                  <a:pt x="5" y="7"/>
                </a:moveTo>
                <a:lnTo>
                  <a:pt x="5816" y="0"/>
                </a:lnTo>
                <a:lnTo>
                  <a:pt x="5816" y="1249"/>
                </a:lnTo>
                <a:cubicBezTo>
                  <a:pt x="5691" y="1369"/>
                  <a:pt x="6035" y="772"/>
                  <a:pt x="5066" y="722"/>
                </a:cubicBezTo>
                <a:cubicBezTo>
                  <a:pt x="4097" y="672"/>
                  <a:pt x="843" y="1070"/>
                  <a:pt x="0" y="951"/>
                </a:cubicBezTo>
                <a:lnTo>
                  <a:pt x="5" y="7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F3D-444D-40C7-BA5B-2E4DE896D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5" name="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6" name=""/>
              <p:cNvSpPr/>
              <p:nvPr/>
            </p:nvSpPr>
            <p:spPr>
              <a:xfrm>
                <a:off x="7696080" y="5687640"/>
                <a:ext cx="944640" cy="94500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2360" y="5893920"/>
                <a:ext cx="531720" cy="53208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9" name=""/>
              <p:cNvSpPr/>
              <p:nvPr/>
            </p:nvSpPr>
            <p:spPr>
              <a:xfrm>
                <a:off x="8595360" y="5800320"/>
                <a:ext cx="281160" cy="28116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656560" y="5861520"/>
                <a:ext cx="158400" cy="15840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2" name=""/>
              <p:cNvSpPr/>
              <p:nvPr/>
            </p:nvSpPr>
            <p:spPr>
              <a:xfrm>
                <a:off x="8291880" y="5192640"/>
                <a:ext cx="641160" cy="64152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920" y="5332680"/>
                <a:ext cx="361080" cy="361080"/>
              </a:xfrm>
              <a:prstGeom prst="donut">
                <a:avLst>
                  <a:gd name="adj" fmla="val 13509"/>
                </a:avLst>
              </a:prstGeom>
              <a:solidFill>
                <a:srgbClr val="669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3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457200" y="17013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未知"/>
          <p:cNvSpPr/>
          <p:nvPr/>
        </p:nvSpPr>
        <p:spPr>
          <a:xfrm>
            <a:off x="-25560" y="-25560"/>
            <a:ext cx="9569520" cy="6810480"/>
          </a:xfrm>
          <a:custGeom>
            <a:avLst/>
            <a:gdLst/>
            <a:ahLst/>
            <a:rect l="l" t="t" r="r" b="b"/>
            <a:pathLst>
              <a:path w="6033" h="4295">
                <a:moveTo>
                  <a:pt x="5" y="0"/>
                </a:moveTo>
                <a:lnTo>
                  <a:pt x="5802" y="14"/>
                </a:lnTo>
                <a:lnTo>
                  <a:pt x="5802" y="3905"/>
                </a:lnTo>
                <a:cubicBezTo>
                  <a:pt x="5679" y="4295"/>
                  <a:pt x="6033" y="2484"/>
                  <a:pt x="5066" y="2352"/>
                </a:cubicBezTo>
                <a:cubicBezTo>
                  <a:pt x="4099" y="2221"/>
                  <a:pt x="843" y="3497"/>
                  <a:pt x="0" y="3106"/>
                </a:cubicBezTo>
                <a:lnTo>
                  <a:pt x="5" y="0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EB78-BD79-4970-B960-032B8E6CB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7" name="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8" name=""/>
              <p:cNvSpPr/>
              <p:nvPr/>
            </p:nvSpPr>
            <p:spPr>
              <a:xfrm>
                <a:off x="6076800" y="1291320"/>
                <a:ext cx="2172960" cy="217368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51280" y="1765800"/>
                <a:ext cx="1223640" cy="122400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8146080" y="1550160"/>
              <a:ext cx="646920" cy="646920"/>
              <a:chOff x="8146080" y="1550160"/>
              <a:chExt cx="646920" cy="646920"/>
            </a:xfrm>
          </p:grpSpPr>
          <p:sp>
            <p:nvSpPr>
              <p:cNvPr id="61" name=""/>
              <p:cNvSpPr/>
              <p:nvPr/>
            </p:nvSpPr>
            <p:spPr>
              <a:xfrm>
                <a:off x="8146080" y="1550160"/>
                <a:ext cx="646920" cy="64692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87200" y="1691280"/>
                <a:ext cx="364320" cy="36432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64" name=""/>
              <p:cNvSpPr/>
              <p:nvPr/>
            </p:nvSpPr>
            <p:spPr>
              <a:xfrm>
                <a:off x="7448040" y="152280"/>
                <a:ext cx="1475280" cy="147564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770240" y="474480"/>
                <a:ext cx="830520" cy="830880"/>
              </a:xfrm>
              <a:prstGeom prst="donut">
                <a:avLst>
                  <a:gd name="adj" fmla="val 13509"/>
                </a:avLst>
              </a:prstGeom>
              <a:solidFill>
                <a:srgbClr val="33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1.pn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深蓝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商务风格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2720" y="4365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797120"/>
            <a:ext cx="6694200" cy="801360"/>
            <a:chOff x="1332000" y="1797120"/>
            <a:chExt cx="6694200" cy="801360"/>
          </a:xfrm>
        </p:grpSpPr>
        <p:sp>
          <p:nvSpPr>
            <p:cNvPr id="109" name=""/>
            <p:cNvSpPr/>
            <p:nvPr/>
          </p:nvSpPr>
          <p:spPr>
            <a:xfrm>
              <a:off x="1769760" y="1874880"/>
              <a:ext cx="6256440" cy="66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ce6"/>
                </a:gs>
                <a:gs pos="100000">
                  <a:srgbClr val="6698cc"/>
                </a:gs>
              </a:gsLst>
              <a:lin ang="13500000"/>
            </a:gradFill>
            <a:ln w="93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63640" y="1917360"/>
              <a:ext cx="5589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332000" y="1797120"/>
              <a:ext cx="824760" cy="801360"/>
              <a:chOff x="1332000" y="1797120"/>
              <a:chExt cx="824760" cy="8013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332000" y="1797120"/>
                <a:ext cx="824760" cy="801360"/>
                <a:chOff x="1332000" y="1797120"/>
                <a:chExt cx="824760" cy="80136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1332000" y="1797120"/>
                  <a:ext cx="824760" cy="801360"/>
                  <a:chOff x="1332000" y="1797120"/>
                  <a:chExt cx="824760" cy="801360"/>
                </a:xfrm>
              </p:grpSpPr>
              <p:pic>
                <p:nvPicPr>
                  <p:cNvPr id="11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32000" y="1797120"/>
                    <a:ext cx="824760" cy="7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" name=""/>
                  <p:cNvSpPr/>
                  <p:nvPr/>
                </p:nvSpPr>
                <p:spPr>
                  <a:xfrm>
                    <a:off x="1332000" y="1797120"/>
                    <a:ext cx="819360" cy="801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599"/>
                      </a:gs>
                      <a:gs pos="100000">
                        <a:srgbClr val="2e4c6b"/>
                      </a:gs>
                    </a:gsLst>
                    <a:lin ang="5400000"/>
                  </a:gradFill>
                  <a:ln w="19080">
                    <a:solidFill>
                      <a:srgbClr val="6698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14080" y="1804680"/>
                  <a:ext cx="651240" cy="282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7" name=""/>
              <p:cNvSpPr txBox="1"/>
              <p:nvPr/>
            </p:nvSpPr>
            <p:spPr>
              <a:xfrm>
                <a:off x="1613520" y="2012760"/>
                <a:ext cx="186480" cy="32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ln w="9360">
                      <a:solidFill>
                        <a:srgbClr val="2e4c6b"/>
                      </a:solidFill>
                      <a:miter/>
                    </a:ln>
                    <a:solidFill>
                      <a:srgbClr val="ffffff"/>
                    </a:solidFill>
                    <a:latin typeface="黑体"/>
                  </a:rPr>
                  <a:t>1</a:t>
                </a:r>
                <a:endParaRPr b="1" lang="en-US" sz="2400" spc="-1" strike="noStrike">
                  <a:ln w="9360">
                    <a:solidFill>
                      <a:srgbClr val="2e4c6b"/>
                    </a:solidFill>
                    <a:miter/>
                  </a:ln>
                  <a:solidFill>
                    <a:srgbClr val="ffffff"/>
                  </a:solidFill>
                  <a:latin typeface="黑体"/>
                  <a:ea typeface="黑体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32000" y="2911320"/>
            <a:ext cx="6694200" cy="801720"/>
            <a:chOff x="1332000" y="2911320"/>
            <a:chExt cx="6694200" cy="801720"/>
          </a:xfrm>
        </p:grpSpPr>
        <p:sp>
          <p:nvSpPr>
            <p:cNvPr id="119" name=""/>
            <p:cNvSpPr/>
            <p:nvPr/>
          </p:nvSpPr>
          <p:spPr>
            <a:xfrm>
              <a:off x="1769760" y="2989080"/>
              <a:ext cx="6256440" cy="66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ce6"/>
                </a:gs>
                <a:gs pos="100000">
                  <a:srgbClr val="6698cc"/>
                </a:gs>
              </a:gsLst>
              <a:lin ang="13500000"/>
            </a:gradFill>
            <a:ln w="93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3640" y="3031560"/>
              <a:ext cx="5589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332000" y="2911320"/>
              <a:ext cx="825120" cy="801720"/>
              <a:chOff x="1332000" y="2911320"/>
              <a:chExt cx="825120" cy="8017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32000" y="2911320"/>
                <a:ext cx="825120" cy="801720"/>
                <a:chOff x="1332000" y="2911320"/>
                <a:chExt cx="825120" cy="8017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1332000" y="2911320"/>
                  <a:ext cx="825120" cy="801720"/>
                  <a:chOff x="1332000" y="2911320"/>
                  <a:chExt cx="825120" cy="801720"/>
                </a:xfrm>
              </p:grpSpPr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911320"/>
                    <a:ext cx="825120" cy="7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1332000" y="2911320"/>
                    <a:ext cx="819720" cy="80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599"/>
                      </a:gs>
                      <a:gs pos="100000">
                        <a:srgbClr val="2e4c6b"/>
                      </a:gs>
                    </a:gsLst>
                    <a:lin ang="5400000"/>
                  </a:gradFill>
                  <a:ln w="19080">
                    <a:solidFill>
                      <a:srgbClr val="6698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14440" y="2918880"/>
                  <a:ext cx="65160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7" name=""/>
              <p:cNvSpPr txBox="1"/>
              <p:nvPr/>
            </p:nvSpPr>
            <p:spPr>
              <a:xfrm>
                <a:off x="1639440" y="3126600"/>
                <a:ext cx="228240" cy="32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ln w="9360">
                      <a:solidFill>
                        <a:srgbClr val="2e4c6b"/>
                      </a:solidFill>
                      <a:miter/>
                    </a:ln>
                    <a:solidFill>
                      <a:srgbClr val="ffffff"/>
                    </a:solidFill>
                    <a:latin typeface="黑体"/>
                  </a:rPr>
                  <a:t>2</a:t>
                </a:r>
                <a:endParaRPr b="1" lang="en-US" sz="2400" spc="-1" strike="noStrike">
                  <a:ln w="9360">
                    <a:solidFill>
                      <a:srgbClr val="2e4c6b"/>
                    </a:solidFill>
                    <a:miter/>
                  </a:ln>
                  <a:solidFill>
                    <a:srgbClr val="ffffff"/>
                  </a:solidFill>
                  <a:latin typeface="黑体"/>
                  <a:ea typeface="黑体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1332000" y="4003560"/>
            <a:ext cx="6694200" cy="801720"/>
            <a:chOff x="1332000" y="4003560"/>
            <a:chExt cx="6694200" cy="801720"/>
          </a:xfrm>
        </p:grpSpPr>
        <p:sp>
          <p:nvSpPr>
            <p:cNvPr id="129" name=""/>
            <p:cNvSpPr/>
            <p:nvPr/>
          </p:nvSpPr>
          <p:spPr>
            <a:xfrm>
              <a:off x="1769760" y="4082760"/>
              <a:ext cx="6256440" cy="66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ce6"/>
                </a:gs>
                <a:gs pos="100000">
                  <a:srgbClr val="6698cc"/>
                </a:gs>
              </a:gsLst>
              <a:lin ang="13500000"/>
            </a:gradFill>
            <a:ln w="93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3640" y="4125600"/>
              <a:ext cx="55897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332000" y="4003560"/>
              <a:ext cx="825120" cy="801720"/>
              <a:chOff x="1332000" y="4003560"/>
              <a:chExt cx="825120" cy="8017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332000" y="4003560"/>
                <a:ext cx="825120" cy="801720"/>
                <a:chOff x="1332000" y="4003560"/>
                <a:chExt cx="825120" cy="8017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332000" y="4003560"/>
                  <a:ext cx="825120" cy="801720"/>
                  <a:chOff x="1332000" y="4003560"/>
                  <a:chExt cx="825120" cy="80172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003560"/>
                    <a:ext cx="825120" cy="7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1332000" y="4003560"/>
                    <a:ext cx="819720" cy="80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599"/>
                      </a:gs>
                      <a:gs pos="100000">
                        <a:srgbClr val="2e4c6b"/>
                      </a:gs>
                    </a:gsLst>
                    <a:lin ang="5400000"/>
                  </a:gradFill>
                  <a:ln w="19080">
                    <a:solidFill>
                      <a:srgbClr val="6698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14440" y="4011120"/>
                  <a:ext cx="65160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7" name=""/>
              <p:cNvSpPr txBox="1"/>
              <p:nvPr/>
            </p:nvSpPr>
            <p:spPr>
              <a:xfrm>
                <a:off x="1639440" y="4218840"/>
                <a:ext cx="228240" cy="32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ln w="9360">
                      <a:solidFill>
                        <a:srgbClr val="2e4c6b"/>
                      </a:solidFill>
                      <a:miter/>
                    </a:ln>
                    <a:solidFill>
                      <a:srgbClr val="ffffff"/>
                    </a:solidFill>
                    <a:latin typeface="黑体"/>
                  </a:rPr>
                  <a:t>3</a:t>
                </a:r>
                <a:endParaRPr b="1" lang="en-US" sz="2400" spc="-1" strike="noStrike">
                  <a:ln w="9360">
                    <a:solidFill>
                      <a:srgbClr val="2e4c6b"/>
                    </a:solidFill>
                    <a:miter/>
                  </a:ln>
                  <a:solidFill>
                    <a:srgbClr val="ffffff"/>
                  </a:solidFill>
                  <a:latin typeface="黑体"/>
                  <a:ea typeface="黑体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332000" y="5086440"/>
            <a:ext cx="6694200" cy="801720"/>
            <a:chOff x="1332000" y="5086440"/>
            <a:chExt cx="6694200" cy="801720"/>
          </a:xfrm>
        </p:grpSpPr>
        <p:sp>
          <p:nvSpPr>
            <p:cNvPr id="139" name=""/>
            <p:cNvSpPr/>
            <p:nvPr/>
          </p:nvSpPr>
          <p:spPr>
            <a:xfrm>
              <a:off x="1769760" y="5176800"/>
              <a:ext cx="6256440" cy="66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ce6"/>
                </a:gs>
                <a:gs pos="100000">
                  <a:srgbClr val="6698cc"/>
                </a:gs>
              </a:gsLst>
              <a:lin ang="13500000"/>
            </a:gradFill>
            <a:ln w="93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5219280"/>
              <a:ext cx="5589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32000" y="5086440"/>
              <a:ext cx="825120" cy="801720"/>
              <a:chOff x="1332000" y="5086440"/>
              <a:chExt cx="825120" cy="8017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332000" y="5086440"/>
                <a:ext cx="825120" cy="801720"/>
                <a:chOff x="1332000" y="5086440"/>
                <a:chExt cx="825120" cy="80172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1332000" y="5086440"/>
                  <a:ext cx="825120" cy="801720"/>
                  <a:chOff x="1332000" y="5086440"/>
                  <a:chExt cx="825120" cy="801720"/>
                </a:xfrm>
              </p:grpSpPr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5086440"/>
                    <a:ext cx="825120" cy="7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" name=""/>
                  <p:cNvSpPr/>
                  <p:nvPr/>
                </p:nvSpPr>
                <p:spPr>
                  <a:xfrm>
                    <a:off x="1332000" y="5086440"/>
                    <a:ext cx="819720" cy="80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599"/>
                      </a:gs>
                      <a:gs pos="100000">
                        <a:srgbClr val="2e4c6b"/>
                      </a:gs>
                    </a:gsLst>
                    <a:lin ang="5400000"/>
                  </a:gradFill>
                  <a:ln w="19080">
                    <a:solidFill>
                      <a:srgbClr val="6698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14440" y="5094000"/>
                  <a:ext cx="65160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7" name=""/>
              <p:cNvSpPr txBox="1"/>
              <p:nvPr/>
            </p:nvSpPr>
            <p:spPr>
              <a:xfrm>
                <a:off x="1601640" y="5301720"/>
                <a:ext cx="266040" cy="32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ln w="9360">
                      <a:solidFill>
                        <a:srgbClr val="2e4c6b"/>
                      </a:solidFill>
                      <a:miter/>
                    </a:ln>
                    <a:solidFill>
                      <a:srgbClr val="ffffff"/>
                    </a:solidFill>
                    <a:latin typeface="黑体"/>
                  </a:rPr>
                  <a:t>4</a:t>
                </a:r>
                <a:endParaRPr b="0" lang="en-US" sz="2400" spc="-1" strike="noStrike">
                  <a:ln w="9360">
                    <a:solidFill>
                      <a:srgbClr val="2e4c6b"/>
                    </a:solidFill>
                    <a:miter/>
                  </a:ln>
                  <a:solidFill>
                    <a:srgbClr val="ffffff"/>
                  </a:solidFill>
                  <a:latin typeface="黑体"/>
                  <a:ea typeface="黑体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573360"/>
            <a:ext cx="6913440" cy="2055960"/>
          </a:xfrm>
          <a:prstGeom prst="roundRect">
            <a:avLst>
              <a:gd name="adj" fmla="val 2778"/>
            </a:avLst>
          </a:prstGeom>
          <a:gradFill rotWithShape="0">
            <a:gsLst>
              <a:gs pos="0">
                <a:srgbClr val="b3cce6"/>
              </a:gs>
              <a:gs pos="100000">
                <a:srgbClr val="6698cc"/>
              </a:gs>
            </a:gsLst>
            <a:lin ang="13500000"/>
          </a:gradFill>
          <a:ln w="9360">
            <a:solidFill>
              <a:srgbClr val="b3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6560" y="1844640"/>
            <a:ext cx="288000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6698cc"/>
              </a:gs>
              <a:gs pos="100000">
                <a:srgbClr val="b3cce6"/>
              </a:gs>
            </a:gsLst>
            <a:lin ang="8100000"/>
          </a:gradFill>
          <a:ln w="9360">
            <a:solidFill>
              <a:srgbClr val="b3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844640"/>
            <a:ext cx="287964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b3cce6"/>
              </a:gs>
              <a:gs pos="100000">
                <a:srgbClr val="6698cc"/>
              </a:gs>
            </a:gsLst>
            <a:lin ang="13500000"/>
          </a:gradFill>
          <a:ln w="9360">
            <a:solidFill>
              <a:srgbClr val="b3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2784600"/>
            <a:ext cx="2879640" cy="0"/>
          </a:xfrm>
          <a:prstGeom prst="line">
            <a:avLst/>
          </a:prstGeom>
          <a:ln w="1908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784600"/>
            <a:ext cx="2879640" cy="0"/>
          </a:xfrm>
          <a:prstGeom prst="line">
            <a:avLst/>
          </a:prstGeom>
          <a:ln w="1908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708360" y="1519200"/>
            <a:ext cx="1656720" cy="1621800"/>
            <a:chOff x="3708360" y="1519200"/>
            <a:chExt cx="1656720" cy="1621800"/>
          </a:xfrm>
        </p:grpSpPr>
        <p:grpSp>
          <p:nvGrpSpPr>
            <p:cNvPr id="155" name=""/>
            <p:cNvGrpSpPr/>
            <p:nvPr/>
          </p:nvGrpSpPr>
          <p:grpSpPr>
            <a:xfrm>
              <a:off x="3708360" y="1519200"/>
              <a:ext cx="1656720" cy="1621800"/>
              <a:chOff x="3708360" y="1519200"/>
              <a:chExt cx="1656720" cy="16218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8360" y="1519200"/>
                <a:ext cx="1656720" cy="16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708360" y="1519200"/>
                <a:ext cx="1645560" cy="1621800"/>
              </a:xfrm>
              <a:prstGeom prst="ellipse">
                <a:avLst/>
              </a:prstGeom>
              <a:gradFill rotWithShape="0">
                <a:gsLst>
                  <a:gs pos="0">
                    <a:srgbClr val="336599"/>
                  </a:gs>
                  <a:gs pos="100000">
                    <a:srgbClr val="2e4c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874680" y="1534320"/>
              <a:ext cx="1307880" cy="5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1116000" y="5629320"/>
            <a:ext cx="6913440" cy="0"/>
          </a:xfrm>
          <a:prstGeom prst="line">
            <a:avLst/>
          </a:prstGeom>
          <a:ln w="1908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010040" y="2027160"/>
            <a:ext cx="1079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1" name=""/>
          <p:cNvSpPr/>
          <p:nvPr/>
        </p:nvSpPr>
        <p:spPr>
          <a:xfrm>
            <a:off x="3998880" y="2925720"/>
            <a:ext cx="1146240" cy="863640"/>
          </a:xfrm>
          <a:prstGeom prst="downArrow">
            <a:avLst>
              <a:gd name="adj1" fmla="val 52074"/>
              <a:gd name="adj2" fmla="val 57903"/>
            </a:avLst>
          </a:prstGeom>
          <a:gradFill rotWithShape="0">
            <a:gsLst>
              <a:gs pos="0">
                <a:srgbClr val="2e4c6b">
                  <a:alpha val="0"/>
                </a:srgbClr>
              </a:gs>
              <a:gs pos="100000">
                <a:srgbClr val="3365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3979800"/>
            <a:ext cx="6914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单击此处添加段落文字内容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0" t="0" r="0" b="13"/>
          <a:stretch/>
        </p:blipFill>
        <p:spPr>
          <a:xfrm>
            <a:off x="466560" y="2789280"/>
            <a:ext cx="1535400" cy="5051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998720" y="2768760"/>
            <a:ext cx="1092240" cy="946800"/>
            <a:chOff x="1998720" y="2768760"/>
            <a:chExt cx="1092240" cy="946800"/>
          </a:xfrm>
        </p:grpSpPr>
        <p:sp>
          <p:nvSpPr>
            <p:cNvPr id="165" name=""/>
            <p:cNvSpPr/>
            <p:nvPr/>
          </p:nvSpPr>
          <p:spPr>
            <a:xfrm rot="16200000">
              <a:off x="2089800" y="2677680"/>
              <a:ext cx="910080" cy="109224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2071080" y="2755800"/>
              <a:ext cx="938520" cy="98100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b3cce6">
                    <a:alpha val="0"/>
                  </a:srgbClr>
                </a:gs>
                <a:gs pos="100000">
                  <a:srgbClr val="6698cc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16200000">
            <a:off x="4091040" y="2784240"/>
            <a:ext cx="958680" cy="981000"/>
          </a:xfrm>
          <a:prstGeom prst="leftArrow">
            <a:avLst>
              <a:gd name="adj1" fmla="val 50000"/>
              <a:gd name="adj2" fmla="val 48301"/>
            </a:avLst>
          </a:prstGeom>
          <a:gradFill rotWithShape="0">
            <a:gsLst>
              <a:gs pos="0">
                <a:srgbClr val="b3cce6">
                  <a:alpha val="0"/>
                </a:srgbClr>
              </a:gs>
              <a:gs pos="100000">
                <a:srgbClr val="6698cc">
                  <a:alpha val="45098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012000" y="2781360"/>
            <a:ext cx="1092240" cy="946800"/>
            <a:chOff x="6012000" y="2781360"/>
            <a:chExt cx="1092240" cy="946800"/>
          </a:xfrm>
        </p:grpSpPr>
        <p:sp>
          <p:nvSpPr>
            <p:cNvPr id="169" name=""/>
            <p:cNvSpPr/>
            <p:nvPr/>
          </p:nvSpPr>
          <p:spPr>
            <a:xfrm rot="16200000">
              <a:off x="6103080" y="2690280"/>
              <a:ext cx="910080" cy="109224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6084360" y="2768400"/>
              <a:ext cx="938520" cy="98100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b3cce6">
                    <a:alpha val="0"/>
                  </a:srgbClr>
                </a:gs>
                <a:gs pos="100000">
                  <a:srgbClr val="6698cc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052720" y="4365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6092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b54a3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52:17Z</dcterms:created>
  <dc:creator/>
  <dc:description/>
  <dc:language>en-US</dc:language>
  <cp:lastModifiedBy>Jonty Pearce</cp:lastModifiedBy>
  <dcterms:modified xsi:type="dcterms:W3CDTF">2015-01-10T09:19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