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BFB-2C84-4C92-B464-65AC9002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724-442A-4A5F-9F3E-4B38B0E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E0D-C383-4626-9B85-1CF1B45B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1BC-6250-4B05-881B-7B0628F9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F42-DE54-46FA-9813-FEE2459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97D-8684-4DCC-B66D-3DF185E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171-D4A7-451B-80A6-01DEECE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14A-7F14-451F-A902-03AA618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59F-6448-457B-91C7-784E858C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DE8-4739-4434-A736-8BCFFDB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F3E-11D5-4C1C-9C32-DC9D447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80D-D31F-414A-BB04-64DE5CC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E2E-6AC7-44F5-81D3-2C7ED97BD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AAD9A7FDBA37407c924AECB93E9B325D#&#9;#图片框 15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113184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墨篮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177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50920" y="480528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6012000" y="95400"/>
            <a:ext cx="3132000" cy="388800"/>
            <a:chOff x="6012000" y="95400"/>
            <a:chExt cx="3132000" cy="388800"/>
          </a:xfrm>
        </p:grpSpPr>
        <p:sp>
          <p:nvSpPr>
            <p:cNvPr id="172" name=""/>
            <p:cNvSpPr/>
            <p:nvPr/>
          </p:nvSpPr>
          <p:spPr>
            <a:xfrm flipV="1">
              <a:off x="6012000" y="439920"/>
              <a:ext cx="3132000" cy="25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28360" y="412920"/>
              <a:ext cx="215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88360" y="95400"/>
              <a:ext cx="16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98400" y="700200"/>
            <a:ext cx="7745400" cy="3528720"/>
            <a:chOff x="698400" y="700200"/>
            <a:chExt cx="7745400" cy="3528720"/>
          </a:xfrm>
        </p:grpSpPr>
        <p:sp>
          <p:nvSpPr>
            <p:cNvPr id="176" name=""/>
            <p:cNvSpPr/>
            <p:nvPr/>
          </p:nvSpPr>
          <p:spPr>
            <a:xfrm>
              <a:off x="698400" y="700200"/>
              <a:ext cx="7705800" cy="3528720"/>
            </a:xfrm>
            <a:prstGeom prst="roundRect">
              <a:avLst>
                <a:gd name="adj" fmla="val 583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8000" y="736560"/>
              <a:ext cx="7705800" cy="3436920"/>
            </a:xfrm>
            <a:prstGeom prst="roundRect">
              <a:avLst>
                <a:gd name="adj" fmla="val 583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332000" y="1903320"/>
            <a:ext cx="6750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要你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力以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花下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分之一百一十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努力，输赢都无所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乔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84360" y="268200"/>
            <a:ext cx="7826400" cy="4679640"/>
            <a:chOff x="684360" y="268200"/>
            <a:chExt cx="7826400" cy="4679640"/>
          </a:xfrm>
        </p:grpSpPr>
        <p:sp>
          <p:nvSpPr>
            <p:cNvPr id="180" name="AutoShape 5"/>
            <p:cNvSpPr/>
            <p:nvPr/>
          </p:nvSpPr>
          <p:spPr>
            <a:xfrm>
              <a:off x="684360" y="580680"/>
              <a:ext cx="7826400" cy="4367160"/>
            </a:xfrm>
            <a:prstGeom prst="roundRect">
              <a:avLst>
                <a:gd name="adj" fmla="val 3231"/>
              </a:avLst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787680" y="590040"/>
              <a:ext cx="7569000" cy="4103280"/>
            </a:xfrm>
            <a:prstGeom prst="roundRect">
              <a:avLst>
                <a:gd name="adj" fmla="val 3486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>
              <a:off x="1468440" y="1334160"/>
              <a:ext cx="0" cy="279396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1459080" y="4128480"/>
              <a:ext cx="5400720" cy="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476360" y="268200"/>
              <a:ext cx="6191280" cy="628200"/>
              <a:chOff x="1476360" y="268200"/>
              <a:chExt cx="6191280" cy="628200"/>
            </a:xfrm>
          </p:grpSpPr>
          <p:sp>
            <p:nvSpPr>
              <p:cNvPr id="185" name="AutoShape 3"/>
              <p:cNvSpPr/>
              <p:nvPr/>
            </p:nvSpPr>
            <p:spPr>
              <a:xfrm>
                <a:off x="1476360" y="268200"/>
                <a:ext cx="6191280" cy="628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3"/>
              <p:cNvSpPr/>
              <p:nvPr/>
            </p:nvSpPr>
            <p:spPr>
              <a:xfrm>
                <a:off x="1476360" y="355320"/>
                <a:ext cx="6191280" cy="45396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48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5"/>
            <p:cNvSpPr/>
            <p:nvPr/>
          </p:nvSpPr>
          <p:spPr>
            <a:xfrm>
              <a:off x="3946680" y="1508040"/>
              <a:ext cx="0" cy="262008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5180040" y="1508040"/>
              <a:ext cx="0" cy="262008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6443640" y="1532520"/>
              <a:ext cx="0" cy="262008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2705400" y="1508040"/>
              <a:ext cx="0" cy="262008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4"/>
            <p:cNvSpPr/>
            <p:nvPr/>
          </p:nvSpPr>
          <p:spPr>
            <a:xfrm>
              <a:off x="1908360" y="2013120"/>
              <a:ext cx="1620720" cy="31428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3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1476360" y="2432520"/>
              <a:ext cx="4953240" cy="1189080"/>
            </a:xfrm>
            <a:prstGeom prst="pie">
              <a:avLst/>
            </a:prstGeom>
            <a:noFill/>
            <a:ln w="19080">
              <a:solidFill>
                <a:srgbClr val="3333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4"/>
            <p:cNvSpPr/>
            <p:nvPr/>
          </p:nvSpPr>
          <p:spPr>
            <a:xfrm>
              <a:off x="1476360" y="2589480"/>
              <a:ext cx="54000" cy="5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2700360" y="3498120"/>
              <a:ext cx="54000" cy="5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4"/>
            <p:cNvSpPr/>
            <p:nvPr/>
          </p:nvSpPr>
          <p:spPr>
            <a:xfrm>
              <a:off x="5148360" y="3062160"/>
              <a:ext cx="54000" cy="5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9"/>
            <p:cNvSpPr/>
            <p:nvPr/>
          </p:nvSpPr>
          <p:spPr>
            <a:xfrm>
              <a:off x="6417000" y="2643480"/>
              <a:ext cx="53640" cy="5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9"/>
            <p:cNvSpPr/>
            <p:nvPr/>
          </p:nvSpPr>
          <p:spPr>
            <a:xfrm>
              <a:off x="1478160" y="1989000"/>
              <a:ext cx="4951440" cy="1164240"/>
            </a:xfrm>
            <a:prstGeom prst="pie">
              <a:avLst/>
            </a:prstGeom>
            <a:noFill/>
            <a:ln w="190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1"/>
            <p:cNvSpPr/>
            <p:nvPr/>
          </p:nvSpPr>
          <p:spPr>
            <a:xfrm>
              <a:off x="1430640" y="3116520"/>
              <a:ext cx="72720" cy="69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6"/>
            <p:cNvSpPr/>
            <p:nvPr/>
          </p:nvSpPr>
          <p:spPr>
            <a:xfrm>
              <a:off x="2670480" y="2826720"/>
              <a:ext cx="72720" cy="69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1"/>
            <p:cNvSpPr/>
            <p:nvPr/>
          </p:nvSpPr>
          <p:spPr>
            <a:xfrm>
              <a:off x="5142240" y="2030400"/>
              <a:ext cx="72720" cy="69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>
              <a:off x="6388200" y="2955960"/>
              <a:ext cx="71640" cy="69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0"/>
            <p:cNvSpPr/>
            <p:nvPr/>
          </p:nvSpPr>
          <p:spPr>
            <a:xfrm>
              <a:off x="1497240" y="1514160"/>
              <a:ext cx="4935600" cy="2001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2"/>
            <p:cNvSpPr/>
            <p:nvPr/>
          </p:nvSpPr>
          <p:spPr>
            <a:xfrm>
              <a:off x="1422720" y="3468960"/>
              <a:ext cx="88560" cy="8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7"/>
            <p:cNvSpPr/>
            <p:nvPr/>
          </p:nvSpPr>
          <p:spPr>
            <a:xfrm>
              <a:off x="2662560" y="3224160"/>
              <a:ext cx="88560" cy="8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2"/>
            <p:cNvSpPr/>
            <p:nvPr/>
          </p:nvSpPr>
          <p:spPr>
            <a:xfrm>
              <a:off x="5133960" y="1685160"/>
              <a:ext cx="88920" cy="8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6378840" y="2749680"/>
              <a:ext cx="90360" cy="8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"/>
            <p:cNvSpPr/>
            <p:nvPr/>
          </p:nvSpPr>
          <p:spPr>
            <a:xfrm>
              <a:off x="3862440" y="2370600"/>
              <a:ext cx="223920" cy="217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1"/>
            <p:cNvSpPr/>
            <p:nvPr/>
          </p:nvSpPr>
          <p:spPr>
            <a:xfrm>
              <a:off x="3924360" y="2432520"/>
              <a:ext cx="90720" cy="8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3"/>
            <p:cNvSpPr/>
            <p:nvPr/>
          </p:nvSpPr>
          <p:spPr>
            <a:xfrm>
              <a:off x="2339280" y="201312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8f8f8"/>
                  </a:solidFill>
                  <a:latin typeface="Calibri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6"/>
            <p:cNvSpPr/>
            <p:nvPr/>
          </p:nvSpPr>
          <p:spPr>
            <a:xfrm>
              <a:off x="6877080" y="2293920"/>
              <a:ext cx="1344600" cy="943920"/>
            </a:xfrm>
            <a:prstGeom prst="roundRect">
              <a:avLst>
                <a:gd name="adj" fmla="val 5755"/>
              </a:avLst>
            </a:prstGeom>
            <a:solidFill>
              <a:srgbClr val="f5f2e9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948720" y="2991240"/>
              <a:ext cx="259920" cy="52200"/>
              <a:chOff x="6948720" y="2991240"/>
              <a:chExt cx="259920" cy="52200"/>
            </a:xfrm>
          </p:grpSpPr>
          <p:sp>
            <p:nvSpPr>
              <p:cNvPr id="212" name="Line 53"/>
              <p:cNvSpPr/>
              <p:nvPr/>
            </p:nvSpPr>
            <p:spPr>
              <a:xfrm>
                <a:off x="6948720" y="3015720"/>
                <a:ext cx="2599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5"/>
              <p:cNvSpPr/>
              <p:nvPr/>
            </p:nvSpPr>
            <p:spPr>
              <a:xfrm>
                <a:off x="7051320" y="2991240"/>
                <a:ext cx="54360" cy="5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940800" y="2715840"/>
              <a:ext cx="776880" cy="107280"/>
              <a:chOff x="6940800" y="2715840"/>
              <a:chExt cx="776880" cy="10728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6940800" y="2757240"/>
                <a:ext cx="258840" cy="108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7044840" y="2715840"/>
                <a:ext cx="672840" cy="107280"/>
                <a:chOff x="7044840" y="2715840"/>
                <a:chExt cx="672840" cy="107280"/>
              </a:xfrm>
            </p:grpSpPr>
            <p:sp>
              <p:nvSpPr>
                <p:cNvPr id="217" name="Rectangle 102"/>
                <p:cNvSpPr/>
                <p:nvPr/>
              </p:nvSpPr>
              <p:spPr>
                <a:xfrm>
                  <a:off x="7044840" y="2715840"/>
                  <a:ext cx="72000" cy="691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7633440" y="2763360"/>
                  <a:ext cx="84240" cy="59760"/>
                  <a:chOff x="7633440" y="2763360"/>
                  <a:chExt cx="84240" cy="59760"/>
                </a:xfrm>
              </p:grpSpPr>
              <p:sp>
                <p:nvSpPr>
                  <p:cNvPr id="219" name="Line 104"/>
                  <p:cNvSpPr/>
                  <p:nvPr/>
                </p:nvSpPr>
                <p:spPr>
                  <a:xfrm>
                    <a:off x="7675560" y="2763360"/>
                    <a:ext cx="0" cy="5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05"/>
                  <p:cNvSpPr/>
                  <p:nvPr/>
                </p:nvSpPr>
                <p:spPr>
                  <a:xfrm flipH="1">
                    <a:off x="7633440" y="279324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1" name=""/>
            <p:cNvGrpSpPr/>
            <p:nvPr/>
          </p:nvGrpSpPr>
          <p:grpSpPr>
            <a:xfrm>
              <a:off x="6940800" y="2415240"/>
              <a:ext cx="259920" cy="87840"/>
              <a:chOff x="6940800" y="2415240"/>
              <a:chExt cx="259920" cy="87840"/>
            </a:xfrm>
          </p:grpSpPr>
          <p:sp>
            <p:nvSpPr>
              <p:cNvPr id="222" name="Line 27"/>
              <p:cNvSpPr/>
              <p:nvPr/>
            </p:nvSpPr>
            <p:spPr>
              <a:xfrm>
                <a:off x="6940800" y="2458080"/>
                <a:ext cx="259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07"/>
              <p:cNvSpPr/>
              <p:nvPr/>
            </p:nvSpPr>
            <p:spPr>
              <a:xfrm>
                <a:off x="7025760" y="2415240"/>
                <a:ext cx="91440" cy="8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9"/>
            <p:cNvSpPr/>
            <p:nvPr/>
          </p:nvSpPr>
          <p:spPr>
            <a:xfrm>
              <a:off x="7124760" y="232452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7124760" y="262332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>
              <a:off x="7124760" y="2916000"/>
              <a:ext cx="11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9"/>
            <p:cNvSpPr/>
            <p:nvPr/>
          </p:nvSpPr>
          <p:spPr>
            <a:xfrm>
              <a:off x="1000440" y="41713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2243160" y="4171320"/>
              <a:ext cx="94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3483000" y="4171320"/>
              <a:ext cx="94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4724640" y="41713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"/>
            <p:cNvSpPr/>
            <p:nvPr/>
          </p:nvSpPr>
          <p:spPr>
            <a:xfrm>
              <a:off x="5953320" y="41713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3470400" y="398880"/>
              <a:ext cx="22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578400" y="1998000"/>
              <a:ext cx="311040" cy="363600"/>
              <a:chOff x="3578400" y="1998000"/>
              <a:chExt cx="311040" cy="363600"/>
            </a:xfrm>
          </p:grpSpPr>
          <p:sp>
            <p:nvSpPr>
              <p:cNvPr id="234" name="任意多边形 114"/>
              <p:cNvSpPr/>
              <p:nvPr/>
            </p:nvSpPr>
            <p:spPr>
              <a:xfrm>
                <a:off x="3585600" y="1998000"/>
                <a:ext cx="360" cy="314280"/>
              </a:xfrm>
              <a:prstGeom prst="pie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115"/>
              <p:cNvSpPr/>
              <p:nvPr/>
            </p:nvSpPr>
            <p:spPr>
              <a:xfrm>
                <a:off x="3578400" y="2145960"/>
                <a:ext cx="311040" cy="215640"/>
              </a:xfrm>
              <a:prstGeom prst="pie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935000" y="2284560"/>
            <a:ext cx="5373720" cy="504720"/>
            <a:chOff x="1935000" y="2284560"/>
            <a:chExt cx="5373720" cy="504720"/>
          </a:xfrm>
        </p:grpSpPr>
        <p:grpSp>
          <p:nvGrpSpPr>
            <p:cNvPr id="238" name=""/>
            <p:cNvGrpSpPr/>
            <p:nvPr/>
          </p:nvGrpSpPr>
          <p:grpSpPr>
            <a:xfrm>
              <a:off x="1935000" y="2284560"/>
              <a:ext cx="5373720" cy="504720"/>
              <a:chOff x="1935000" y="2284560"/>
              <a:chExt cx="5373720" cy="504720"/>
            </a:xfrm>
          </p:grpSpPr>
          <p:sp>
            <p:nvSpPr>
              <p:cNvPr id="239" name=""/>
              <p:cNvSpPr/>
              <p:nvPr/>
            </p:nvSpPr>
            <p:spPr>
              <a:xfrm>
                <a:off x="1935000" y="228456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66680" y="231624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268360" y="23497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522200" y="47340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63640" y="1852560"/>
            <a:ext cx="675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360" y="25020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Elephant"/>
                <a:ea typeface="叶根友行书繁"/>
              </a:rPr>
              <a:t>Thank yo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8466120" cy="5145120"/>
            <a:chOff x="0" y="0"/>
            <a:chExt cx="8466120" cy="5145120"/>
          </a:xfrm>
        </p:grpSpPr>
        <p:sp>
          <p:nvSpPr>
            <p:cNvPr id="2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6280"/>
              <a:ext cx="84661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7"/>
            <p:cNvSpPr/>
            <p:nvPr/>
          </p:nvSpPr>
          <p:spPr>
            <a:xfrm rot="20926800">
              <a:off x="1946880" y="2676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935000" y="1204920"/>
            <a:ext cx="5373720" cy="504720"/>
            <a:chOff x="1935000" y="1204920"/>
            <a:chExt cx="5373720" cy="504720"/>
          </a:xfrm>
        </p:grpSpPr>
        <p:grpSp>
          <p:nvGrpSpPr>
            <p:cNvPr id="48" name=""/>
            <p:cNvGrpSpPr/>
            <p:nvPr/>
          </p:nvGrpSpPr>
          <p:grpSpPr>
            <a:xfrm>
              <a:off x="1935000" y="1204920"/>
              <a:ext cx="5373720" cy="504720"/>
              <a:chOff x="1935000" y="1204920"/>
              <a:chExt cx="5373720" cy="504720"/>
            </a:xfrm>
          </p:grpSpPr>
          <p:sp>
            <p:nvSpPr>
              <p:cNvPr id="49" name=""/>
              <p:cNvSpPr/>
              <p:nvPr/>
            </p:nvSpPr>
            <p:spPr>
              <a:xfrm>
                <a:off x="1935000" y="120492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66680" y="123660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268360" y="12700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935000" y="1995480"/>
            <a:ext cx="5373720" cy="504720"/>
            <a:chOff x="1935000" y="1995480"/>
            <a:chExt cx="5373720" cy="504720"/>
          </a:xfrm>
        </p:grpSpPr>
        <p:grpSp>
          <p:nvGrpSpPr>
            <p:cNvPr id="53" name=""/>
            <p:cNvGrpSpPr/>
            <p:nvPr/>
          </p:nvGrpSpPr>
          <p:grpSpPr>
            <a:xfrm>
              <a:off x="1935000" y="1995480"/>
              <a:ext cx="5373720" cy="504720"/>
              <a:chOff x="1935000" y="1995480"/>
              <a:chExt cx="5373720" cy="504720"/>
            </a:xfrm>
          </p:grpSpPr>
          <p:sp>
            <p:nvSpPr>
              <p:cNvPr id="54" name=""/>
              <p:cNvSpPr/>
              <p:nvPr/>
            </p:nvSpPr>
            <p:spPr>
              <a:xfrm>
                <a:off x="1935000" y="19954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66680" y="20271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247840" y="20908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935000" y="2787480"/>
            <a:ext cx="5373720" cy="504720"/>
            <a:chOff x="1935000" y="2787480"/>
            <a:chExt cx="5373720" cy="504720"/>
          </a:xfrm>
        </p:grpSpPr>
        <p:grpSp>
          <p:nvGrpSpPr>
            <p:cNvPr id="58" name=""/>
            <p:cNvGrpSpPr/>
            <p:nvPr/>
          </p:nvGrpSpPr>
          <p:grpSpPr>
            <a:xfrm>
              <a:off x="1935000" y="2787480"/>
              <a:ext cx="5373720" cy="504720"/>
              <a:chOff x="1935000" y="2787480"/>
              <a:chExt cx="5373720" cy="504720"/>
            </a:xfrm>
          </p:grpSpPr>
          <p:sp>
            <p:nvSpPr>
              <p:cNvPr id="59" name=""/>
              <p:cNvSpPr/>
              <p:nvPr/>
            </p:nvSpPr>
            <p:spPr>
              <a:xfrm>
                <a:off x="1935000" y="27874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66680" y="28191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59000" y="286056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35000" y="3579840"/>
            <a:ext cx="5373720" cy="504720"/>
            <a:chOff x="1935000" y="3579840"/>
            <a:chExt cx="5373720" cy="504720"/>
          </a:xfrm>
        </p:grpSpPr>
        <p:grpSp>
          <p:nvGrpSpPr>
            <p:cNvPr id="63" name=""/>
            <p:cNvGrpSpPr/>
            <p:nvPr/>
          </p:nvGrpSpPr>
          <p:grpSpPr>
            <a:xfrm>
              <a:off x="1935000" y="3579840"/>
              <a:ext cx="5373720" cy="504720"/>
              <a:chOff x="1935000" y="3579840"/>
              <a:chExt cx="5373720" cy="504720"/>
            </a:xfrm>
          </p:grpSpPr>
          <p:sp>
            <p:nvSpPr>
              <p:cNvPr id="64" name=""/>
              <p:cNvSpPr/>
              <p:nvPr/>
            </p:nvSpPr>
            <p:spPr>
              <a:xfrm>
                <a:off x="1935000" y="357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966680" y="361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59000" y="36529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35000" y="2284560"/>
            <a:ext cx="5373720" cy="504720"/>
            <a:chOff x="1935000" y="2284560"/>
            <a:chExt cx="5373720" cy="504720"/>
          </a:xfrm>
        </p:grpSpPr>
        <p:grpSp>
          <p:nvGrpSpPr>
            <p:cNvPr id="69" name=""/>
            <p:cNvGrpSpPr/>
            <p:nvPr/>
          </p:nvGrpSpPr>
          <p:grpSpPr>
            <a:xfrm>
              <a:off x="1935000" y="2284560"/>
              <a:ext cx="5373720" cy="504720"/>
              <a:chOff x="1935000" y="2284560"/>
              <a:chExt cx="5373720" cy="504720"/>
            </a:xfrm>
          </p:grpSpPr>
          <p:sp>
            <p:nvSpPr>
              <p:cNvPr id="70" name=""/>
              <p:cNvSpPr/>
              <p:nvPr/>
            </p:nvSpPr>
            <p:spPr>
              <a:xfrm>
                <a:off x="1935000" y="228456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66680" y="231624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2268360" y="23497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048360" y="123840"/>
            <a:ext cx="3132000" cy="388800"/>
            <a:chOff x="6048360" y="123840"/>
            <a:chExt cx="3132000" cy="388800"/>
          </a:xfrm>
        </p:grpSpPr>
        <p:sp>
          <p:nvSpPr>
            <p:cNvPr id="75" name=""/>
            <p:cNvSpPr/>
            <p:nvPr/>
          </p:nvSpPr>
          <p:spPr>
            <a:xfrm flipV="1">
              <a:off x="6048360" y="468360"/>
              <a:ext cx="3132000" cy="25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64720" y="441360"/>
              <a:ext cx="215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24720" y="123840"/>
              <a:ext cx="16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35120" y="728640"/>
            <a:ext cx="7745400" cy="3528720"/>
            <a:chOff x="735120" y="728640"/>
            <a:chExt cx="7745400" cy="3528720"/>
          </a:xfrm>
        </p:grpSpPr>
        <p:sp>
          <p:nvSpPr>
            <p:cNvPr id="79" name=""/>
            <p:cNvSpPr/>
            <p:nvPr/>
          </p:nvSpPr>
          <p:spPr>
            <a:xfrm>
              <a:off x="735120" y="728640"/>
              <a:ext cx="7705800" cy="3528720"/>
            </a:xfrm>
            <a:prstGeom prst="roundRect">
              <a:avLst>
                <a:gd name="adj" fmla="val 583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4720" y="765000"/>
              <a:ext cx="7705800" cy="3436920"/>
            </a:xfrm>
            <a:prstGeom prst="roundRect">
              <a:avLst>
                <a:gd name="adj" fmla="val 583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5080" y="1506600"/>
            <a:ext cx="3311640" cy="1990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35640" y="21949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篮球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个由两队参与的球类运动，每队出场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目的是将球进入对方球篮得分，并阻止对方获得球或得分。可将球向任何方向传、投、拍、滚或运，但要受规则的限制。篮球比赛的形式多种多样，也有最流行的街头三人篮球赛，是三对三的比赛，更讲究个人技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658800" y="266760"/>
            <a:ext cx="7826400" cy="4608000"/>
            <a:chOff x="658800" y="266760"/>
            <a:chExt cx="7826400" cy="4608000"/>
          </a:xfrm>
        </p:grpSpPr>
        <p:sp>
          <p:nvSpPr>
            <p:cNvPr id="84" name="AutoShape 5"/>
            <p:cNvSpPr/>
            <p:nvPr/>
          </p:nvSpPr>
          <p:spPr>
            <a:xfrm>
              <a:off x="658800" y="576000"/>
              <a:ext cx="7826400" cy="4298760"/>
            </a:xfrm>
            <a:prstGeom prst="roundRect">
              <a:avLst>
                <a:gd name="adj" fmla="val 3231"/>
              </a:avLst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787320" y="706320"/>
              <a:ext cx="7569360" cy="4039560"/>
            </a:xfrm>
            <a:prstGeom prst="roundRect">
              <a:avLst>
                <a:gd name="adj" fmla="val 3486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85720" y="266760"/>
              <a:ext cx="6191280" cy="618480"/>
              <a:chOff x="1485720" y="266760"/>
              <a:chExt cx="6191280" cy="618480"/>
            </a:xfrm>
          </p:grpSpPr>
          <p:sp>
            <p:nvSpPr>
              <p:cNvPr id="87" name="AutoShape 3"/>
              <p:cNvSpPr/>
              <p:nvPr/>
            </p:nvSpPr>
            <p:spPr>
              <a:xfrm>
                <a:off x="1485720" y="266760"/>
                <a:ext cx="6191280" cy="61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3"/>
              <p:cNvSpPr/>
              <p:nvPr/>
            </p:nvSpPr>
            <p:spPr>
              <a:xfrm>
                <a:off x="1485720" y="352800"/>
                <a:ext cx="6191280" cy="44568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48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3"/>
              <p:cNvSpPr/>
              <p:nvPr/>
            </p:nvSpPr>
            <p:spPr>
              <a:xfrm>
                <a:off x="3454200" y="384840"/>
                <a:ext cx="22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1"/>
            <p:cNvSpPr/>
            <p:nvPr/>
          </p:nvSpPr>
          <p:spPr>
            <a:xfrm>
              <a:off x="2808360" y="1773720"/>
              <a:ext cx="1440" cy="233820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>
              <a:off x="4562640" y="1773720"/>
              <a:ext cx="1440" cy="233820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6305400" y="1773720"/>
              <a:ext cx="3240" cy="233820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1620360" y="4167000"/>
              <a:ext cx="607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57"/>
            <p:cNvSpPr/>
            <p:nvPr/>
          </p:nvSpPr>
          <p:spPr>
            <a:xfrm>
              <a:off x="3372840" y="4167000"/>
              <a:ext cx="607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58"/>
            <p:cNvSpPr/>
            <p:nvPr/>
          </p:nvSpPr>
          <p:spPr>
            <a:xfrm>
              <a:off x="5128560" y="4167000"/>
              <a:ext cx="607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9"/>
            <p:cNvSpPr/>
            <p:nvPr/>
          </p:nvSpPr>
          <p:spPr>
            <a:xfrm>
              <a:off x="6890760" y="4167000"/>
              <a:ext cx="607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25"/>
            <p:cNvSpPr/>
            <p:nvPr/>
          </p:nvSpPr>
          <p:spPr>
            <a:xfrm>
              <a:off x="1428840" y="3972600"/>
              <a:ext cx="506160" cy="145800"/>
            </a:xfrm>
            <a:prstGeom prst="rect">
              <a:avLst/>
            </a:prstGeom>
            <a:solidFill>
              <a:srgbClr val="f5f2e9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6"/>
            <p:cNvSpPr/>
            <p:nvPr/>
          </p:nvSpPr>
          <p:spPr>
            <a:xfrm>
              <a:off x="3174840" y="3633120"/>
              <a:ext cx="503280" cy="484920"/>
            </a:xfrm>
            <a:prstGeom prst="rect">
              <a:avLst/>
            </a:prstGeom>
            <a:solidFill>
              <a:srgbClr val="f5f2e9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27"/>
            <p:cNvSpPr/>
            <p:nvPr/>
          </p:nvSpPr>
          <p:spPr>
            <a:xfrm>
              <a:off x="4929120" y="3156840"/>
              <a:ext cx="506520" cy="961200"/>
            </a:xfrm>
            <a:prstGeom prst="rect">
              <a:avLst/>
            </a:prstGeom>
            <a:solidFill>
              <a:srgbClr val="f5f2e9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8"/>
            <p:cNvSpPr/>
            <p:nvPr/>
          </p:nvSpPr>
          <p:spPr>
            <a:xfrm>
              <a:off x="6673680" y="3012840"/>
              <a:ext cx="505080" cy="1105560"/>
            </a:xfrm>
            <a:prstGeom prst="rect">
              <a:avLst/>
            </a:prstGeom>
            <a:solidFill>
              <a:srgbClr val="f5f2e9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9"/>
            <p:cNvSpPr/>
            <p:nvPr/>
          </p:nvSpPr>
          <p:spPr>
            <a:xfrm>
              <a:off x="1938240" y="2926440"/>
              <a:ext cx="492120" cy="119916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0"/>
            <p:cNvSpPr/>
            <p:nvPr/>
          </p:nvSpPr>
          <p:spPr>
            <a:xfrm>
              <a:off x="3681360" y="3114360"/>
              <a:ext cx="506520" cy="101160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1"/>
            <p:cNvSpPr/>
            <p:nvPr/>
          </p:nvSpPr>
          <p:spPr>
            <a:xfrm>
              <a:off x="5448240" y="2535120"/>
              <a:ext cx="492120" cy="159048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2"/>
            <p:cNvSpPr/>
            <p:nvPr/>
          </p:nvSpPr>
          <p:spPr>
            <a:xfrm>
              <a:off x="7182000" y="2885760"/>
              <a:ext cx="495000" cy="130068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6"/>
            <p:cNvSpPr/>
            <p:nvPr/>
          </p:nvSpPr>
          <p:spPr>
            <a:xfrm>
              <a:off x="1976040" y="2598840"/>
              <a:ext cx="3942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6"/>
            <p:cNvSpPr/>
            <p:nvPr/>
          </p:nvSpPr>
          <p:spPr>
            <a:xfrm>
              <a:off x="1480680" y="3655800"/>
              <a:ext cx="3942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6"/>
            <p:cNvSpPr/>
            <p:nvPr/>
          </p:nvSpPr>
          <p:spPr>
            <a:xfrm>
              <a:off x="3641760" y="2785680"/>
              <a:ext cx="544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56"/>
            <p:cNvSpPr/>
            <p:nvPr/>
          </p:nvSpPr>
          <p:spPr>
            <a:xfrm>
              <a:off x="3220560" y="3305520"/>
              <a:ext cx="3942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6"/>
            <p:cNvSpPr/>
            <p:nvPr/>
          </p:nvSpPr>
          <p:spPr>
            <a:xfrm>
              <a:off x="5381640" y="2201760"/>
              <a:ext cx="544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6"/>
            <p:cNvSpPr/>
            <p:nvPr/>
          </p:nvSpPr>
          <p:spPr>
            <a:xfrm>
              <a:off x="4960800" y="2832120"/>
              <a:ext cx="3942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6"/>
            <p:cNvSpPr/>
            <p:nvPr/>
          </p:nvSpPr>
          <p:spPr>
            <a:xfrm>
              <a:off x="7147080" y="2495520"/>
              <a:ext cx="544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6"/>
            <p:cNvSpPr/>
            <p:nvPr/>
          </p:nvSpPr>
          <p:spPr>
            <a:xfrm>
              <a:off x="6713280" y="2688120"/>
              <a:ext cx="3942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22576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"/>
            <p:cNvSpPr/>
            <p:nvPr/>
          </p:nvSpPr>
          <p:spPr>
            <a:xfrm>
              <a:off x="1119240" y="1316160"/>
              <a:ext cx="0" cy="282024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1103400" y="4130280"/>
              <a:ext cx="6840360" cy="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1935000" y="2284560"/>
            <a:ext cx="5373720" cy="504720"/>
            <a:chOff x="1935000" y="2284560"/>
            <a:chExt cx="5373720" cy="504720"/>
          </a:xfrm>
        </p:grpSpPr>
        <p:grpSp>
          <p:nvGrpSpPr>
            <p:cNvPr id="117" name=""/>
            <p:cNvGrpSpPr/>
            <p:nvPr/>
          </p:nvGrpSpPr>
          <p:grpSpPr>
            <a:xfrm>
              <a:off x="1935000" y="2284560"/>
              <a:ext cx="5373720" cy="504720"/>
              <a:chOff x="1935000" y="2284560"/>
              <a:chExt cx="5373720" cy="504720"/>
            </a:xfrm>
          </p:grpSpPr>
          <p:sp>
            <p:nvSpPr>
              <p:cNvPr id="118" name=""/>
              <p:cNvSpPr/>
              <p:nvPr/>
            </p:nvSpPr>
            <p:spPr>
              <a:xfrm>
                <a:off x="1935000" y="228456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66680" y="231624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68360" y="23497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450920" y="473400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012000" y="95400"/>
            <a:ext cx="3132000" cy="388800"/>
            <a:chOff x="6012000" y="95400"/>
            <a:chExt cx="3132000" cy="388800"/>
          </a:xfrm>
        </p:grpSpPr>
        <p:sp>
          <p:nvSpPr>
            <p:cNvPr id="124" name=""/>
            <p:cNvSpPr/>
            <p:nvPr/>
          </p:nvSpPr>
          <p:spPr>
            <a:xfrm flipV="1">
              <a:off x="6012000" y="439920"/>
              <a:ext cx="3132000" cy="252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28360" y="412920"/>
              <a:ext cx="21564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88360" y="95400"/>
              <a:ext cx="16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98400" y="806400"/>
            <a:ext cx="7745400" cy="3528720"/>
            <a:chOff x="698400" y="806400"/>
            <a:chExt cx="7745400" cy="3528720"/>
          </a:xfrm>
        </p:grpSpPr>
        <p:sp>
          <p:nvSpPr>
            <p:cNvPr id="128" name=""/>
            <p:cNvSpPr/>
            <p:nvPr/>
          </p:nvSpPr>
          <p:spPr>
            <a:xfrm>
              <a:off x="698400" y="806400"/>
              <a:ext cx="7705800" cy="3528720"/>
            </a:xfrm>
            <a:prstGeom prst="roundRect">
              <a:avLst>
                <a:gd name="adj" fmla="val 583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8000" y="842760"/>
              <a:ext cx="7705800" cy="3436920"/>
            </a:xfrm>
            <a:prstGeom prst="roundRect">
              <a:avLst>
                <a:gd name="adj" fmla="val 583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32000" y="1636560"/>
            <a:ext cx="6835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些记录算不了什么，任何记录总是被人超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可以接受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败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但无法接受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弃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迈克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乔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685800" y="555480"/>
            <a:ext cx="7702560" cy="4033800"/>
            <a:chOff x="685800" y="555480"/>
            <a:chExt cx="7702560" cy="4033800"/>
          </a:xfrm>
        </p:grpSpPr>
        <p:sp>
          <p:nvSpPr>
            <p:cNvPr id="132" name="AutoShape 207"/>
            <p:cNvSpPr/>
            <p:nvPr/>
          </p:nvSpPr>
          <p:spPr>
            <a:xfrm>
              <a:off x="685800" y="906480"/>
              <a:ext cx="7702560" cy="3682800"/>
            </a:xfrm>
            <a:prstGeom prst="roundRect">
              <a:avLst>
                <a:gd name="adj" fmla="val 4019"/>
              </a:avLst>
            </a:prstGeom>
            <a:noFill/>
            <a:ln w="25560">
              <a:solidFill>
                <a:srgbClr val="bfbfb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96"/>
            <p:cNvSpPr/>
            <p:nvPr/>
          </p:nvSpPr>
          <p:spPr>
            <a:xfrm>
              <a:off x="998640" y="2234160"/>
              <a:ext cx="2117520" cy="213192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31920"/>
                <a:gd name="textAreaBottom" fmla="*/ 2108880 h 2131920"/>
              </a:gdLst>
              <a:ahLst/>
              <a:rect l="textAreaLeft" t="textAreaTop" r="textAreaRight" b="textAreaBottom"/>
              <a:pathLst>
                <a:path w="21600" h="21747">
                  <a:moveTo>
                    <a:pt x="805" y="0"/>
                  </a:moveTo>
                  <a:arcTo wR="805" hR="805" stAng="16200000" swAng="-5400000"/>
                  <a:lnTo>
                    <a:pt x="0" y="20942"/>
                  </a:lnTo>
                  <a:arcTo wR="805" hR="805" stAng="10800000" swAng="-5400000"/>
                  <a:lnTo>
                    <a:pt x="20795" y="2174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99cc00">
                <a:alpha val="18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8"/>
            <p:cNvSpPr/>
            <p:nvPr/>
          </p:nvSpPr>
          <p:spPr>
            <a:xfrm>
              <a:off x="1255680" y="2828880"/>
              <a:ext cx="157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29"/>
            <p:cNvSpPr/>
            <p:nvPr/>
          </p:nvSpPr>
          <p:spPr>
            <a:xfrm>
              <a:off x="1255680" y="3276000"/>
              <a:ext cx="157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195640" y="555480"/>
              <a:ext cx="4751280" cy="698400"/>
              <a:chOff x="2195640" y="555480"/>
              <a:chExt cx="4751280" cy="698400"/>
            </a:xfrm>
          </p:grpSpPr>
          <p:sp>
            <p:nvSpPr>
              <p:cNvPr id="137" name="AutoShape 3"/>
              <p:cNvSpPr/>
              <p:nvPr/>
            </p:nvSpPr>
            <p:spPr>
              <a:xfrm>
                <a:off x="2195640" y="555480"/>
                <a:ext cx="4751280" cy="698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3"/>
              <p:cNvSpPr/>
              <p:nvPr/>
            </p:nvSpPr>
            <p:spPr>
              <a:xfrm>
                <a:off x="2195640" y="641520"/>
                <a:ext cx="4751280" cy="52560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49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4029120" y="7095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AutoShape 196"/>
            <p:cNvSpPr/>
            <p:nvPr/>
          </p:nvSpPr>
          <p:spPr>
            <a:xfrm>
              <a:off x="3492360" y="2234160"/>
              <a:ext cx="2119320" cy="2131920"/>
            </a:xfrm>
            <a:custGeom>
              <a:avLst/>
              <a:gdLst>
                <a:gd name="textAreaLeft" fmla="*/ 23040 w 2119320"/>
                <a:gd name="textAreaRight" fmla="*/ 2096280 w 2119320"/>
                <a:gd name="textAreaTop" fmla="*/ 23040 h 2131920"/>
                <a:gd name="textAreaBottom" fmla="*/ 2108880 h 2131920"/>
              </a:gdLst>
              <a:ahLst/>
              <a:rect l="textAreaLeft" t="textAreaTop" r="textAreaRight" b="textAreaBottom"/>
              <a:pathLst>
                <a:path w="21600" h="21728">
                  <a:moveTo>
                    <a:pt x="805" y="0"/>
                  </a:moveTo>
                  <a:arcTo wR="805" hR="805" stAng="16200000" swAng="-5400000"/>
                  <a:lnTo>
                    <a:pt x="0" y="20923"/>
                  </a:lnTo>
                  <a:arcTo wR="805" hR="805" stAng="10800000" swAng="-5400000"/>
                  <a:lnTo>
                    <a:pt x="20795" y="21728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99cc00">
                <a:alpha val="18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28"/>
            <p:cNvSpPr/>
            <p:nvPr/>
          </p:nvSpPr>
          <p:spPr>
            <a:xfrm>
              <a:off x="3740040" y="2828880"/>
              <a:ext cx="157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29"/>
            <p:cNvSpPr/>
            <p:nvPr/>
          </p:nvSpPr>
          <p:spPr>
            <a:xfrm>
              <a:off x="3740040" y="3276000"/>
              <a:ext cx="157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96"/>
            <p:cNvSpPr/>
            <p:nvPr/>
          </p:nvSpPr>
          <p:spPr>
            <a:xfrm>
              <a:off x="5975280" y="2252520"/>
              <a:ext cx="2117880" cy="2131920"/>
            </a:xfrm>
            <a:custGeom>
              <a:avLst/>
              <a:gdLst>
                <a:gd name="textAreaLeft" fmla="*/ 23040 w 2117880"/>
                <a:gd name="textAreaRight" fmla="*/ 2094840 w 2117880"/>
                <a:gd name="textAreaTop" fmla="*/ 23040 h 2131920"/>
                <a:gd name="textAreaBottom" fmla="*/ 2108880 h 2131920"/>
              </a:gdLst>
              <a:ahLst/>
              <a:rect l="textAreaLeft" t="textAreaTop" r="textAreaRight" b="textAreaBottom"/>
              <a:pathLst>
                <a:path w="21600" h="21743">
                  <a:moveTo>
                    <a:pt x="805" y="0"/>
                  </a:moveTo>
                  <a:arcTo wR="805" hR="805" stAng="16200000" swAng="-5400000"/>
                  <a:lnTo>
                    <a:pt x="0" y="20938"/>
                  </a:lnTo>
                  <a:arcTo wR="805" hR="805" stAng="10800000" swAng="-5400000"/>
                  <a:lnTo>
                    <a:pt x="20795" y="21743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99cc00">
                <a:alpha val="18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28"/>
            <p:cNvSpPr/>
            <p:nvPr/>
          </p:nvSpPr>
          <p:spPr>
            <a:xfrm>
              <a:off x="6248520" y="28288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29"/>
            <p:cNvSpPr/>
            <p:nvPr/>
          </p:nvSpPr>
          <p:spPr>
            <a:xfrm>
              <a:off x="6248520" y="327600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869080" y="1533960"/>
              <a:ext cx="2303280" cy="751680"/>
              <a:chOff x="5869080" y="1533960"/>
              <a:chExt cx="2303280" cy="7516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5869080" y="1533960"/>
                <a:ext cx="2303280" cy="698040"/>
                <a:chOff x="5869080" y="1533960"/>
                <a:chExt cx="2303280" cy="698040"/>
              </a:xfrm>
            </p:grpSpPr>
            <p:sp>
              <p:nvSpPr>
                <p:cNvPr id="148" name="AutoShape 3"/>
                <p:cNvSpPr/>
                <p:nvPr/>
              </p:nvSpPr>
              <p:spPr>
                <a:xfrm>
                  <a:off x="5869080" y="1533960"/>
                  <a:ext cx="2303280" cy="69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b5b3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3"/>
                <p:cNvSpPr/>
                <p:nvPr/>
              </p:nvSpPr>
              <p:spPr>
                <a:xfrm>
                  <a:off x="5869080" y="1621080"/>
                  <a:ext cx="2303280" cy="523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>
                    <a:alpha val="71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229"/>
              <p:cNvSpPr/>
              <p:nvPr/>
            </p:nvSpPr>
            <p:spPr>
              <a:xfrm>
                <a:off x="6607440" y="17481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22"/>
              <p:cNvSpPr/>
              <p:nvPr/>
            </p:nvSpPr>
            <p:spPr>
              <a:xfrm>
                <a:off x="5940000" y="2213640"/>
                <a:ext cx="2160360" cy="72000"/>
              </a:xfrm>
              <a:prstGeom prst="pie">
                <a:avLst/>
              </a:prstGeom>
              <a:gradFill rotWithShape="0">
                <a:gsLst>
                  <a:gs pos="0">
                    <a:srgbClr val="40404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421080" y="1533960"/>
              <a:ext cx="2303280" cy="761400"/>
              <a:chOff x="3421080" y="1533960"/>
              <a:chExt cx="2303280" cy="7614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421080" y="1533960"/>
                <a:ext cx="2303280" cy="698400"/>
                <a:chOff x="3421080" y="1533960"/>
                <a:chExt cx="2303280" cy="698400"/>
              </a:xfrm>
            </p:grpSpPr>
            <p:sp>
              <p:nvSpPr>
                <p:cNvPr id="154" name="AutoShape 3"/>
                <p:cNvSpPr/>
                <p:nvPr/>
              </p:nvSpPr>
              <p:spPr>
                <a:xfrm>
                  <a:off x="3421080" y="1533960"/>
                  <a:ext cx="2303280" cy="698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b5b3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3"/>
                <p:cNvSpPr/>
                <p:nvPr/>
              </p:nvSpPr>
              <p:spPr>
                <a:xfrm>
                  <a:off x="3421080" y="1621080"/>
                  <a:ext cx="2303280" cy="523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>
                    <a:alpha val="71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229"/>
              <p:cNvSpPr/>
              <p:nvPr/>
            </p:nvSpPr>
            <p:spPr>
              <a:xfrm>
                <a:off x="4159440" y="17481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22"/>
              <p:cNvSpPr/>
              <p:nvPr/>
            </p:nvSpPr>
            <p:spPr>
              <a:xfrm>
                <a:off x="3497040" y="2223000"/>
                <a:ext cx="2160000" cy="72360"/>
              </a:xfrm>
              <a:prstGeom prst="pie">
                <a:avLst/>
              </a:prstGeom>
              <a:gradFill rotWithShape="0">
                <a:gsLst>
                  <a:gs pos="0">
                    <a:srgbClr val="40404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900000" y="1533960"/>
              <a:ext cx="2303640" cy="735120"/>
              <a:chOff x="900000" y="1533960"/>
              <a:chExt cx="2303640" cy="7351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900000" y="1533960"/>
                <a:ext cx="2303640" cy="698760"/>
                <a:chOff x="900000" y="1533960"/>
                <a:chExt cx="2303640" cy="69876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900000" y="1533960"/>
                  <a:ext cx="2303640" cy="698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b5b3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900000" y="1621080"/>
                  <a:ext cx="2303640" cy="524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808080">
                    <a:alpha val="71000"/>
                  </a:srgbClr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1639080" y="17481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22"/>
              <p:cNvSpPr/>
              <p:nvPr/>
            </p:nvSpPr>
            <p:spPr>
              <a:xfrm>
                <a:off x="966600" y="2196720"/>
                <a:ext cx="2160720" cy="72360"/>
              </a:xfrm>
              <a:prstGeom prst="pie">
                <a:avLst/>
              </a:prstGeom>
              <a:gradFill rotWithShape="0">
                <a:gsLst>
                  <a:gs pos="0">
                    <a:srgbClr val="40404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935000" y="2284560"/>
            <a:ext cx="5373720" cy="504720"/>
            <a:chOff x="1935000" y="2284560"/>
            <a:chExt cx="5373720" cy="504720"/>
          </a:xfrm>
        </p:grpSpPr>
        <p:grpSp>
          <p:nvGrpSpPr>
            <p:cNvPr id="166" name=""/>
            <p:cNvGrpSpPr/>
            <p:nvPr/>
          </p:nvGrpSpPr>
          <p:grpSpPr>
            <a:xfrm>
              <a:off x="1935000" y="2284560"/>
              <a:ext cx="5373720" cy="504720"/>
              <a:chOff x="1935000" y="2284560"/>
              <a:chExt cx="5373720" cy="504720"/>
            </a:xfrm>
          </p:grpSpPr>
          <p:sp>
            <p:nvSpPr>
              <p:cNvPr id="167" name=""/>
              <p:cNvSpPr/>
              <p:nvPr/>
            </p:nvSpPr>
            <p:spPr>
              <a:xfrm>
                <a:off x="1935000" y="228456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1010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66680" y="231624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268360" y="234972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2:09:22Z</dcterms:created>
  <dc:creator/>
  <dc:description/>
  <dc:language>en-US</dc:language>
  <cp:lastModifiedBy>yk</cp:lastModifiedBy>
  <dcterms:modified xsi:type="dcterms:W3CDTF">2015-01-11T08:42:38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