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C3E6-9AD6-4537-B347-62D21647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599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413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29B4-68A3-4118-9097-1586AEB4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599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9360" y="12949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413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9360" y="40413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26A6-0A3F-4EAB-B7E2-B866B2BB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599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8520" y="12949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9840" y="12949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413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8520" y="40413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9840" y="40413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3EF1-F695-4FB3-AA09-23595E72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FD07-DC86-4878-A0F5-CDCE8A1C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599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7DE6-CA53-4C68-AEF4-AE79BE71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599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B5C8-22EE-43B2-AA2C-FB2058B4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599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69360" y="12949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CDE2-D9C2-4F80-8AA0-1D4E2414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599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F20D-9119-4A40-916C-81DA8B4F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5993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B67A-0A1B-47F8-ABA9-2B003D3D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599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69360" y="12949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413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BF57-F249-45E0-B01C-DA6C5B79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599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6C5F-DCD6-45C3-9CCC-7BECB6B5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599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69360" y="12949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69360" y="40413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B830-8F07-4EB6-9718-8F33B410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599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69360" y="12949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413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34F2-43DD-4499-BABB-259E45A3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599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413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7418-4DF5-498C-9925-FF0DC026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599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9360" y="12949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413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69360" y="40413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4FC6-316C-463F-B2C6-914F530C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599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8520" y="12949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79840" y="12949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413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8520" y="40413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79840" y="40413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973D-972D-4510-9C0F-32EE568F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599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699F-A873-4DD8-B5A4-6FCE6FD9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599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9360" y="12949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B5BA-EAD7-429F-9D2B-69E8BA00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599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24C-567D-4832-AD24-282EC5B2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5993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BD50-5063-43EE-A6E6-152EA777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599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9360" y="12949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413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AF99-F538-4D75-9A68-C4E2361E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599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9360" y="12949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9360" y="40413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04BF-14B1-47AD-A62D-CE13E42D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599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9360" y="12949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413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20C1-8C47-437F-AB2E-808322B7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599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D09D-BBF6-4620-B63B-9182E6590527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599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0755-6EB7-4A66-9956-51A2F9749CCF}" type="slidenum">
              <a:rPr b="0" lang="zh-CN" sz="1400" spc="-1" strike="noStrike">
                <a:solidFill>
                  <a:srgbClr val="080808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9525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560" y="58860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6291000" y="638172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599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71654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71654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71654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09:49:34Z</dcterms:created>
  <dc:creator/>
  <dc:description/>
  <dc:language>en-US</dc:language>
  <cp:lastModifiedBy>秋叶</cp:lastModifiedBy>
  <dcterms:modified xsi:type="dcterms:W3CDTF">2015-01-10T12:16:02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011408362052</vt:lpwstr>
  </property>
</Properties>
</file>