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A1A-3C9B-47D7-87C7-5BF42014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013-8BCE-4132-B730-30BDC170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4EA8-6220-4FF5-957F-011FA85E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725-782B-44C6-ACA1-09D721D2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FA47-4B10-4305-90BD-7FD488FB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5B10-0FE1-4101-A227-73B7AF77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2F87-6C27-4FDB-8E3A-7117A162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C511-EA9B-4D82-8315-000F9297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9BD5-A944-43EC-A8BC-CFFB4555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61720"/>
            <a:ext cx="82296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F0B4-8744-4A59-AB45-CDF4CC7B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F1BE-EADD-46F1-944E-7BE545A7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8439-F8A6-4D9D-BA20-D3B04A71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FAC5-6EF1-44F3-9177-F98864E2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D3CB-32C3-4BCC-A43C-363BD158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2C9C-8817-40DE-A8A5-3CD27A51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616F-7CA2-4419-84B0-BEC14947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FD75-43A4-490A-AEEC-B615B2E9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99CF-6880-45AA-89B9-D12B9502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832-2E39-43B5-AE46-37AF9FC3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362-4B66-4A5B-8502-DC7E7E1B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61720"/>
            <a:ext cx="82296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9F95-F604-42C5-B477-22E1C48A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8A2-DA24-40D7-A86A-17F2F6A0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1500-F884-4244-B38B-31E1981D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BEA-D2BE-4732-906D-E4F36F8C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480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DF51-EC05-4B02-85F4-D0FAB8DD2F48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480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59720" y="645480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3C2E-0882-4D93-A294-93D212306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8316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EDCC-3060-400F-ADE3-94715C6DF3BE}" type="datetime">
              <a:rPr b="0" lang="zh-TW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8316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59720" y="638316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1405-FC4F-41A4-998D-F9D0FEB74113}" type="slidenum"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63640" y="2205000"/>
            <a:ext cx="6337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Microsoft JhengHei"/>
              </a:rPr>
              <a:t>水墨中国风</a:t>
            </a:r>
            <a:r>
              <a:rPr b="0" lang="zh-CN" sz="4400" spc="-1" strike="noStrike">
                <a:solidFill>
                  <a:srgbClr val="000000"/>
                </a:solidFill>
                <a:latin typeface="Microsoft JhengHei"/>
              </a:rPr>
              <a:t>PPT</a:t>
            </a:r>
            <a:r>
              <a:rPr b="0" lang="zh-TW" sz="4400" spc="-1" strike="noStrike">
                <a:solidFill>
                  <a:srgbClr val="000000"/>
                </a:solidFill>
                <a:latin typeface="Microsoft JhengHei"/>
              </a:rPr>
              <a:t>模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7040" y="5230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日期占位符 3"/>
          <p:cNvSpPr/>
          <p:nvPr/>
        </p:nvSpPr>
        <p:spPr>
          <a:xfrm>
            <a:off x="457200" y="645480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86DD-68ED-45AE-8793-C6D6C221914E}" type="datetime">
              <a:rPr b="0" lang="zh-TW" sz="1400" spc="-1" strike="noStrike">
                <a:solidFill>
                  <a:srgbClr val="ffffff"/>
                </a:solidFill>
                <a:latin typeface="Arial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5"/>
          <p:cNvSpPr/>
          <p:nvPr/>
        </p:nvSpPr>
        <p:spPr>
          <a:xfrm>
            <a:off x="6759720" y="6454800"/>
            <a:ext cx="2133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05B8-E228-4FD5-A839-7481C664FA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首页主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加粗；副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加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内页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6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加粗；内页内容文字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宋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34600" y="62388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3300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9440"/>
            <a:chOff x="0" y="0"/>
            <a:chExt cx="8466120" cy="685944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8466120" cy="51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300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33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33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33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9:57:00Z</dcterms:created>
  <dc:creator>Rhea</dc:creator>
  <dc:description>www.nordridesign.cn</dc:description>
  <cp:keywords>Powerbar Nordri</cp:keywords>
  <dc:language>en-US</dc:language>
  <cp:lastModifiedBy>jccook</cp:lastModifiedBy>
  <dcterms:modified xsi:type="dcterms:W3CDTF">2015-01-10T12:10:58Z</dcterms:modified>
  <cp:revision>29</cp:revision>
  <dc:subject/>
  <dc:title>水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